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19A5-0120-4E8B-98BC-9B1D78A6B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5501-8F56-458D-B89C-A4D45C0B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6ECF-F8FE-4AC7-88C5-512E71B1F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AEDE-AF4E-49D5-BF63-CEBF4314B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3D67-2898-471E-B7AA-18A25613C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355F-F5E7-4F67-B9BF-917B1BEC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1462-3606-46AF-BA40-8FAF7CDB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0931-3806-4214-87CF-DC32A5FE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E667-568D-4A11-A600-865E8F17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43C1-7818-43A1-8484-F74A4D07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43D8-B71A-440F-8B7D-CB3A20AF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3D39-3B50-4D13-AB68-72517E51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3BFC-008B-445D-AFD9-554BF0CA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8E47-F633-40DE-84AF-097F3BBE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0191-9BB9-4AFE-A82A-364D1896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BA9A-4668-44CA-96FD-860A25621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8BF64-1C53-4F75-B79F-4B706AC62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14CF-F80E-4748-9393-E69FD258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E39A-A57B-4659-8039-F76EB52B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A46B-0171-4E5F-BBBB-E245462D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A99D-2A97-407D-AD82-625DA8C1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05AA-7841-4615-8C04-36E0E26A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7F84-B485-4E6C-8C3B-EDA54D33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B177-5BF1-4B30-8EF3-4C93FCAB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66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66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2C65-F4EA-46BA-B02A-15DDD270F031}" type="slidenum">
              <a:rPr b="0" lang="pt-BR" sz="1400" spc="-1" strike="noStrike">
                <a:solidFill>
                  <a:srgbClr val="00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006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6600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286680" y="0"/>
            <a:ext cx="2857320" cy="33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43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ffcc99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45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98C9-6956-4B60-A2A0-D0AAC521029C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0920" y="2781360"/>
            <a:ext cx="864216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II Oficina de Gestão Arquivística de Documentos Digitais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Brasília, 23 de outubro de 2007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Selma Braga Duboc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ordenadora de Arquivo e Gestão de Documentos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ordenação-Geral de Documentação e Informação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Ministério da Saúde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92000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611280" y="228600"/>
            <a:ext cx="74851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I Fórum de Informação em Saúde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611280" y="1628640"/>
            <a:ext cx="793908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bjetivo:</a:t>
            </a:r>
            <a:endParaRPr b="0" lang="en-US" sz="2200" spc="-1" strike="noStrike">
              <a:solidFill>
                <a:srgbClr val="0066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2200" spc="-1" strike="noStrike">
              <a:solidFill>
                <a:srgbClr val="0066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r continuidade à construção de uma Política Nacional de Informação em Saúde de forma integrada com as áreas do Ministério e entidades parceiras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685800" y="4572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Sustentabilidade das Ações da Área de Documentação e Informação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838080" y="1371600"/>
            <a:ext cx="8305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611280" y="1628640"/>
            <a:ext cx="793908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just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Plano Plurianual (PPA): </a:t>
            </a:r>
            <a:endParaRPr b="0" lang="en-US" sz="2200" spc="-1" strike="noStrike">
              <a:solidFill>
                <a:srgbClr val="0066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2006/07: Aperfeiçoamento da gestão dos acervos informacionais do SUS</a:t>
            </a:r>
            <a:endParaRPr b="0" lang="en-US" sz="2200" spc="-1" strike="noStrike">
              <a:solidFill>
                <a:srgbClr val="0066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2200" spc="-1" strike="noStrike">
              <a:solidFill>
                <a:srgbClr val="0066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2008: Preservação, organização e acesso eqüitativo ao conhecimento em saúde.</a:t>
            </a:r>
            <a:endParaRPr b="0" lang="en-US" sz="2200" spc="-1" strike="noStrike">
              <a:solidFill>
                <a:srgbClr val="0066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66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2200" spc="-1" strike="noStrike">
              <a:solidFill>
                <a:srgbClr val="0066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Projeto BRA 04/047 – Política Nacional de Informação e Informática em Saúde</a:t>
            </a:r>
            <a:endParaRPr b="0" lang="en-US" sz="2200" spc="-1" strike="noStrike">
              <a:solidFill>
                <a:srgbClr val="0066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22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685800" y="4572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tribuições da CGDI ao Plano de Aceleração do Crescimento – PAC da Saúde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611280" y="1628640"/>
            <a:ext cx="793908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arência da informação pública e maior capacidade de comunicação com a sociedade;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or acesso público e gratuito à informação em Saúde e conhecimento da população sobre os seus direitos e os determinantes em saúde;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operação e intercâmbio técnico, científico e normativo efetivado junto às instituições públicas e privadas, em fomento à produção, ao aceso e à divulgação científica;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hecimento em saúde preservado, disseminado e utilizado para tomada de decisão de gestores, profissionais, usuários e controle social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533520" y="380880"/>
            <a:ext cx="847728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retrizes da XII Conferência Nacional de Saúd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395280" y="1413000"/>
            <a:ext cx="8513640" cy="53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xpansão do modelo de BVS para o acesso eqüitativo e eficiente à          informação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stematização de fontes de informação para tomada de decisão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oio à pesquisa, intercâmbio, divulgação e difusão do conhecimento em saúde;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álogo entre comunidade científica, sociedade e movimentos sociais para a democratização, compreensão crítica e participação pública;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oção de uma política editorial;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lização de pesquisas com os movimentos sociais e sobre práticas de educação popular em saúde;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ervação e mapeamento do patrimônio informacional e cultural da saúde;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olíticas articuladas de informação, comunicação e educação permanente.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533520" y="380880"/>
            <a:ext cx="847728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ições à XIII Conferência Nacional de Saúd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95280" y="1413000"/>
            <a:ext cx="851364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ixo I: Desafios para a efetivação do Direito Humano à Saúde no Século XXI: Estado, Sociedade e Padrões de Desenvolvimento;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ixo II: Políticas Públicas para a Saúde e Qualidade de Vida:o SUS na Seguridade Social e o Pacto pela Saúde;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ixo III: A Participação da Sociedade na Efetivação do Direito Humano à Saúde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1T14:29:03Z</dcterms:created>
  <dc:creator>rejane</dc:creator>
  <dc:description/>
  <dc:language>en-US</dc:language>
  <cp:lastModifiedBy>DATASUS</cp:lastModifiedBy>
  <dcterms:modified xsi:type="dcterms:W3CDTF">2007-10-22T13:30:15Z</dcterms:modified>
  <cp:revision>189</cp:revision>
  <dc:subject/>
  <dc:title>Organização do Acervo Documental do Ministério da Saúde</dc:title>
</cp:coreProperties>
</file>