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976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2680"/>
            <a:ext cx="77151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1280" y="3684240"/>
            <a:ext cx="771516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2680"/>
            <a:ext cx="77151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1280" y="3684240"/>
            <a:ext cx="376488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24800" y="3684240"/>
            <a:ext cx="376488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280" y="202680"/>
            <a:ext cx="77151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71280" y="3684240"/>
            <a:ext cx="24840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79840" y="3684240"/>
            <a:ext cx="24840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8400" y="3684240"/>
            <a:ext cx="24840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02680"/>
            <a:ext cx="77151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280" y="202680"/>
            <a:ext cx="77151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202680"/>
            <a:ext cx="77151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202680"/>
            <a:ext cx="77151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71280" y="202680"/>
            <a:ext cx="7715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280" y="202680"/>
            <a:ext cx="77151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71280" y="3684240"/>
            <a:ext cx="376488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02680"/>
            <a:ext cx="77151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24800" y="3684240"/>
            <a:ext cx="376488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2680"/>
            <a:ext cx="77151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1280" y="3684240"/>
            <a:ext cx="771516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fundo eportugues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1280" y="202680"/>
            <a:ext cx="77151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cgdi@saude.gov.br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ítica Nacional de Informação em Saú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II Fórum de Informação em Saú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sília, DF, 22 a 25 de outubro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ério da Saúde do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rcia H. G. Rollem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1516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ítica de Informação em Saú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715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VS Brasil e Rede Bibli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volvimento do Modelo BVS no âmbito do SU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 Bibliográfico, pesquisa e intercâmb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endimento ao público e disseminação seleti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mocratização e diversidade de acess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uação em redes institucionais e colaborativ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trimônio Cultural d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stras culturais locais, virtuais e itinera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squisas e cooperação técnico-financei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bilização dos diversos atores e dos movimentos soci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orização do patrimônio cientifico, histórico, e cultural da saú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202680"/>
            <a:ext cx="77151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trimônio Cultural d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c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dad de Patrimônio Cultural de la Salu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seo Nacional de Medicina Henrique Laval/ 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sa de Oswaldo Cruz/Fiocr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o Latino-Americano de Informação em Ciências da Saúde/Bireme/Opas/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stituto Nacional do Câncer/IN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ola de Enfermagem Anna Nery/UFR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morial Juliano Moreira/SES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202680"/>
            <a:ext cx="77151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ce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useu de Imagens do Inconsc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ituto de Comunicação e Informação Científica e Tecnológica em Saúde/ICICT/Fiocru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cademia Nacional de Saú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cola Oficina de Salv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ordenação Nacional do Escudo Az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quivo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ituto de Saúde/ SES 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ituto Brasileiro de Informação em Ciência e Tecnologia/IB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ituto do Patrimônio Histórico e Artístico Nacional –IP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niversidade Federal da Bah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niversidade Federal do Rio de Jan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niversidade Federal de Minas Ger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niversidade Federal do Espírito Sa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61760" y="914400"/>
            <a:ext cx="771516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ito obrig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inistério da Saúde do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cretaria Execu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ordenação-Geral de Documentação e Informação - CGDI/S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di@saude.gov.b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42" name="Oval 12"/>
          <p:cNvSpPr/>
          <p:nvPr/>
        </p:nvSpPr>
        <p:spPr>
          <a:xfrm>
            <a:off x="1619280" y="752400"/>
            <a:ext cx="5616720" cy="5327640"/>
          </a:xfrm>
          <a:prstGeom prst="ellipse">
            <a:avLst/>
          </a:prstGeom>
          <a:solidFill>
            <a:srgbClr val="85c5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2268360" y="2286000"/>
            <a:ext cx="4537080" cy="19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Único de Saúde </a:t>
            </a:r>
            <a:endParaRPr b="0" lang="en-US" sz="2800" spc="-1" strike="noStrike">
              <a:solidFill>
                <a:srgbClr val="fefcfc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 acesso à informação é fundamental para efetivar o direito à saúde e a cidadani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200160" y="158256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rticipaçã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3243240" y="2491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iversalidade</a:t>
            </a:r>
            <a:endParaRPr b="0" lang="en-US" sz="2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101520" y="51418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a64e"/>
                </a:solidFill>
                <a:latin typeface="Arial"/>
              </a:rPr>
              <a:t>Regionalização</a:t>
            </a:r>
            <a:endParaRPr b="0" lang="en-US" sz="2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6500880" y="5135400"/>
            <a:ext cx="21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5ff"/>
                </a:solidFill>
                <a:latin typeface="Arial"/>
              </a:rPr>
              <a:t>Integralidade</a:t>
            </a:r>
            <a:endParaRPr b="0" lang="en-US" sz="2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3043080" y="6081840"/>
            <a:ext cx="29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612d"/>
                </a:solidFill>
                <a:latin typeface="Arial"/>
              </a:rPr>
              <a:t>Descentralização</a:t>
            </a:r>
            <a:endParaRPr b="0" lang="en-US" sz="2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49" name="Text Box 19"/>
          <p:cNvSpPr/>
          <p:nvPr/>
        </p:nvSpPr>
        <p:spPr>
          <a:xfrm>
            <a:off x="6948360" y="1579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03ff"/>
                </a:solidFill>
                <a:latin typeface="Arial"/>
              </a:rPr>
              <a:t>Eqüidade</a:t>
            </a:r>
            <a:endParaRPr b="0" lang="en-US" sz="2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50" name="AutoShape 20"/>
          <p:cNvSpPr/>
          <p:nvPr/>
        </p:nvSpPr>
        <p:spPr>
          <a:xfrm>
            <a:off x="2843280" y="4365720"/>
            <a:ext cx="3600360" cy="1150920"/>
          </a:xfrm>
          <a:custGeom>
            <a:avLst/>
            <a:gdLst>
              <a:gd name="textAreaLeft" fmla="*/ 630000 w 3600360"/>
              <a:gd name="textAreaRight" fmla="*/ 2610360 w 3600360"/>
              <a:gd name="textAreaTop" fmla="*/ 154080 h 1150920"/>
              <a:gd name="textAreaBottom" fmla="*/ 9968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51" name="AutoShape 21"/>
          <p:cNvSpPr/>
          <p:nvPr/>
        </p:nvSpPr>
        <p:spPr>
          <a:xfrm>
            <a:off x="2700360" y="1197000"/>
            <a:ext cx="3529080" cy="1079640"/>
          </a:xfrm>
          <a:custGeom>
            <a:avLst/>
            <a:gdLst>
              <a:gd name="textAreaLeft" fmla="*/ 617400 w 3529080"/>
              <a:gd name="textAreaRight" fmla="*/ 2558520 w 352908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1552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iversalidad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ção 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sso universal à  informação em saú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cessário para a tomada de decisão dos gestores, dos profissionais , dos conselheiros, dos usuários e dos cidadãos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qüidad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ndimento às diferentes necessidades e finalidades de acesso à inform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 saúde, em consonância com as políticas públicas, e as diversidades sócio-culturais, geográficas, sanitárias, epidemiológicas e demográficas da população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egralida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omisso em garantir o acesso efetivo e qualitativo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ção em saúde,  que atenda o complexo conjunto de temas, fontes e públic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pautam o trabalho nesse camp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1552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onamento do 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53341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S: construção cole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ferências municipais, estaduais e nacionais de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143000" y="1295280"/>
            <a:ext cx="80010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fcf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elho Nacional de Saúde - CNS</a:t>
            </a:r>
            <a:endParaRPr b="0" lang="en-US" sz="2000" spc="-1" strike="noStrike">
              <a:solidFill>
                <a:srgbClr val="fefcf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elho Nacional de Secretários Estaduais de Saúde - Conass</a:t>
            </a:r>
            <a:endParaRPr b="0" lang="en-US" sz="2000" spc="-1" strike="noStrike">
              <a:solidFill>
                <a:srgbClr val="fefcf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elho Nacional de Secretários Municipais de Saúde - Conasems</a:t>
            </a:r>
            <a:endParaRPr b="0" lang="en-US" sz="2000" spc="-1" strike="noStrike">
              <a:solidFill>
                <a:srgbClr val="fefcf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7 Conselhos Estaduais de Saúde - CES</a:t>
            </a:r>
            <a:endParaRPr b="0" lang="en-US" sz="2000" spc="-1" strike="noStrike">
              <a:solidFill>
                <a:srgbClr val="fefcf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500 Conselhos Municipais de Saúde  - 55 mil conselheiros - CMS</a:t>
            </a:r>
            <a:endParaRPr b="0" lang="en-US" sz="2000" spc="-1" strike="noStrike">
              <a:solidFill>
                <a:srgbClr val="fefcf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issão Intergestora Tripartite - CIT</a:t>
            </a:r>
            <a:endParaRPr b="0" lang="en-US" sz="2000" spc="-1" strike="noStrike">
              <a:solidFill>
                <a:srgbClr val="fefcf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6 Comissões Intergestoras Bipartites - CIB</a:t>
            </a:r>
            <a:endParaRPr b="0" lang="en-US" sz="2000" spc="-1" strike="noStrike">
              <a:solidFill>
                <a:srgbClr val="fefcf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202680"/>
            <a:ext cx="771516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ção em saú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m público - patrimônio cultural, científico e social da socie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ixo transversal das políticas, programas e estratégias da Gestão da Saúde no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rcos referenciai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.ª  Conferência Nacional de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o Plurianual de Gover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o Nacional de Saúde e o Pacto de 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lítica Editorial do Ministério da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lítica Nacional de Informação em Saúde (em constru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tas da gestão do Ministério da Saúde (2007 –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640" y="202680"/>
            <a:ext cx="84772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cipais recomendações da XII C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1371600"/>
            <a:ext cx="815328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ansão do modelo de BVS para o acesso eqüitativo e eficiente à          informação</a:t>
            </a: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tização de fontes de informação para tomada de decisão</a:t>
            </a: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io à pesquisa, intercâmbio, divulgação e difusão do conhecimento em saúde;</a:t>
            </a: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álogo entre comunidade científica, sociedade e movimentos sociais para a democratização, compreensão crítica e participação pública;</a:t>
            </a: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ção de uma política editorial;</a:t>
            </a: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zação de pesquisas com os movimentos sociais e sobre práticas de educação popular em saúde;</a:t>
            </a: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ação e mapeamento do patrimônio informacional e cultural da saúde;</a:t>
            </a: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s articuladas de informação, comunicação e educação permanente.</a:t>
            </a: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4"/>
          <p:cNvSpPr/>
          <p:nvPr/>
        </p:nvSpPr>
        <p:spPr>
          <a:xfrm>
            <a:off x="3367800" y="3303000"/>
            <a:ext cx="27640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Política de Informação</a:t>
            </a: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61" name="Oval 48"/>
          <p:cNvSpPr/>
          <p:nvPr/>
        </p:nvSpPr>
        <p:spPr>
          <a:xfrm>
            <a:off x="6281640" y="5084640"/>
            <a:ext cx="2286000" cy="914400"/>
          </a:xfrm>
          <a:prstGeom prst="ellipse">
            <a:avLst/>
          </a:prstGeom>
          <a:solidFill>
            <a:srgbClr val="8d99bf"/>
          </a:solidFill>
          <a:ln cap="rnd"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62" name="Oval 47"/>
          <p:cNvSpPr/>
          <p:nvPr/>
        </p:nvSpPr>
        <p:spPr>
          <a:xfrm>
            <a:off x="3473280" y="5229360"/>
            <a:ext cx="2286000" cy="914400"/>
          </a:xfrm>
          <a:prstGeom prst="ellipse">
            <a:avLst/>
          </a:prstGeom>
          <a:solidFill>
            <a:srgbClr val="8d99bf"/>
          </a:solidFill>
          <a:ln cap="rnd"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042920" y="1015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stão do Conhecimento Institucional</a:t>
            </a:r>
            <a:endParaRPr b="0" lang="en-US" sz="28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6870600" y="785880"/>
            <a:ext cx="1981440" cy="28191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563920" y="3757680"/>
            <a:ext cx="6324480" cy="761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53880" y="1700280"/>
            <a:ext cx="2057400" cy="28191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17520" y="785880"/>
            <a:ext cx="609588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1080" y="4957920"/>
            <a:ext cx="2286000" cy="914400"/>
          </a:xfrm>
          <a:prstGeom prst="ellipse">
            <a:avLst/>
          </a:prstGeom>
          <a:solidFill>
            <a:srgbClr val="8d99bf"/>
          </a:solidFill>
          <a:ln cap="rnd"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06520" y="938160"/>
            <a:ext cx="1752480" cy="322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dentificação</a:t>
            </a:r>
            <a:endParaRPr b="0" lang="en-US" sz="15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30200" y="3833640"/>
            <a:ext cx="1905120" cy="550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ivulgação</a:t>
            </a:r>
            <a:endParaRPr b="0" lang="en-US" sz="1500" spc="-1" strike="noStrike">
              <a:solidFill>
                <a:srgbClr val="fefcf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isseminação</a:t>
            </a:r>
            <a:endParaRPr b="0" lang="en-US" sz="15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944800" y="938160"/>
            <a:ext cx="1219320" cy="322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leta</a:t>
            </a:r>
            <a:endParaRPr b="0" lang="en-US" sz="15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6983280" y="2995560"/>
            <a:ext cx="1752840" cy="322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gurança</a:t>
            </a:r>
            <a:endParaRPr b="0" lang="en-US" sz="15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4925880" y="938160"/>
            <a:ext cx="1371600" cy="322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leção</a:t>
            </a:r>
            <a:endParaRPr b="0" lang="en-US" sz="15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6983280" y="938160"/>
            <a:ext cx="1752840" cy="322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cessamento</a:t>
            </a:r>
            <a:endParaRPr b="0" lang="en-US" sz="15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6983280" y="1852560"/>
            <a:ext cx="1752840" cy="550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rquivamento e</a:t>
            </a:r>
            <a:endParaRPr b="0" lang="en-US" sz="1500" spc="-1" strike="noStrike">
              <a:solidFill>
                <a:srgbClr val="fefcf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eservação</a:t>
            </a:r>
            <a:endParaRPr b="0" lang="en-US" sz="15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430200" y="2843280"/>
            <a:ext cx="1905120" cy="550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cesso</a:t>
            </a:r>
            <a:endParaRPr b="0" lang="en-US" sz="1500" spc="-1" strike="noStrike">
              <a:solidFill>
                <a:srgbClr val="fefcf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tilização</a:t>
            </a:r>
            <a:endParaRPr b="0" lang="en-US" sz="15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783240" y="536400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2082"/>
                </a:solidFill>
                <a:latin typeface="Verdana"/>
              </a:rPr>
              <a:t>Comunicação</a:t>
            </a: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2082"/>
                </a:solidFill>
                <a:latin typeface="Verdana"/>
              </a:rPr>
              <a:t>Educação</a:t>
            </a: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6207120" y="51912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2082"/>
                </a:solidFill>
                <a:latin typeface="Verdana"/>
              </a:rPr>
              <a:t>Documentação</a:t>
            </a: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2082"/>
                </a:solidFill>
                <a:latin typeface="Verdana"/>
              </a:rPr>
              <a:t>Difusão Cultural</a:t>
            </a: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</p:txBody>
      </p:sp>
      <p:cxnSp>
        <p:nvCxnSpPr>
          <p:cNvPr id="79" name="AutoShape 22"/>
          <p:cNvCxnSpPr>
            <a:stCxn id="69" idx="3"/>
            <a:endCxn id="71" idx="1"/>
          </p:cNvCxnSpPr>
          <p:nvPr/>
        </p:nvCxnSpPr>
        <p:spPr>
          <a:xfrm>
            <a:off x="2258640" y="1104480"/>
            <a:ext cx="686520" cy="108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23"/>
          <p:cNvCxnSpPr>
            <a:stCxn id="71" idx="3"/>
            <a:endCxn id="73" idx="1"/>
          </p:cNvCxnSpPr>
          <p:nvPr/>
        </p:nvCxnSpPr>
        <p:spPr>
          <a:xfrm>
            <a:off x="4164120" y="1104480"/>
            <a:ext cx="762480" cy="108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24"/>
          <p:cNvCxnSpPr>
            <a:stCxn id="73" idx="3"/>
            <a:endCxn id="74" idx="1"/>
          </p:cNvCxnSpPr>
          <p:nvPr/>
        </p:nvCxnSpPr>
        <p:spPr>
          <a:xfrm>
            <a:off x="6297120" y="1104480"/>
            <a:ext cx="686520" cy="108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25"/>
          <p:cNvCxnSpPr>
            <a:stCxn id="74" idx="2"/>
            <a:endCxn id="75" idx="0"/>
          </p:cNvCxnSpPr>
          <p:nvPr/>
        </p:nvCxnSpPr>
        <p:spPr>
          <a:xfrm flipH="1">
            <a:off x="7859160" y="1271520"/>
            <a:ext cx="1080" cy="58140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26"/>
          <p:cNvCxnSpPr>
            <a:stCxn id="75" idx="2"/>
            <a:endCxn id="72" idx="0"/>
          </p:cNvCxnSpPr>
          <p:nvPr/>
        </p:nvCxnSpPr>
        <p:spPr>
          <a:xfrm flipH="1">
            <a:off x="7859160" y="2414520"/>
            <a:ext cx="1080" cy="58140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AutoShape 27"/>
          <p:cNvSpPr/>
          <p:nvPr/>
        </p:nvSpPr>
        <p:spPr>
          <a:xfrm flipH="1" flipV="1">
            <a:off x="8354880" y="4556880"/>
            <a:ext cx="609840" cy="685800"/>
          </a:xfrm>
          <a:custGeom>
            <a:avLst/>
            <a:gdLst>
              <a:gd name="textAreaLeft" fmla="*/ 81720 w 609840"/>
              <a:gd name="textAreaRight" fmla="*/ 528120 w 609840"/>
              <a:gd name="textAreaTop" fmla="*/ 119520 h 685800"/>
              <a:gd name="textAreaBottom" fmla="*/ 49680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3b9ff"/>
          </a:solidFill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85" name="AutoShape 28"/>
          <p:cNvSpPr/>
          <p:nvPr/>
        </p:nvSpPr>
        <p:spPr>
          <a:xfrm flipV="1">
            <a:off x="353880" y="4557600"/>
            <a:ext cx="609840" cy="609840"/>
          </a:xfrm>
          <a:custGeom>
            <a:avLst/>
            <a:gdLst>
              <a:gd name="textAreaLeft" fmla="*/ 81720 w 609840"/>
              <a:gd name="textAreaRight" fmla="*/ 528120 w 60984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3b9ff"/>
          </a:solidFill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86" name="AutoShape 29"/>
          <p:cNvSpPr/>
          <p:nvPr/>
        </p:nvSpPr>
        <p:spPr>
          <a:xfrm>
            <a:off x="4392720" y="471024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a3b9ff"/>
          </a:solidFill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  <p:cxnSp>
        <p:nvCxnSpPr>
          <p:cNvPr id="87" name="AutoShape 30"/>
          <p:cNvCxnSpPr>
            <a:stCxn id="68" idx="6"/>
          </p:cNvCxnSpPr>
          <p:nvPr/>
        </p:nvCxnSpPr>
        <p:spPr>
          <a:xfrm>
            <a:off x="3097080" y="5414760"/>
            <a:ext cx="457920" cy="24804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cap="rnd" w="28440">
            <a:solidFill>
              <a:srgbClr val="000000"/>
            </a:solidFill>
            <a:miter/>
          </a:ln>
        </p:spPr>
      </p:cxnSp>
      <p:cxnSp>
        <p:nvCxnSpPr>
          <p:cNvPr id="88" name="AutoShape 31"/>
          <p:cNvCxnSpPr/>
          <p:nvPr/>
        </p:nvCxnSpPr>
        <p:spPr>
          <a:xfrm flipV="1">
            <a:off x="5688000" y="5547600"/>
            <a:ext cx="457920" cy="11484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cap="rnd" w="28440">
            <a:solidFill>
              <a:srgbClr val="000000"/>
            </a:solidFill>
            <a:miter/>
          </a:ln>
        </p:spPr>
      </p:cxnSp>
      <p:sp>
        <p:nvSpPr>
          <p:cNvPr id="89" name="Text Box 32"/>
          <p:cNvSpPr/>
          <p:nvPr/>
        </p:nvSpPr>
        <p:spPr>
          <a:xfrm>
            <a:off x="2716200" y="3833640"/>
            <a:ext cx="1676520" cy="550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esquisa e Intercâmbio</a:t>
            </a:r>
            <a:endParaRPr b="0" lang="en-US" sz="15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90" name="Text Box 33"/>
          <p:cNvSpPr/>
          <p:nvPr/>
        </p:nvSpPr>
        <p:spPr>
          <a:xfrm>
            <a:off x="6983280" y="3833640"/>
            <a:ext cx="1752840" cy="322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studo e análise</a:t>
            </a:r>
            <a:endParaRPr b="0" lang="en-US" sz="1500" spc="-1" strike="noStrike">
              <a:solidFill>
                <a:srgbClr val="fefcfc"/>
              </a:solidFill>
              <a:latin typeface="Arial"/>
            </a:endParaRPr>
          </a:p>
        </p:txBody>
      </p:sp>
      <p:cxnSp>
        <p:nvCxnSpPr>
          <p:cNvPr id="91" name="AutoShape 34"/>
          <p:cNvCxnSpPr>
            <a:stCxn id="72" idx="2"/>
            <a:endCxn id="90" idx="0"/>
          </p:cNvCxnSpPr>
          <p:nvPr/>
        </p:nvCxnSpPr>
        <p:spPr>
          <a:xfrm>
            <a:off x="7859520" y="3328920"/>
            <a:ext cx="1080" cy="505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35"/>
          <p:cNvCxnSpPr>
            <a:stCxn id="93" idx="1"/>
            <a:endCxn id="89" idx="3"/>
          </p:cNvCxnSpPr>
          <p:nvPr/>
        </p:nvCxnSpPr>
        <p:spPr>
          <a:xfrm flipH="1">
            <a:off x="4392360" y="4114440"/>
            <a:ext cx="457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Text Box 36"/>
          <p:cNvSpPr/>
          <p:nvPr/>
        </p:nvSpPr>
        <p:spPr>
          <a:xfrm>
            <a:off x="430200" y="1852560"/>
            <a:ext cx="1905120" cy="550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valiação e</a:t>
            </a:r>
            <a:endParaRPr b="0" lang="en-US" sz="1500" spc="-1" strike="noStrike">
              <a:solidFill>
                <a:srgbClr val="fefcf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1500" spc="-1" strike="noStrike">
              <a:solidFill>
                <a:srgbClr val="fefcfc"/>
              </a:solidFill>
              <a:latin typeface="Arial"/>
            </a:endParaRPr>
          </a:p>
        </p:txBody>
      </p:sp>
      <p:cxnSp>
        <p:nvCxnSpPr>
          <p:cNvPr id="95" name="AutoShape 37"/>
          <p:cNvCxnSpPr>
            <a:stCxn id="89" idx="1"/>
            <a:endCxn id="70" idx="3"/>
          </p:cNvCxnSpPr>
          <p:nvPr/>
        </p:nvCxnSpPr>
        <p:spPr>
          <a:xfrm flipH="1">
            <a:off x="2334960" y="4114440"/>
            <a:ext cx="3816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Text Box 38"/>
          <p:cNvSpPr/>
          <p:nvPr/>
        </p:nvSpPr>
        <p:spPr>
          <a:xfrm>
            <a:off x="4849920" y="3833640"/>
            <a:ext cx="1600200" cy="550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nguagem e conteúdo</a:t>
            </a:r>
            <a:endParaRPr b="0" lang="en-US" sz="1500" spc="-1" strike="noStrike">
              <a:solidFill>
                <a:srgbClr val="fefcfc"/>
              </a:solidFill>
              <a:latin typeface="Arial"/>
            </a:endParaRPr>
          </a:p>
        </p:txBody>
      </p:sp>
      <p:cxnSp>
        <p:nvCxnSpPr>
          <p:cNvPr id="96" name="AutoShape 39"/>
          <p:cNvCxnSpPr>
            <a:stCxn id="90" idx="1"/>
            <a:endCxn id="93" idx="3"/>
          </p:cNvCxnSpPr>
          <p:nvPr/>
        </p:nvCxnSpPr>
        <p:spPr>
          <a:xfrm flipH="1">
            <a:off x="6449400" y="4114440"/>
            <a:ext cx="533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Freeform 40"/>
          <p:cNvSpPr/>
          <p:nvPr/>
        </p:nvSpPr>
        <p:spPr>
          <a:xfrm>
            <a:off x="3706920" y="1700280"/>
            <a:ext cx="2076480" cy="1068480"/>
          </a:xfrm>
          <a:prstGeom prst="pie">
            <a:avLst/>
          </a:pr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98" name="Freeform 41"/>
          <p:cNvSpPr/>
          <p:nvPr/>
        </p:nvSpPr>
        <p:spPr>
          <a:xfrm>
            <a:off x="3630600" y="2386080"/>
            <a:ext cx="2000160" cy="966600"/>
          </a:xfrm>
          <a:prstGeom prst="pie">
            <a:avLst/>
          </a:pr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99" name="Text Box 42"/>
          <p:cNvSpPr/>
          <p:nvPr/>
        </p:nvSpPr>
        <p:spPr>
          <a:xfrm>
            <a:off x="1017720" y="61196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mônio Cultural da Saúde</a:t>
            </a:r>
            <a:endParaRPr b="0" lang="en-US" sz="2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100" name="Text Box 43"/>
          <p:cNvSpPr/>
          <p:nvPr/>
        </p:nvSpPr>
        <p:spPr>
          <a:xfrm>
            <a:off x="3505320" y="2133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SAÚDE</a:t>
            </a: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101" name="Text Box 46"/>
          <p:cNvSpPr/>
          <p:nvPr/>
        </p:nvSpPr>
        <p:spPr>
          <a:xfrm>
            <a:off x="777960" y="5057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2082"/>
                </a:solidFill>
                <a:latin typeface="Verdana"/>
              </a:rPr>
              <a:t>Tecnologia </a:t>
            </a: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2082"/>
                </a:solidFill>
                <a:latin typeface="Verdana"/>
              </a:rPr>
              <a:t>Informática</a:t>
            </a:r>
            <a:endParaRPr b="0" lang="en-US" sz="1800" spc="-1" strike="noStrike">
              <a:solidFill>
                <a:srgbClr val="fefcfc"/>
              </a:solidFill>
              <a:latin typeface="Arial"/>
            </a:endParaRPr>
          </a:p>
        </p:txBody>
      </p:sp>
      <p:cxnSp>
        <p:nvCxnSpPr>
          <p:cNvPr id="102" name="AutoShape 50"/>
          <p:cNvCxnSpPr>
            <a:stCxn id="70" idx="0"/>
            <a:endCxn id="76" idx="2"/>
          </p:cNvCxnSpPr>
          <p:nvPr/>
        </p:nvCxnSpPr>
        <p:spPr>
          <a:xfrm flipV="1">
            <a:off x="1382400" y="3404880"/>
            <a:ext cx="108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51"/>
          <p:cNvCxnSpPr/>
          <p:nvPr/>
        </p:nvCxnSpPr>
        <p:spPr>
          <a:xfrm flipV="1">
            <a:off x="1350720" y="2420640"/>
            <a:ext cx="108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52"/>
          <p:cNvCxnSpPr/>
          <p:nvPr/>
        </p:nvCxnSpPr>
        <p:spPr>
          <a:xfrm flipV="1">
            <a:off x="1315800" y="1252440"/>
            <a:ext cx="1080" cy="581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55"/>
          <p:cNvSpPr/>
          <p:nvPr/>
        </p:nvSpPr>
        <p:spPr>
          <a:xfrm flipV="1">
            <a:off x="2590920" y="2666880"/>
            <a:ext cx="609480" cy="609840"/>
          </a:xfrm>
          <a:custGeom>
            <a:avLst/>
            <a:gdLst>
              <a:gd name="textAreaLeft" fmla="*/ 81360 w 609480"/>
              <a:gd name="textAreaRight" fmla="*/ 528120 w 60948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3b9ff"/>
          </a:solidFill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  <p:sp>
        <p:nvSpPr>
          <p:cNvPr id="106" name="AutoShape 56"/>
          <p:cNvSpPr/>
          <p:nvPr/>
        </p:nvSpPr>
        <p:spPr>
          <a:xfrm flipH="1" flipV="1">
            <a:off x="6171480" y="2666160"/>
            <a:ext cx="609480" cy="685800"/>
          </a:xfrm>
          <a:custGeom>
            <a:avLst/>
            <a:gdLst>
              <a:gd name="textAreaLeft" fmla="*/ 81360 w 609480"/>
              <a:gd name="textAreaRight" fmla="*/ 528120 w 609480"/>
              <a:gd name="textAreaTop" fmla="*/ 119520 h 685800"/>
              <a:gd name="textAreaBottom" fmla="*/ 49680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3b9ff"/>
          </a:solidFill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cf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3"/>
          <p:cNvSpPr/>
          <p:nvPr/>
        </p:nvSpPr>
        <p:spPr>
          <a:xfrm>
            <a:off x="684360" y="152280"/>
            <a:ext cx="8459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apel Integrador na co-gestão do conhecimento e </a:t>
            </a:r>
            <a:endParaRPr b="0" lang="en-US" sz="2400" spc="-1" strike="noStrike">
              <a:solidFill>
                <a:srgbClr val="fefcf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a execução da Política de Informação Institucional</a:t>
            </a:r>
            <a:endParaRPr b="0" lang="en-US" sz="2400" spc="-1" strike="noStrike">
              <a:solidFill>
                <a:srgbClr val="fefcfc"/>
              </a:solidFill>
              <a:latin typeface="Arial"/>
            </a:endParaRPr>
          </a:p>
        </p:txBody>
      </p:sp>
      <p:grpSp>
        <p:nvGrpSpPr>
          <p:cNvPr id="108" name="Diagram 24"/>
          <p:cNvGrpSpPr/>
          <p:nvPr/>
        </p:nvGrpSpPr>
        <p:grpSpPr>
          <a:xfrm>
            <a:off x="1377000" y="1454040"/>
            <a:ext cx="6910560" cy="5211360"/>
            <a:chOff x="1377000" y="1454040"/>
            <a:chExt cx="6910560" cy="5211360"/>
          </a:xfrm>
        </p:grpSpPr>
        <p:sp>
          <p:nvSpPr>
            <p:cNvPr id="109" name="_s1028"/>
            <p:cNvSpPr/>
            <p:nvPr/>
          </p:nvSpPr>
          <p:spPr>
            <a:xfrm flipH="1" flipV="1">
              <a:off x="3606120" y="3137040"/>
              <a:ext cx="613080" cy="462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</p:txBody>
        </p:sp>
        <p:sp>
          <p:nvSpPr>
            <p:cNvPr id="110" name="_s1029"/>
            <p:cNvSpPr/>
            <p:nvPr/>
          </p:nvSpPr>
          <p:spPr>
            <a:xfrm>
              <a:off x="2135160" y="2027520"/>
              <a:ext cx="1728000" cy="130320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iços de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endimento 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o cidadão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</p:txBody>
        </p:sp>
        <p:sp>
          <p:nvSpPr>
            <p:cNvPr id="111" name="_s1030"/>
            <p:cNvSpPr/>
            <p:nvPr/>
          </p:nvSpPr>
          <p:spPr>
            <a:xfrm flipH="1">
              <a:off x="3100320" y="4059000"/>
              <a:ext cx="86760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</p:txBody>
        </p:sp>
        <p:sp>
          <p:nvSpPr>
            <p:cNvPr id="112" name="_s1031"/>
            <p:cNvSpPr/>
            <p:nvPr/>
          </p:nvSpPr>
          <p:spPr>
            <a:xfrm>
              <a:off x="1377000" y="3408120"/>
              <a:ext cx="1728000" cy="1303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ed e Política</a:t>
              </a:r>
              <a:endParaRPr b="0" lang="en-US" sz="16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ditorial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fefcfc"/>
                </a:solidFill>
                <a:latin typeface="Arial"/>
              </a:endParaRPr>
            </a:p>
          </p:txBody>
        </p:sp>
        <p:sp>
          <p:nvSpPr>
            <p:cNvPr id="113" name="_s1032"/>
            <p:cNvSpPr/>
            <p:nvPr/>
          </p:nvSpPr>
          <p:spPr>
            <a:xfrm flipH="1">
              <a:off x="3606120" y="4517640"/>
              <a:ext cx="613080" cy="462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</p:txBody>
        </p:sp>
        <p:sp>
          <p:nvSpPr>
            <p:cNvPr id="114" name="_s1033"/>
            <p:cNvSpPr/>
            <p:nvPr/>
          </p:nvSpPr>
          <p:spPr>
            <a:xfrm>
              <a:off x="2135160" y="4789080"/>
              <a:ext cx="1728000" cy="13032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úde Legis e</a:t>
              </a:r>
              <a:endParaRPr b="0" lang="en-US" sz="16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reitos dos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suários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4828680" y="4707720"/>
              <a:ext cx="0" cy="6544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3965760" y="5362200"/>
              <a:ext cx="1728000" cy="1303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stão da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ação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quivística e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bliográfica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</p:txBody>
        </p:sp>
        <p:sp>
          <p:nvSpPr>
            <p:cNvPr id="117" name="_s1036"/>
            <p:cNvSpPr/>
            <p:nvPr/>
          </p:nvSpPr>
          <p:spPr>
            <a:xfrm>
              <a:off x="5437080" y="4517640"/>
              <a:ext cx="613800" cy="462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</p:txBody>
        </p:sp>
        <p:sp>
          <p:nvSpPr>
            <p:cNvPr id="118" name="_s1037"/>
            <p:cNvSpPr/>
            <p:nvPr/>
          </p:nvSpPr>
          <p:spPr>
            <a:xfrm>
              <a:off x="5798880" y="4790880"/>
              <a:ext cx="1728000" cy="13032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servação 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 difusão 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 Patrimônio 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ltural 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 Saúde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</p:txBody>
        </p:sp>
        <p:sp>
          <p:nvSpPr>
            <p:cNvPr id="119" name="_s1038"/>
            <p:cNvSpPr/>
            <p:nvPr/>
          </p:nvSpPr>
          <p:spPr>
            <a:xfrm>
              <a:off x="5688360" y="4059000"/>
              <a:ext cx="86832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</p:txBody>
        </p:sp>
        <p:sp>
          <p:nvSpPr>
            <p:cNvPr id="120" name="_s1039"/>
            <p:cNvSpPr/>
            <p:nvPr/>
          </p:nvSpPr>
          <p:spPr>
            <a:xfrm>
              <a:off x="6559560" y="3408120"/>
              <a:ext cx="1728000" cy="130320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esso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à informação 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stitucional 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 científica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</p:txBody>
        </p:sp>
        <p:sp>
          <p:nvSpPr>
            <p:cNvPr id="121" name="_s1040"/>
            <p:cNvSpPr/>
            <p:nvPr/>
          </p:nvSpPr>
          <p:spPr>
            <a:xfrm flipV="1">
              <a:off x="5437080" y="3040920"/>
              <a:ext cx="723960" cy="5587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</p:txBody>
        </p:sp>
        <p:sp>
          <p:nvSpPr>
            <p:cNvPr id="122" name="_s1041"/>
            <p:cNvSpPr/>
            <p:nvPr/>
          </p:nvSpPr>
          <p:spPr>
            <a:xfrm>
              <a:off x="5873400" y="1975680"/>
              <a:ext cx="1872360" cy="1303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blioteca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Virtual</a:t>
              </a:r>
              <a:endParaRPr b="0" lang="en-US" sz="16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 Saúde e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de BiblioSUS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</p:txBody>
        </p:sp>
        <p:sp>
          <p:nvSpPr>
            <p:cNvPr id="123" name="_s1042"/>
            <p:cNvSpPr/>
            <p:nvPr/>
          </p:nvSpPr>
          <p:spPr>
            <a:xfrm flipV="1">
              <a:off x="4828680" y="2755080"/>
              <a:ext cx="0" cy="6548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</p:txBody>
        </p:sp>
        <p:sp>
          <p:nvSpPr>
            <p:cNvPr id="124" name="_s1043"/>
            <p:cNvSpPr/>
            <p:nvPr/>
          </p:nvSpPr>
          <p:spPr>
            <a:xfrm>
              <a:off x="3965760" y="1454040"/>
              <a:ext cx="1728000" cy="13032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esso via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et ao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PAR</a:t>
              </a:r>
              <a:endParaRPr b="0" lang="en-US" sz="1400" spc="-1" strike="noStrike">
                <a:solidFill>
                  <a:srgbClr val="fefcfc"/>
                </a:solidFill>
                <a:latin typeface="Arial"/>
              </a:endParaRPr>
            </a:p>
          </p:txBody>
        </p:sp>
        <p:sp>
          <p:nvSpPr>
            <p:cNvPr id="125" name="_s1044"/>
            <p:cNvSpPr/>
            <p:nvPr/>
          </p:nvSpPr>
          <p:spPr>
            <a:xfrm>
              <a:off x="3965760" y="3287520"/>
              <a:ext cx="2051640" cy="142632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ormação, </a:t>
              </a:r>
              <a:endParaRPr b="0" lang="en-US" sz="18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ducação e</a:t>
              </a:r>
              <a:endParaRPr b="0" lang="en-US" sz="18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unicação</a:t>
              </a:r>
              <a:endParaRPr b="0" lang="en-US" sz="1800" spc="-1" strike="noStrike">
                <a:solidFill>
                  <a:srgbClr val="fefcf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fcf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ítica de Informação em Saú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Editorial do Ministério da Saúde e Vincul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ejamento Editorial Integr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ção, revisão de conteúdos e normalizaçã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-Gestão da produção e adequação de produ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Zelo pelos direitos autorais e acesso ao patrimônio públ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irculação dos produtos e avali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stão Arquivíst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servação e gerenciamento das fontes primári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ilidade de recuperação para a tomada de decis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tenticidade, segurança e grau de ostensiv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parência das ações de gover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todologias e tecnologias nos arquivos cor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2:56:15Z</dcterms:created>
  <dc:creator>MS</dc:creator>
  <dc:description/>
  <dc:language>en-US</dc:language>
  <cp:lastModifiedBy>DATASUS</cp:lastModifiedBy>
  <dcterms:modified xsi:type="dcterms:W3CDTF">2007-11-13T17:15:56Z</dcterms:modified>
  <cp:revision>73</cp:revision>
  <dc:subject/>
  <dc:title>Slide 1</dc:title>
</cp:coreProperties>
</file>