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.jpeg" ContentType="image/jpe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90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0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90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90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90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900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3280" y="274680"/>
            <a:ext cx="7283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90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900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900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www.saude.gov.br/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4680" y="285840"/>
            <a:ext cx="9134640" cy="68007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952560" y="1806480"/>
            <a:ext cx="723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INISTÉRIO DA SAÚ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stação Biblioteca Virtual em Saú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4343400"/>
            <a:ext cx="789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 Black"/>
              </a:rPr>
              <a:t>www.saude.gov.br/estacaob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1973160"/>
          <a:ext cx="8147160" cy="42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73160"/>
                    <a:ext cx="814716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0"/>
          <a:ext cx="9109080" cy="6959520"/>
        </p:xfrm>
        <a:graphic>
          <a:graphicData uri="http://schemas.openxmlformats.org/drawingml/2006/table">
            <a:tbl>
              <a:tblPr/>
              <a:tblGrid>
                <a:gridCol w="1403280"/>
                <a:gridCol w="792360"/>
                <a:gridCol w="793800"/>
                <a:gridCol w="6119640"/>
              </a:tblGrid>
              <a:tr h="578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bliote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Tem algum projeto de ampliação dos serviços oferecidos pela Estação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entário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to para financiamento do Pólo de Educação Permanente em Saúde de Alagoas. Projeto aprovado para implantação  de cinco pontos de acesso da BVS em Instituições e Unidades de Atenção à Saúde  no Âmbito do SU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os um projeto de reestruturação desta biblioteca com objetivo de torná-la referência em Saúde Pública no Estado do Pará, através de um processo inicial de coleta e posterior digitalização de todos os documentos produzidos no Estado sobre Saúde Pública, o referido projeto ainda está em fase inicial. Também fomos incorporados pela ETSUS-Pará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de fazê-la mais conhecida pela rede de saúde do Estado e pelos centros de ensino e pesquisa em saúde do estado da Paraíb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, trata-se da criação de página exclusiva da Biblioteca dentro do site da SES-MG, onde haverá atendimento on-line da grande maioria dos serviços da Biblioteca, na qual estará disponível solicitação de referências bibliográficas (SCAD, artigos, etc.)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-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SUS-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, estamos estudando a possibilidade de fazer um trabalho em conjunto com outro setor da secretaria estadual de saú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JB-B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. Porém necessitamos de maior número de computad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-SP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o disse anteriormente, temos a previsão de lançamento de, no mínimo, 12 estações no ano de 2008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EC-C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ro oficializar uma outra unidade para Nanuqu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955880"/>
          <a:ext cx="8218440" cy="42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55880"/>
                    <a:ext cx="821844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9109080" cy="6862680"/>
        </p:xfrm>
        <a:graphic>
          <a:graphicData uri="http://schemas.openxmlformats.org/drawingml/2006/table">
            <a:tbl>
              <a:tblPr/>
              <a:tblGrid>
                <a:gridCol w="1332000"/>
                <a:gridCol w="7777080"/>
              </a:tblGrid>
              <a:tr h="120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bliote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- Outros comentári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mos enviando a estatística mensal sobre o atendimento aos usuários da BVS nesta Secretari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EESP já multiplicamos a BVS  divulgando  entre as unidades de Saúde da SESAB. Reunindo estagiários, residentes, profissionais e gestores de saúde  para treinamento na base de dados BVS. Implantação de pequena Bibliotecas nas Unidades de Saúde SESAB para controle bibliográficos divulgação e acesso fácil a BV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isamos está mais aptos às estratégias de busca nas bases de dados eletrônicas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isamos de apoio para implementar a Estação BVS da SES/P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-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ando a importância desta fonte de pesquisa, com bases de dados altamente qualificadas, é considerado aspecto de suma importância a capacitação dos responsáveis pela Est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SUS-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trabalho desenvolvido junto à estação é feito com a visita orientada na biblioteca, explicamos o trabalho que pode ser desenvolvido na estação e rapidamente orientamos como fazer a pesquisa nas bases de d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JB-B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-SP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stações foram uma iniciativa do MS que, uma vez aplicada à rede de Psicologia, permitiu que fosse feita a aproximação do Psicólogo que não está na Academia das importantes fontes de informação da Biblioteca Virtual. Há algum tempo buscávamos um canal eficiente para essa aproximação e as estações vieram ao encontro dessas necessida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EC-C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vez um material para divulgação na mídia lo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8 - Comentá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0"/>
          <a:ext cx="9144000" cy="7070760"/>
        </p:xfrm>
        <a:graphic>
          <a:graphicData uri="http://schemas.openxmlformats.org/drawingml/2006/table">
            <a:tbl>
              <a:tblPr/>
              <a:tblGrid>
                <a:gridCol w="2556000"/>
                <a:gridCol w="3240000"/>
                <a:gridCol w="3348000"/>
              </a:tblGrid>
              <a:tr h="124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gu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le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ção dos problem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 Qual o quantitativo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essos diários à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ções BV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uca utilização por parte 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umas Estações</a:t>
                      </a:r>
                      <a:r>
                        <a:rPr b="0" lang="en-US" sz="14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- Divulgação em diversas mídias (internet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ádio, TV, jornais, folheteria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– Criar mecanismos de divulgação interna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Os usuários estão 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iculdades para aces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bases de dados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is dificuldade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dade de acess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vegação na interne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hecer melhor a bas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izar melhor o DEC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izar as ferramentas da BV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ação de cursos de capacitação p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 responsáveis pela Estação, para que es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am dar o suporte adequado e necessá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 os usuár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- A Estação BVS est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o apoio instituciona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(is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 Os responsáveis p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ção estão apt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ar curso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açã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acitação de monitore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ualização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o das 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- Criação de cursos de capacitação p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bliotecários, para que estes sej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icador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- Criação de cursos à distânc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- Criação de tutoriais no Portal das Estaçõ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V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Tem algum projeto 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iação dos serviç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recidos pela Estaçã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ta formulação oficial de 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- Apresentação do Projeto Estação BVS a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ores das instituiçõ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- Participação em cursos de elaboração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t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osições de Metas para 200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ponsabilidade/contribuições das Institu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ção de novas bibliotecas para a Rede BiblioS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stribuições de publicações às bibliotecas da regi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rnar-se Centro cooperante da Rede BV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iação de cursos de capacit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dastro da produção institucional na base de dados ClecionaSU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vulgação de eventos na Comunidade Virtu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vulgação da Rede BiblioSUS no âmbito estadual e municip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ação no SC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vio de relatórios periódicos para a CG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3280" y="30636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219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s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ww.saude.gov.br/estacaob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ores inform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. (61) 3315-3519 / 34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5257800"/>
            <a:ext cx="1111320" cy="1224000"/>
          </a:xfrm>
          <a:prstGeom prst="rect">
            <a:avLst/>
          </a:prstGeom>
          <a:ln w="0">
            <a:noFill/>
          </a:ln>
        </p:spPr>
      </p:pic>
      <p:pic>
        <p:nvPicPr>
          <p:cNvPr id="90" name="logo_bireme" descr=""/>
          <p:cNvPicPr/>
          <p:nvPr/>
        </p:nvPicPr>
        <p:blipFill>
          <a:blip r:embed="rId2"/>
          <a:stretch/>
        </p:blipFill>
        <p:spPr>
          <a:xfrm>
            <a:off x="2133720" y="54864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924360" y="5300640"/>
            <a:ext cx="2665440" cy="109692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-92160" y="1714680"/>
            <a:ext cx="9328320" cy="3429000"/>
            <a:chOff x="-92160" y="1714680"/>
            <a:chExt cx="9328320" cy="3429000"/>
          </a:xfrm>
        </p:grpSpPr>
        <p:sp>
          <p:nvSpPr>
            <p:cNvPr id="93" name=""/>
            <p:cNvSpPr/>
            <p:nvPr/>
          </p:nvSpPr>
          <p:spPr>
            <a:xfrm>
              <a:off x="-92160" y="1714680"/>
              <a:ext cx="86868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92160" y="1714680"/>
              <a:ext cx="932832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Arial"/>
                  <a:hlinkClick r:id="rId4"/>
                </a:rPr>
                <a:t>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20509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ÓSTICO DAS ESTAÇÕES BV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ubro d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7 Questionários envi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 Questionários respond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0"/>
          <a:ext cx="9109080" cy="6923160"/>
        </p:xfrm>
        <a:graphic>
          <a:graphicData uri="http://schemas.openxmlformats.org/drawingml/2006/table">
            <a:tbl>
              <a:tblPr/>
              <a:tblGrid>
                <a:gridCol w="1403280"/>
                <a:gridCol w="792360"/>
                <a:gridCol w="793800"/>
                <a:gridCol w="6119640"/>
              </a:tblGrid>
              <a:tr h="7261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bliote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 Qual o quantitativo de acessos diários às Estações BV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uá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uá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entários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4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sos usuários internos estão capacitados para o acesso em seus locais de trabalh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-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SUS-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JB-B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--SP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duas primeiras Estações BVS-Psi foram inauguradas no final de agosto e ainda não temos dados concretos sobre o número de psicólogos que foram capacitados pelas equipes das estações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EC-C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6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11280" y="1992240"/>
          <a:ext cx="8075520" cy="41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92240"/>
                    <a:ext cx="8075520" cy="41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0"/>
          <a:ext cx="9109080" cy="6913440"/>
        </p:xfrm>
        <a:graphic>
          <a:graphicData uri="http://schemas.openxmlformats.org/drawingml/2006/table">
            <a:tbl>
              <a:tblPr/>
              <a:tblGrid>
                <a:gridCol w="1403280"/>
                <a:gridCol w="792360"/>
                <a:gridCol w="793800"/>
                <a:gridCol w="6119640"/>
              </a:tblGrid>
              <a:tr h="5864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bliote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- Os usuários estão com dificuldades para acessar as bases de dados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is dificuldad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uais dificuldades?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minoria dos usuários não possui conhecimento  em  navegação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bre interne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, mas após um mini-curso  de capacitação que aplicamos a cada um deles, o acesso fica bem mais fáci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 novos usuários têm dificuldades por não conhecer a base. Quando se dirigem a Biblioteca da EESP, ensinamos a utilizar corretament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a parte dos usuários/alunos sentem dificuldades no que diz respeito aos descritores,  na consulta do DECS,  e outros  sentem-se inseguros no ato da pesquisa e querem a presença do bibliotecário.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dificuldade é decorrente de problemas estruturais na nossa biblioteca. Desde o dia 09/01/2007 onde aconteceu uma chuva intensa em Belém, o teto da biblioteca estourou e os computadores de acesso à BVS foram molhados, dois deles inclusive, foram danificados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é a presente data o referido teto não foi consertado, e a reforma só está prevista para começar no dia 21/10/2007. Porém, não deixamos de atender nossos usuários, estamos fazendo as pesquisas e as enviando via emai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 usuários têm dificuldades de diferir as bases de dados (qual a mais apropriada por assunto), o que dificulta a precisão da pesquisa; outro fator importante é o uso incorreto (ou não uso) dos “operadores booleanos”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-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usuário não possui familiaridade com as ferramentas da BVS; sob orientação do servidor ocorre a facilidade na busca, porém na pesquisa individualizada (o usuário) percebe-se quebra nas etapas do processo de pesquis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SUS-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, dificuldades com alguns alunos que não tem noções básicas de informática.  Temos que explicar o processo de navegação na rede para depois entrarmos na pesquisa em bases de d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JB-B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uns usuários apresentam dificuldades em manusear corretamente bases de dados. Outros questionam o acesso aos materiais pagos, para eles deveriam ser disponibilizados gratuitament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--SP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m uma das nossas estações, a de São Paulo, existe uma estagiário de Psicologia que permanece 6 horas orientando os usuários no acesso às Bibliotecas Virtuais e tem nos relatados que os mesmos sentem dificuldades ao acessar as bases de dados devido a complexidade do sistema de busca. Para auxiliar, a própria monitora elaborou um manual de orientação que publicamos na própria BVS-P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EC-C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, pois as nossas auxiliares de referencia ajud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2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1955880"/>
          <a:ext cx="8218440" cy="42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55880"/>
                    <a:ext cx="821844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9109080" cy="6867360"/>
        </p:xfrm>
        <a:graphic>
          <a:graphicData uri="http://schemas.openxmlformats.org/drawingml/2006/table">
            <a:tbl>
              <a:tblPr/>
              <a:tblGrid>
                <a:gridCol w="1403280"/>
                <a:gridCol w="792360"/>
                <a:gridCol w="793800"/>
                <a:gridCol w="6119640"/>
              </a:tblGrid>
              <a:tr h="783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bliote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- A Estação BVS está tendo apoio institucional? Qual(is)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(is)?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io de materiais  de informática  para os usuários que necessitem de  pesquisar e imprimir algum assunto referente à BV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apoio é bastante incipiente, esperamos que aos poucos melhor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 enquanto não precisamos solicitar apoio institucional quanto ao acesso on-li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nte apoio logísti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ora ainda incipiente: Bibliotecária, Internet, espaço, etc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, a exemplos a disponibilização de espaço físico, a própria divulgação interna - o possibilitou maior dispersão das informações referentes à BVS – e a padronização da BVS como principal fonte de pesquisa em saúde pública a ser utilizada pelos servidores/funcionários da Biblioteca SES-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-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vulgação através de informativ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SUS-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os apoio na divulgação da estação nos diversos setores da administração públ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JB-B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nas do Memorial Juliano Moreira e a logística necessária ao seu funcionamen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-SP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 Conselhos Regionais de Psicologia, espaços eleitos para nossas primeiras estações BVS está oferecendo total apoio à iniciativa e a previsão é que tenhamos, ao menos, 12 Estações a serem inauguradas em 200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EC-C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mentamos o número de computadores de 6 para 10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955880"/>
          <a:ext cx="8218440" cy="42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55880"/>
                    <a:ext cx="821844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680"/>
            <a:ext cx="728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tação BV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0"/>
          <a:ext cx="9109080" cy="6857640"/>
        </p:xfrm>
        <a:graphic>
          <a:graphicData uri="http://schemas.openxmlformats.org/drawingml/2006/table">
            <a:tbl>
              <a:tblPr/>
              <a:tblGrid>
                <a:gridCol w="1403280"/>
                <a:gridCol w="792360"/>
                <a:gridCol w="793800"/>
                <a:gridCol w="6119640"/>
              </a:tblGrid>
              <a:tr h="765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bliote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 Os responsáveis pela Estação estão aptos a ministrar curso de capacitação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entários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acordo com o que nos foi ministrado em  julho/2006, quando na realização do curso sobre a Estação BV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os dois bibliotecários e um apoio, orientamos os nossos usuários no ato da pesquisa, ou seja, no exercício da função. Quanto a ministrar cursos temos que nos capacitar para tant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is das alterações ocorridas na Base precisamos de uma nova atualiz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-P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isaríamos de um curso, especialmente as(os) bibliotecárias(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M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, no entanto estamos em fase experimental, visto que a bibliotecária mais capacitada para exercer tal função não mais faz parte do quadro de pessoal desta Bibliote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P-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, pois a capacitação recebida habilita-os somente na orientação básica para a pesquisa junto ao usuá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SUS-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ão!  No momento devemos passar pôr mais capacitações para atingirmos esse nív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JB-B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SI--SP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 Um estagiário de Psicologia foi treinado por nossa equipe e orienta os usuários durante 6 horas na Sede do Conselho em São Paul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 Capacitamos a própria equipe do CFP que ficou responsável por capacitar o psicólogo quando de sua visita ao Conselh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EC-CA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ém, um treinamento seria sempre bom.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7:56:19Z</dcterms:created>
  <dc:creator>Zandhor</dc:creator>
  <dc:description/>
  <dc:language>en-US</dc:language>
  <cp:lastModifiedBy>MS</cp:lastModifiedBy>
  <dcterms:modified xsi:type="dcterms:W3CDTF">2007-11-05T13:13:01Z</dcterms:modified>
  <cp:revision>191</cp:revision>
  <dc:subject/>
  <dc:title>Slide 1</dc:title>
</cp:coreProperties>
</file>