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699-9A6C-40E0-8290-B43343E5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B68-B1F9-41AA-BF84-F2EB5E3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34D-EA11-4CD1-A4AB-5C616B87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F7D-A6B8-4B07-905E-F5173D5D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071-347C-4617-A876-32D3B59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93A-AEE3-4FD9-8E81-D0AFC85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B89-FA86-4A45-BF80-D712D2D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BDA-53B7-4F92-8C5F-9362A7A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AAD-3481-48DF-AF43-8A09F6C6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1CF-F83C-4757-A88E-72A189D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BE6-E4D4-47DC-95D5-00A33E3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766-D000-4212-AA3C-FB2B4CE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B2C-B278-4C0B-AB9A-8D2C2E49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iciativa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Periódicos especi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Boletín Mexicano de Historia y Filosofía de la Medic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aceta Medica de Méx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Sesiones de la Sociedad Uruguaya de Historia de la Medic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Anales Chilenos de Historia de la Medicina y sus Jorn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Revista del Instituto Médico Sucre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Recomendar a Organização Panamericana de Saúde a promoção junto aos Ministérios da Saúde do país a adoção e desenvolvimento de políticas, programas e infra-estruturas para o fortalecimento da História e do Patrimônio Cultural da Saúde (HPCS) como parte integral dos sistemas nacionais de saúde,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valorizar a identidade e a memória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aumentar a consciência da sociedade sobre a importância do patrimônio histórico-arquitetônico, museológico, científico, artístico e docu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assim como o direito a informação, como atributos fundamentais do exercício da cidadania e como parte das responsabilidades do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clusões e Recomend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clusões e Recomend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Promover o desenvolvimento da Rede da BVS HPCS como instância regional e nacional para a cooperação técnica entre instituições nacionais e regionais relacionadas c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a identificação, recuperação, conservação, investigação, valorização e disseminação da HP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om foco na gestão e operação de uma rede de fontes de informação e conhecimento com acesso aberto e universal, incluindo, entre ou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literatura científica e técn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biografías de personalidad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legisl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diretórios de instituiçõ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especialistas e event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catálogos de image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obras de arte de monumentos arquitetônic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catálogos de arquiv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dotar a estrutura de gestão da rede BVS HPCS form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uma instituição coordenado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um comitê consultivo com representantes das redes de instituições 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um plano de ação para sua implantação em períodos de 2 anos ou mais e que inclua a participação de todas as instituições da r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sta estrutura deverá ser implantada progressivamente em âmbitos regional, sub-regional e nacional, assegurando equidade de participação de forma que a rede regional venha a conformar-se como resultado da convergência das redes nacionais e sub-reg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clusões e Recomend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1378080"/>
          <a:ext cx="914400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8080"/>
                    <a:ext cx="914400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91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Comitê Consultivo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mitê Consultivo Regional &gt;&gt; Estratégias de 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oordenação da Rede HPCS será de responsabilidade da BIREME até a próxima reunião do do Comitê Consultivo Reg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V Reunião de Coordenação Regional da BVS/ CRICS8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riação das Redes HPCS Nacion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roduzir informes sobre a participação na I Reuniâo da Rede HPCS e realizar reuniões com a representação nacional da OPAS, Ministério da Saúde e instituições acadêmicas, para socializar os objetivos e estado de desenvolvimento da Rede HPCS e suas recomendações com o objetivo de estabelecer as Redes Nacionais de História e Patrimônio Cultural da Saú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Estabelecer os Comitês Consultivos N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Eleição dos representantes oficiais dos países no Comitê Consultivo Regional da BVS- HP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Comitê Consultivo Regional &gt;&gt; Estratégias de 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Produção de documentos de referência para a Rede H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Projeto BVS HP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Institucionalização dos temas da História e  Patrimônio Cultural da Saúde nas políticas e serviços de saú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Marcos conceituais da História e  Patrimônio Cultural da Saú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Criação da Comunidade Virtual da Rede HP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24000" y="170172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5373720"/>
            <a:ext cx="43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Encerramento da I Reunião de Coordenação Regional Rede H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F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56000" y="5516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I Reunião do Comitê Consultivo Regional Rede H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F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63640" y="1201680"/>
            <a:ext cx="6043680" cy="4532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573408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Biblioteca da Faculdade de Medicina da Universidade do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F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um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ntecedentes e 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da Rede História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atrimônio Cultural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ano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iciativa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mitê Consultivo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mitê prov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stratégias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VS História e Patrimônio Cultural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nte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ocumentos de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BVS HPCS &gt;&gt; FONTE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 BVS deverá promover a operação cooperativa e descentralizada da rede de fontes de informação que será desenvolvida a partir do estabelecimento da Rede HPCS. A BVS HPCS deverá incorporar a BVS História da Saúde e da Medicina, já existente, passando a abranger o tema do patrimônio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00720" y="1844640"/>
          <a:ext cx="436068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844640"/>
                    <a:ext cx="436068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500720" y="4365720"/>
            <a:ext cx="4643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0000"/>
                </a:solidFill>
                <a:latin typeface="Arial"/>
              </a:rPr>
              <a:t>BVS História da Saúde e da Medi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0000"/>
                </a:solidFill>
                <a:latin typeface="Arial"/>
              </a:rPr>
              <a:t>www.bvshistoria.coc.fiocruz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5280" y="969840"/>
            <a:ext cx="5610240" cy="591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BVS HPCS &gt;&gt; FONTE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 &gt;&gt; Documentos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00"/>
                </a:solidFill>
                <a:latin typeface="Arial"/>
              </a:rPr>
              <a:t>Para consulta de textos completos 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Términos de Constitución de la Red de Historia y Patrimonio Cultural de la Salud”</a:t>
            </a: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&lt;http://www.bvshistoria.coc.fiocruz.br/hpcs/termoconstituicaorhpcses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Primera Reunión de Coordinación Regional de la Red de la Biblioteca Virtual en Salud de Historia y Patrimonio Cultural de la Salud (BVS HPCS)</a:t>
            </a: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</a:rPr>
              <a:t>&lt;http://www.eventos.bvsalud.org/BVSHPCS/presentation.php?lang=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onclusiones e 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&lt;http://www.eventos.bvsalud.org/BVSHPCS/public/documents/Conclusiones%20y%20Recomendaciones-HPCS-171843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Ata da I Reunião do Comitê Cons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"/>
              </a:rPr>
              <a:t>&lt;http://www.eventos.bvsalud.org/BVSHPCS/public/documents/BVS%20HPCS%20-%20Acta-130307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484280"/>
          <a:ext cx="8351280" cy="460836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Coordenação Regional Rede H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BIREME - Abel Laerte P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packerab@bireme.ops-om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Coordenação Rede HPCS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Núcleo de Investigação em Memória da Saúde/Instituto de Saúde/Secretaria de Saúde de São Paulo - Yara Mon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yaramont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aulaxs@fiocruz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00"/>
                </a:solidFill>
                <a:latin typeface="Arial"/>
              </a:rPr>
              <a:t>Obriga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549360"/>
          <a:ext cx="7654320" cy="4392360"/>
        </p:xfrm>
        <a:graphic>
          <a:graphicData uri="http://schemas.openxmlformats.org/drawingml/2006/table">
            <a:tbl>
              <a:tblPr/>
              <a:tblGrid>
                <a:gridCol w="7654320"/>
              </a:tblGrid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ntecedentes e 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É possível identificar na região da América Latina, um conjunto de ações e iniciativas nas áreas da história e patrimônio cultural da saúde, com elevado grau de institucionalização e articulação com as políticas públicas n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 proposição da Rede História e Patrimônio Cultural da Saúde (Rede HPCS) em âmbito regional e nacional representa uma estratégia para a integração destas ações, com o objetivo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fortalecer ainda mais as capacidades locais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romover o compartilhamento de informação e conhecimento técnico-científico em história e patrimônio cultural da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ntecedentes e 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No Chile, criação da Unidad del Patrimonio Cultural de la Salud/MS, 20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TCC - Termo de Cooperação Técnica celebrado entre o Chile e o Brasil, representados pela Unidad del Patrimônio de la Salud e pela Casa de Oswaldo Cruz/FIOCRUZ, visando o fortalecimento do Patrimônio Cultural da Saú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Termo de Cooperação firmado entre o Ministério da Saúde e o Ministério da Cultura e a realização dos eventos “I Oficina do Patrimônio Cultural da Saúde” e “I Simpósio do Patrimônio Cultural da Saúde”, promovidos pela Coordenação Geral de Documentação e Informação do Ministério da Saúde, ocorridos em 2006 e 2007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Criada em 2005 - 4ª. Reunião de Coordenação Regional da Biblioteca Virtual em Saúde/CRICS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Grupo de Trabalho História e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Unidad de Patrimônio Cultural de la Salud/Ministério de la Salud do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oordenação Geral de Documentação e Informação/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Casa de Oswaldo Cruz/FIOCR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BIREME/OPAS/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Proposta de criação da Rede HPCS validada na plenária da reunião e oficialmente sistematizada no Termo de Constituição da Rede HPCS - marco fundador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ede História e Patrimônio Cultural da Saúde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ntecedentes e 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Pano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1 a 3 de agosto de 2007, em Santiago do Ch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Patrocinada pelo Fondo Nacional de la Salud e organizada pela BIREME e pela Unidad de Patrimonio Cultural de la Salud/MS-Ch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ompartilhar informações e experiências nacionais na identificação, recuperação, conservação, investigação, valorização e disseminação da História e do Patrimônio Cultural da Saúde na região da América Lat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Estabelecer os marcos de constituição, gestão e operação da Biblioteca Virtual em Saúde História e Patrimônio Cultural da Saúde (BVS HPC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10 países da América Latina - Argentina, Brasil, Bolivia, Chile, Colombia, Costa Rica, Honduras, México, Paraguai e Uruguai, assim como a Organização Panamericana de Saúde e a Organização Mundial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Bras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GDI/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asa de Oswaldo Cruz/Fiocru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BIRE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Núcleo de Investigação em Memória da Saúde/Instituto de Saúde/Secretaria de Saúde de São Pa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Pano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atrimônio documental (arquivístico e bibliográf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Arquivos, bibliotecas/bases de dados especializadas, produção científica, teses e dissertações, biografias, periódicos especializ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Ensino e 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rupo de historia de la salud, Departamento de Historia, Escuela Nacional de Salud Pública, Universidad de Antioquia (Colombi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Depto. de Historia de la Medicina/Facultad de Medicina (Urugua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atrimônio Arquitetô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Bolí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Instituto Médico Suc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Botica del Hospital General de Mira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on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ospital General de la República,, Museo de Ident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Paraninfo Univers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ospital General San Fel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Edificio del Ministerio de Salud y Bienestar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Paragu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Hospital de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iciativa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 Reunião de Coordenação Regional Rede HPCS &gt;&gt;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iciativa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Sociedades cient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Sociedad Mexicana de Historia y Filosofía de la Medic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Sociedad Uruguaya de Historia de la Medic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Sociedad Chilena de Historia de la Medicin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0000"/>
                </a:solidFill>
                <a:latin typeface="Arial"/>
              </a:rPr>
              <a:t>Mus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Museo de Santa Lucia, Canelones, Urugu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Museo de Historia de la Medicina del Hospital de Clínicas de la ciudad de La Paz, Boli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alería Fotográfica de la Facultad de Medicina de la Universidad Mayor de San Andrés de La Paz, Boli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Museo de Historia de la Medicina, Colômb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Museo de la Medicina Mexicana, Méx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reación del Museo Nacional de la Medicina, Urugu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reación del Museo de la Salud, Hospital San Juan de Dios, Costa 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9:38:04Z</dcterms:created>
  <dc:creator>Paula</dc:creator>
  <dc:description/>
  <dc:language>en-US</dc:language>
  <cp:lastModifiedBy>Fiocruz</cp:lastModifiedBy>
  <dcterms:modified xsi:type="dcterms:W3CDTF">2007-10-20T14:52:05Z</dcterms:modified>
  <cp:revision>58</cp:revision>
  <dc:subject/>
  <dc:title>Sumário</dc:title>
</cp:coreProperties>
</file>