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687D6-D285-432C-9C92-EC5D2AAE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FAAC-2F96-4900-930E-4B11637E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9C8F3-D8C7-4D94-B42C-D4ABDAE6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59573-8D29-4E9E-B2D9-C455D718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965F0-183C-42D9-93F0-76DCD09B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5280-B036-43C8-8F5F-576CA255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9AC1-E931-4D05-9582-991E2ECF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0F4EB-DD7F-484E-A1AD-C9FC3747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4CC6-60DA-4C2A-901A-3BC51EFE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94DC5-DA9D-48DF-9DE9-D9752B2D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44CFA-E576-4F50-A112-10B53E45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0037E-9740-4A15-A6FC-8632FE88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A1BDB-A6EB-4C57-A319-530A13B8AB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7053120"/>
            <a:ext cx="10080720" cy="508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704376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3240" y="0"/>
            <a:ext cx="10077480" cy="8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0360" y="2519280"/>
            <a:ext cx="91803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 PARTICIPAÇÃO DA CÂMARA DOS DEPU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 PROJETO InterPARE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mberto Ricar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tor do Arquivo da Câmara dos Depu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mberto.junior@camara.gov.b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00000" y="936720"/>
            <a:ext cx="8425080" cy="60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63640" y="936720"/>
            <a:ext cx="8459640" cy="60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63640" y="936720"/>
            <a:ext cx="845964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17600" y="1125360"/>
            <a:ext cx="9302760" cy="53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Abrangência e partes envolvid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- Programa de Desmaterialização de Processo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  </a:t>
            </a: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Documentos (Assessoria de Projetos Especiais – DG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- Projeto de Gestão de Conteúdos Digitais – CED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- Implementação da Norma ABNT NBR 15472 (Sist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  </a:t>
            </a: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Aberto de Arquivamento de Informação – SAA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Diretoria-Ge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Diretoria Legisl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Centro de Documentação e Inform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Centro de Informá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Programa de Informatização da Atividade Legisl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0000" y="1976400"/>
            <a:ext cx="6107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Agend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- Contextualiz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- A escolha do conjunto docum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- Abrangência e partes envolvi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- Expecta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0360" y="1079640"/>
            <a:ext cx="936000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Contextualizaçã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- Participação da CD na Câmara Técnica 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  </a:t>
            </a: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Documentos Eletrônicos do Conselho Nacional 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  </a:t>
            </a: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Arquivo – CONARQ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- Criação, em 2003, do Comitê de Sistematização 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   </a:t>
            </a: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Informações Digitais da CD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- Em 2006, convite do Arquivo Nacional para integr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   </a:t>
            </a: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o TEAM Brasil do Projeto InterPARES II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- Formalização do Acordo de Cooperação Técn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  </a:t>
            </a: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entre o Arquivo Nacional e a Câmara dos Deput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0360" y="1079640"/>
            <a:ext cx="93600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A escolha do conjunto document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- Foco na atividade finalístic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- Documento já produzido em formato digit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- Necessidade de preservação permanente em form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   </a:t>
            </a: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digit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- Ciclo vital gerenciado por meio de sistema 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   </a:t>
            </a: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informação, com a participação do Arquivo da C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vantGarde"/>
              </a:rPr>
              <a:t>PROPOSIÇÃO LEGISL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36720" y="974880"/>
            <a:ext cx="8256600" cy="58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974880"/>
            <a:ext cx="8280360" cy="58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971640"/>
            <a:ext cx="8280360" cy="58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83892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0000" y="1079640"/>
            <a:ext cx="7467480" cy="573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