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2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6.wmf" ContentType="image/x-wmf"/>
  <Override PartName="/ppt/media/image4.wmf" ContentType="image/x-wmf"/>
  <Override PartName="/ppt/media/image13.jpeg" ContentType="image/jpeg"/>
  <Override PartName="/ppt/media/image23.png" ContentType="image/png"/>
  <Override PartName="/ppt/media/image25.jpeg" ContentType="image/jpeg"/>
  <Override PartName="/ppt/media/image2.wmf" ContentType="image/x-wmf"/>
  <Override PartName="/ppt/media/image24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14.jpeg" ContentType="image/jpeg"/>
  <Override PartName="/ppt/media/image1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3.wmf" ContentType="image/x-wmf"/>
  <Override PartName="/ppt/media/image15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6760" y="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6760" y="942984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41274BD-F5C9-403D-9FC6-81A8C2AD3C37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776760" y="942984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F695CCB-246E-4A24-AAEF-B18083106C93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942984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0" y="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776760" y="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690480" y="330120"/>
            <a:ext cx="5289480" cy="39672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488880" y="4684680"/>
            <a:ext cx="569448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EME acompaña y orienta las instituciones en el desarrollo de la BVS, realiza capacitaciones y promoviendo la transferencia y adopción del mode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4A56-9F2F-4EB7-B59D-E88029AB4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022B-B784-4627-BFE1-8AF3A02B1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1FED-179D-4596-AA57-C4BE25942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9F5D-C352-4561-B42F-7462B7AAF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F0CC-09D9-4A09-9C55-8438176A3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5110-9D18-4495-927B-AE5193AAE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0AA5-2D39-44AA-9546-6515D0231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6F61-8436-40DE-9CEA-9E8D19056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C27D-D31C-4CB2-93B3-C257C0CD6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258E-ECB3-4D88-96B9-C2CEF452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146A-7223-489B-B419-2DDDF5D5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9F32-E1CA-4745-8F3E-FD071868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10F73-0180-42A0-B585-F4E55B4A6A81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guzzo@bireme.br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bvsmodelo.bvsalud.org/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politica.datasus.gov.br/PoliticaInformacaoSaude29_03_2004.pdf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bvs-net-info.bvs.br/cgi-bin/wxis.exe/iah/?IsisScript=iah/iah.xic&amp;lang=P&amp;base=bvs-net&amp;nextAction=lnk&amp;&amp;exprSearch=ARGENTINA/(1)" TargetMode="External"/><Relationship Id="rId2" Type="http://schemas.openxmlformats.org/officeDocument/2006/relationships/hyperlink" Target="http://bvs-net-info.bvs.br/cgi-bin/wxis.exe/iah/?IsisScript=iah/iah.xic&amp;lang=P&amp;base=bvs-net&amp;nextAction=lnk&amp;&amp;exprSearch=BARBADOS/(1)" TargetMode="External"/><Relationship Id="rId3" Type="http://schemas.openxmlformats.org/officeDocument/2006/relationships/hyperlink" Target="http://bvs-net-info.bvs.br/cgi-bin/wxis.exe/iah/?IsisScript=iah/iah.xic&amp;lang=P&amp;base=bvs-net&amp;nextAction=lnk&amp;&amp;exprSearch=BOL&#205;VIA/(1)" TargetMode="External"/><Relationship Id="rId4" Type="http://schemas.openxmlformats.org/officeDocument/2006/relationships/hyperlink" Target="http://bvs-net-info.bvs.br/cgi-bin/wxis.exe/iah/?IsisScript=iah/iah.xic&amp;lang=P&amp;base=bvs-net&amp;nextAction=lnk&amp;&amp;exprSearch=BRASIL/(1)" TargetMode="External"/><Relationship Id="rId5" Type="http://schemas.openxmlformats.org/officeDocument/2006/relationships/hyperlink" Target="http://bvs-net-info.bvs.br/cgi-bin/wxis.exe/iah/?IsisScript=iah/iah.xic&amp;lang=P&amp;base=bvs-net&amp;nextAction=lnk&amp;&amp;exprSearch=BELICE/(1)" TargetMode="External"/><Relationship Id="rId6" Type="http://schemas.openxmlformats.org/officeDocument/2006/relationships/hyperlink" Target="http://bvs-net-info.bvs.br/cgi-bin/wxis.exe/iah/?IsisScript=iah/iah.xic&amp;lang=P&amp;base=bvs-net&amp;nextAction=lnk&amp;&amp;exprSearch=CHILE/(1)" TargetMode="External"/><Relationship Id="rId7" Type="http://schemas.openxmlformats.org/officeDocument/2006/relationships/hyperlink" Target="http://bvs-net-info.bvs.br/cgi-bin/wxis.exe/iah/?IsisScript=iah/iah.xic&amp;lang=P&amp;base=bvs-net&amp;nextAction=lnk&amp;&amp;exprSearch=COL&#212;MBIA/(1)" TargetMode="External"/><Relationship Id="rId8" Type="http://schemas.openxmlformats.org/officeDocument/2006/relationships/hyperlink" Target="http://bvs-net-info.bvs.br/cgi-bin/wxis.exe/iah/?IsisScript=iah/iah.xic&amp;lang=P&amp;base=bvs-net&amp;nextAction=lnk&amp;&amp;exprSearch=COSTA%20RICA/(1)" TargetMode="External"/><Relationship Id="rId9" Type="http://schemas.openxmlformats.org/officeDocument/2006/relationships/hyperlink" Target="http://bvs-net-info.bvs.br/cgi-bin/wxis.exe/iah/?IsisScript=iah/iah.xic&amp;lang=P&amp;base=bvs-net&amp;nextAction=lnk&amp;&amp;exprSearch=CUBA/(1)" TargetMode="External"/><Relationship Id="rId10" Type="http://schemas.openxmlformats.org/officeDocument/2006/relationships/hyperlink" Target="http://bvs-net-info.bvs.br/cgi-bin/wxis.exe/iah/?IsisScript=iah/iah.xic&amp;lang=P&amp;base=bvs-net&amp;nextAction=lnk&amp;&amp;exprSearch=REP&#218;BLICA%20DOMINICANA/(1)" TargetMode="External"/><Relationship Id="rId11" Type="http://schemas.openxmlformats.org/officeDocument/2006/relationships/hyperlink" Target="http://bvs-net-info.bvs.br/cgi-bin/wxis.exe/iah/?IsisScript=iah/iah.xic&amp;lang=P&amp;base=bvs-net&amp;nextAction=lnk&amp;&amp;exprSearch=EQUADOR/(1)" TargetMode="External"/><Relationship Id="rId12" Type="http://schemas.openxmlformats.org/officeDocument/2006/relationships/hyperlink" Target="http://bvs-net-info.bvs.br/cgi-bin/wxis.exe/iah/?IsisScript=iah/iah.xic&amp;lang=P&amp;base=bvs-net&amp;nextAction=lnk&amp;&amp;exprSearch=ESPANHA/(1)" TargetMode="External"/><Relationship Id="rId13" Type="http://schemas.openxmlformats.org/officeDocument/2006/relationships/hyperlink" Target="http://bvs-net-info.bvs.br/cgi-bin/wxis.exe/iah/?IsisScript=iah/iah.xic&amp;lang=P&amp;base=bvs-net&amp;nextAction=lnk&amp;&amp;exprSearch=GUATEMALA/(1)" TargetMode="External"/><Relationship Id="rId14" Type="http://schemas.openxmlformats.org/officeDocument/2006/relationships/hyperlink" Target="http://bvs-net-info.bvs.br/cgi-bin/wxis.exe/iah/?IsisScript=iah/iah.xic&amp;lang=P&amp;base=bvs-net&amp;nextAction=lnk&amp;&amp;exprSearch=GUIANA/(1)" TargetMode="External"/><Relationship Id="rId15" Type="http://schemas.openxmlformats.org/officeDocument/2006/relationships/hyperlink" Target="http://bvs-net-info.bvs.br/cgi-bin/wxis.exe/iah/?IsisScript=iah/iah.xic&amp;lang=P&amp;base=bvs-net&amp;nextAction=lnk&amp;&amp;exprSearch=HONDURAS/(1)" TargetMode="External"/><Relationship Id="rId16" Type="http://schemas.openxmlformats.org/officeDocument/2006/relationships/hyperlink" Target="http://bvs-net-info.bvs.br/cgi-bin/wxis.exe/iah/?IsisScript=iah/iah.xic&amp;lang=P&amp;base=bvs-net&amp;nextAction=lnk&amp;&amp;exprSearch=JAMAICA/(1)" TargetMode="External"/><Relationship Id="rId17" Type="http://schemas.openxmlformats.org/officeDocument/2006/relationships/hyperlink" Target="http://bvs-net-info.bvs.br/cgi-bin/wxis.exe/iah/?IsisScript=iah/iah.xic&amp;lang=P&amp;base=bvs-net&amp;nextAction=lnk&amp;&amp;exprSearch=M&#201;XICO/(1)" TargetMode="External"/><Relationship Id="rId18" Type="http://schemas.openxmlformats.org/officeDocument/2006/relationships/hyperlink" Target="http://bvs-net-info.bvs.br/cgi-bin/wxis.exe/iah/?IsisScript=iah/iah.xic&amp;lang=P&amp;base=bvs-net&amp;nextAction=lnk&amp;&amp;exprSearch=NICAR&#193;GUA/(1)" TargetMode="External"/><Relationship Id="rId19" Type="http://schemas.openxmlformats.org/officeDocument/2006/relationships/hyperlink" Target="http://bvs-net-info.bvs.br/cgi-bin/wxis.exe/iah/?IsisScript=iah/iah.xic&amp;lang=P&amp;base=bvs-net&amp;nextAction=lnk&amp;&amp;exprSearch=PANAM&#193;/(1)" TargetMode="External"/><Relationship Id="rId20" Type="http://schemas.openxmlformats.org/officeDocument/2006/relationships/hyperlink" Target="http://bvs-net-info.bvs.br/cgi-bin/wxis.exe/iah/?IsisScript=iah/iah.xic&amp;lang=P&amp;base=bvs-net&amp;nextAction=lnk&amp;&amp;exprSearch=PERU/(1)" TargetMode="External"/><Relationship Id="rId21" Type="http://schemas.openxmlformats.org/officeDocument/2006/relationships/hyperlink" Target="http://bvs-net-info.bvs.br/cgi-bin/wxis.exe/iah/?IsisScript=iah/iah.xic&amp;lang=P&amp;base=bvs-net&amp;nextAction=lnk&amp;&amp;exprSearch=PARAGUAI/(1)" TargetMode="External"/><Relationship Id="rId22" Type="http://schemas.openxmlformats.org/officeDocument/2006/relationships/hyperlink" Target="http://bvs-net-info.bvs.br/cgi-bin/wxis.exe/iah/?IsisScript=iah/iah.xic&amp;lang=P&amp;base=bvs-net&amp;nextAction=lnk&amp;&amp;exprSearch=EL%20SALVADOR/(1)" TargetMode="External"/><Relationship Id="rId23" Type="http://schemas.openxmlformats.org/officeDocument/2006/relationships/hyperlink" Target="http://bvs-net-info.bvs.br/cgi-bin/wxis.exe/iah/?IsisScript=iah/iah.xic&amp;lang=P&amp;base=bvs-net&amp;nextAction=lnk&amp;&amp;exprSearch=TRINIDAD%20E%20TOBAGO/(1)" TargetMode="External"/><Relationship Id="rId24" Type="http://schemas.openxmlformats.org/officeDocument/2006/relationships/hyperlink" Target="http://bvs-net-info.bvs.br/cgi-bin/wxis.exe/iah/?IsisScript=iah/iah.xic&amp;lang=P&amp;base=bvs-net&amp;nextAction=lnk&amp;&amp;exprSearch=URUGUAI/(1)" TargetMode="External"/><Relationship Id="rId25" Type="http://schemas.openxmlformats.org/officeDocument/2006/relationships/hyperlink" Target="http://bvs-net-info.bvs.br/cgi-bin/wxis.exe/iah/?IsisScript=iah/iah.xic&amp;lang=P&amp;base=bvs-net&amp;nextAction=lnk&amp;&amp;exprSearch=VENEZUELA/(1)" TargetMode="External"/><Relationship Id="rId26" Type="http://schemas.openxmlformats.org/officeDocument/2006/relationships/hyperlink" Target="http://bvs-net-info.bvs.br/cgi-bin/wxis.exe/iah/?IsisScript=iah/iah.xic&amp;lang=P&amp;base=bvs-net&amp;nextAction=lnk&amp;&amp;exprSearch=BVS-TEMATICAS%20REGIONAIS/(1)" TargetMode="External"/><Relationship Id="rId2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.wmf"/><Relationship Id="rId13" Type="http://schemas.openxmlformats.org/officeDocument/2006/relationships/image" Target="../media/image4.wmf"/><Relationship Id="rId14" Type="http://schemas.openxmlformats.org/officeDocument/2006/relationships/hyperlink" Target="http://www.scielo.org/" TargetMode="External"/><Relationship Id="rId15" Type="http://schemas.openxmlformats.org/officeDocument/2006/relationships/image" Target="../media/image5.pn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 cenário nacional e internacional da BV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1280" y="4941720"/>
            <a:ext cx="389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áudia Guz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guzzo@bireme.b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tos e Instâncias da BVS - PF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IREME/OPS/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00400" y="3932280"/>
            <a:ext cx="282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http://www.bvs.br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333360"/>
            <a:ext cx="806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 Fórum de Informação em Saú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V Encontro da Rede Biblio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84720" y="6302520"/>
            <a:ext cx="30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sília, 22 a 25/10/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09480" y="6858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VS -  Biblioteca Virtual em Saú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42920" y="4005360"/>
            <a:ext cx="77961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o da Biblioteca Virtual em Saúd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bvsmodelo.bvsalud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1828800"/>
            <a:ext cx="838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99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8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VI Reunião do Sistema Latino-Americano e do Carib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Informação em Ciências da Saúde, na Costa Rica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de se compromete a construir de forma cooperativa a Biblioteca Virtual em Saú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700360" y="2243160"/>
            <a:ext cx="59976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Arial"/>
              </a:rPr>
              <a:t>O sucesso da BVS depende da Rede de Biblioteca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76680" y="399960"/>
            <a:ext cx="723528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99"/>
                </a:solidFill>
                <a:latin typeface="Arial"/>
              </a:rPr>
              <a:t>E o qual o papel das bibliotec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99"/>
                </a:solidFill>
                <a:latin typeface="Arial"/>
              </a:rPr>
              <a:t>neste context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3716280"/>
            <a:ext cx="82087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safi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proveitar as oportunidades oferecidas pela Internet e pelas tecnologias de informação que a ela convergem para que até 2015 alcancemos (ou nos aproximemos) da equidade no acesso a informação científica e de tomada de decis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84360" y="1301760"/>
            <a:ext cx="183816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11280" y="1773360"/>
            <a:ext cx="792468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73360"/>
            <a:ext cx="798984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8000"/>
          </a:bodyPr>
          <a:p>
            <a:pPr marL="300240" indent="-300240"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 operação da BVS é assistida por Comitês Consultivos, Comitês Executivos e Secretarias Executivas, conformados por representantes e usuários de informação em áreas específica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0240" indent="-300240"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0240" indent="-300240"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0240" indent="-300240"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 operação do conjunto de Fontes de Informação é descentralizada, segue a critérios de qualidade, adota as metodologias e tecnologias publicas e eficientes (Modelo da BV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o se desenvolve a BV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4360" y="4424400"/>
            <a:ext cx="7848360" cy="1595880"/>
          </a:xfrm>
          <a:prstGeom prst="rect">
            <a:avLst/>
          </a:prstGeom>
          <a:solidFill>
            <a:srgbClr val="faf8a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nstituições articuladas e em busca de objetivos comu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1280" y="1763640"/>
            <a:ext cx="7921440" cy="1800360"/>
          </a:xfrm>
          <a:prstGeom prst="rect">
            <a:avLst/>
          </a:prstGeom>
          <a:solidFill>
            <a:srgbClr val="faf8a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nstituições trabalhando cooperativamente e desenvolvendo suas capacidades locais com metodologias e tecnologias gratuitas e aber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7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914400" y="16002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99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itar duplic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00000" y="234936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99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ar o intercambio/cooperação com iniciativas internacio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328464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99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ver as capacidades locais na adoção, desenvolvimento e adaptação de tecnologias de inform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" y="479736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99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tribuir na elaboração de políticas nacionais de informação científico-técnica sincronizadas com o paradigma da informação e comunicação da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0920" y="4762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BVS –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odelo de cooperação técnica em re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19280" y="2852640"/>
            <a:ext cx="6265800" cy="2226960"/>
          </a:xfrm>
          <a:prstGeom prst="rect">
            <a:avLst/>
          </a:prstGeom>
          <a:solidFill>
            <a:srgbClr val="faf8a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 Biblioteca Virtual em Saúde (BVS) registra, organiza, indexa, preserva, relaciona e dissemina os conteúdos das fontes de inform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200400" y="838080"/>
            <a:ext cx="4387680" cy="59436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200400" y="1676520"/>
            <a:ext cx="533520" cy="30456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95280" y="0"/>
            <a:ext cx="281952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e BV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200400" y="838080"/>
            <a:ext cx="4387680" cy="5943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200400" y="1676520"/>
            <a:ext cx="533520" cy="30456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3886200" y="1676520"/>
            <a:ext cx="4952880" cy="435276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3848040" y="1681200"/>
            <a:ext cx="4991040" cy="39733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1295280" y="0"/>
            <a:ext cx="281952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e BV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200400" y="838080"/>
            <a:ext cx="4387680" cy="59436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200400" y="1676520"/>
            <a:ext cx="533520" cy="30456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3886200" y="1681200"/>
            <a:ext cx="4991040" cy="39733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886200" y="1676520"/>
            <a:ext cx="5029200" cy="396216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3886200" y="1066680"/>
            <a:ext cx="5032440" cy="51627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151" name=""/>
          <p:cNvSpPr/>
          <p:nvPr/>
        </p:nvSpPr>
        <p:spPr>
          <a:xfrm>
            <a:off x="1295280" y="0"/>
            <a:ext cx="281952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e BV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200400" y="838080"/>
            <a:ext cx="4387680" cy="59436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200400" y="1676520"/>
            <a:ext cx="533520" cy="30456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3886200" y="1085760"/>
            <a:ext cx="5032440" cy="51627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886200" y="1066680"/>
            <a:ext cx="5029200" cy="5181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3886200" y="1371600"/>
            <a:ext cx="5000760" cy="48132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886200" y="1371600"/>
            <a:ext cx="5029200" cy="480060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295280" y="0"/>
            <a:ext cx="281952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e BV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3200400" y="838080"/>
            <a:ext cx="4387680" cy="59436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200400" y="1676520"/>
            <a:ext cx="533520" cy="30456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4038480" y="990720"/>
            <a:ext cx="4438800" cy="5410080"/>
          </a:xfrm>
          <a:prstGeom prst="rect">
            <a:avLst/>
          </a:prstGeom>
          <a:ln w="12600">
            <a:solidFill>
              <a:srgbClr val="333399"/>
            </a:solidFill>
            <a:miter/>
          </a:ln>
        </p:spPr>
      </p:pic>
      <p:sp>
        <p:nvSpPr>
          <p:cNvPr id="164" name=""/>
          <p:cNvSpPr/>
          <p:nvPr/>
        </p:nvSpPr>
        <p:spPr>
          <a:xfrm>
            <a:off x="1295280" y="0"/>
            <a:ext cx="281952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e BV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200400" y="838080"/>
            <a:ext cx="4387680" cy="59436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200400" y="1676520"/>
            <a:ext cx="533520" cy="30456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4019400" y="914400"/>
            <a:ext cx="4438800" cy="54100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4038480" y="914400"/>
            <a:ext cx="4419720" cy="541008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3886200" y="1219320"/>
            <a:ext cx="4941720" cy="50292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886200" y="1219320"/>
            <a:ext cx="5029200" cy="502920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0"/>
            <a:ext cx="281952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e BV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3760"/>
            <a:ext cx="7770960" cy="123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sta apresent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940360" y="3594240"/>
            <a:ext cx="3203640" cy="3147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11280" y="1700280"/>
            <a:ext cx="6337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conceito da BV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IR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bliotecas como difusoras de inform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úmeros da BVS: no mundo e no Bras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mo a BVS Bras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3200400" y="838080"/>
            <a:ext cx="4387680" cy="59436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200400" y="1676520"/>
            <a:ext cx="533520" cy="30456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3886200" y="1676520"/>
            <a:ext cx="5105520" cy="4414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177" name=""/>
          <p:cNvSpPr/>
          <p:nvPr/>
        </p:nvSpPr>
        <p:spPr>
          <a:xfrm>
            <a:off x="1295280" y="0"/>
            <a:ext cx="281952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e BV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353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Vários países alcançaram notáveis avanços no desenvolvimento das capacidades nacionais e institucionais em informação científico técnica em saú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550"/>
              </a:spcBef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550"/>
              </a:spcBef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ribuiram para estes avanç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50"/>
              </a:spcBef>
              <a:spcAft>
                <a:spcPts val="8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 posicionamento crescentes das autoridades sanitárias em favor do papel decisivo da informaç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50"/>
              </a:spcBef>
              <a:spcAft>
                <a:spcPts val="8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 aumento da disponibilidade de informação em todo mundo, produto do avanço da investigação cientifica e do desenvolvimento massivo das TIs e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50"/>
              </a:spcBef>
              <a:spcAft>
                <a:spcPts val="8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ersistencia e evolução das atividades de cooperação entre os países, consolidada hoje em dia por uma rede de produtos e serviços cooperativos de informação operados nas BV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No Brasil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800" spc="-1" strike="noStrike">
                <a:solidFill>
                  <a:srgbClr val="000000"/>
                </a:solidFill>
                <a:latin typeface="Arial"/>
              </a:rPr>
              <a:t>Política Nacional de Informação e Informática do SUS de 200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Estabelece a BVS como espaço de acesso equitativo ao conhecimento em saúde e propõe a universalização do uso de bibliotecas virtuais em saúde para a disseminação de informações técnico-científicas, promovendo a ampliação do acervo e facilitando o acesso dos usuários (</a:t>
            </a: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Brasilia, 29 de março de 2004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t-B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politica.datasus.gov.br/PoliticaInformacaoSaude29_03_2004.pdf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56000" y="2565360"/>
            <a:ext cx="64764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úmeros no Bras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630400" y="2204640"/>
            <a:ext cx="333396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Base de dados que compreende a literatura relativa às Ciências da Saúde publicada nos países da Região da América Latina e Caribe a partir de 1982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257840" y="1166760"/>
            <a:ext cx="641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ILACS - Literatura Latino-Americana e 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aribe em Ciências da Saú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24000" y="2676600"/>
            <a:ext cx="554508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tinada a pesquisadores e profissionais da área da saúd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tém artigos de revistas, teses, livros, capítulos de livros, anais de congressos ou conferências, relatórios técnico-científicos e publicações governamentais, com enlaces para textos completos de documentos disponíveis em acesso aber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controle bibliográfico da LILACS é realizado em rede por instituições nacionais e de modo descentralizad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ssim as instituições cooperam com envio de seus registros bibliográficos para a base de dados LILACS por meio de suas bibliotecas ou centros de documentação (dando-lhes mais visibilidade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tas instituições são denominadas Centros Cooperantes (CCs) da LILA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19200" y="666720"/>
            <a:ext cx="7905600" cy="55245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11280" y="379440"/>
            <a:ext cx="8066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bvsmodelo.bvsalud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rede brasileira e a cooperação nacional para LILAC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3492360" y="1773360"/>
          <a:ext cx="5472360" cy="4109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1773360"/>
                    <a:ext cx="5472360" cy="41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6084720" y="226044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íodo: 2000-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50920" y="1844640"/>
            <a:ext cx="32036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período de janeiro de 2000 a dezembro de 2006 a contribuição brasileira para a LILACS foi d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2.934 registr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ngressados p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3 Centros Cooperant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os seguintes Estados: BA, CE, DF, ES, GO, MG, MS, PA, PB, PE, PR, RJ, RN, RS, SC, S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rede brasileira e a cooperação nacional para LILA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19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79280" y="1754280"/>
            <a:ext cx="5761080" cy="44830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5940360" y="1773360"/>
            <a:ext cx="3079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bora concebida para registrar também outros materiais a presença de artigos de revistas (seriados) é predominante na LILAC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12000" y="3645000"/>
            <a:ext cx="28810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erspectiva de registrar materiais governamentais e não convencionais (além de artigos de periódicos) é o grande diferencial da LILACS com relação a outras bases de dados, caráter que a fortalece em situações de apoio a políticas de saúde e informaçã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rede brasileira e a cooperação nacional para LILA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971640" y="1590840"/>
          <a:ext cx="7416720" cy="471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590840"/>
                    <a:ext cx="7416720" cy="47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148428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 BVS  é uma coleção descentralizada e dinâmica de fontes de informação* que tem como objetivo propiciar o acesso ao conhecimento científico atualizado em saú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9640" y="380880"/>
            <a:ext cx="8136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0000"/>
                </a:solidFill>
                <a:latin typeface="Arial Narrow"/>
              </a:rPr>
              <a:t>O Modelo da Biblioteca Virual em Saúde (BVS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63640" y="3213000"/>
            <a:ext cx="669600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* Fonte de informação: Qualquer produto, serviço, organização ou pessoa que gera informação relevant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As Fontes de informação são agrupadas 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Bases clássicas e serviços (bases de dados referencia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Publicações eletrônic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Educação e tomada de decis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Disseminação seletiva (perfis de interesse, newslet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Comunicação (notícias, comunidades de prática, fóru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De integração (terminologia, catálogo LIS, metodologi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iciativas de BVS nos paí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203640" y="2924280"/>
            <a:ext cx="252072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iciativas de BVS por paí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673200" y="1413000"/>
          <a:ext cx="3467160" cy="4802040"/>
        </p:xfrm>
        <a:graphic>
          <a:graphicData uri="http://schemas.openxmlformats.org/drawingml/2006/table">
            <a:tbl>
              <a:tblPr/>
              <a:tblGrid>
                <a:gridCol w="1916280"/>
                <a:gridCol w="1550880"/>
              </a:tblGrid>
              <a:tr h="326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a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iciativ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326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1"/>
                        </a:rPr>
                        <a:t>ARGENTIN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2"/>
                        </a:rPr>
                        <a:t>BARBADO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3"/>
                        </a:rPr>
                        <a:t>BOLÍVI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4"/>
                        </a:rPr>
                        <a:t>BRASI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ec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fec6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5"/>
                        </a:rPr>
                        <a:t>BELIC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6"/>
                        </a:rPr>
                        <a:t>CHIL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7"/>
                        </a:rPr>
                        <a:t>COLÔMBI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8"/>
                        </a:rPr>
                        <a:t>COSTA RIC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9"/>
                        </a:rPr>
                        <a:t>CUB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3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10"/>
                        </a:rPr>
                        <a:t>REPÚBLICA DOMINICAN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11"/>
                        </a:rPr>
                        <a:t>EQUADO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12"/>
                        </a:rPr>
                        <a:t>ESPANH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13"/>
                        </a:rPr>
                        <a:t>GUATEMAL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4648320" y="1413000"/>
          <a:ext cx="3595680" cy="5160960"/>
        </p:xfrm>
        <a:graphic>
          <a:graphicData uri="http://schemas.openxmlformats.org/drawingml/2006/table">
            <a:tbl>
              <a:tblPr/>
              <a:tblGrid>
                <a:gridCol w="1939680"/>
                <a:gridCol w="165600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a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iciativ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14"/>
                        </a:rPr>
                        <a:t>GUIAN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15"/>
                        </a:rPr>
                        <a:t>HONDURA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16"/>
                        </a:rPr>
                        <a:t>JAMAIC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17"/>
                        </a:rPr>
                        <a:t>MÉXIC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18"/>
                        </a:rPr>
                        <a:t>NICARÁGU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19"/>
                        </a:rPr>
                        <a:t>PANAMÁ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20"/>
                        </a:rPr>
                        <a:t>PERU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21"/>
                        </a:rPr>
                        <a:t>PARAGUA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22"/>
                        </a:rPr>
                        <a:t>EL SALVADO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23"/>
                        </a:rPr>
                        <a:t>TRINIDAD E TOBAG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24"/>
                        </a:rPr>
                        <a:t>URUGUA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25"/>
                        </a:rPr>
                        <a:t>VENEZUEL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4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26"/>
                        </a:rPr>
                        <a:t>BVS-TEMATICAS REGIONAI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1" name=""/>
          <p:cNvSpPr/>
          <p:nvPr/>
        </p:nvSpPr>
        <p:spPr>
          <a:xfrm>
            <a:off x="250920" y="6524640"/>
            <a:ext cx="23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dos de 13/09/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 seja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109 iniciativas nacionais, temáticas-nacionais e institucion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20 iniciativas temáticas-region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333399"/>
                </a:solidFill>
                <a:latin typeface="Arial"/>
              </a:rPr>
              <a:t>129 BVS em diferentes fases de desenvolvi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601640" y="4345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tado atual de desenvolvimento das iniciativas temáticas e naciona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732720" y="6237360"/>
            <a:ext cx="20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dos de set.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1116000" y="1663560"/>
          <a:ext cx="7201080" cy="458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63560"/>
                    <a:ext cx="7201080" cy="458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52560"/>
            <a:ext cx="914400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sil Hoje – 33 iniciat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468360" y="1052640"/>
          <a:ext cx="8229600" cy="911160"/>
        </p:xfrm>
        <a:graphic>
          <a:graphicData uri="http://schemas.openxmlformats.org/drawingml/2006/table">
            <a:tbl>
              <a:tblPr/>
              <a:tblGrid>
                <a:gridCol w="1639800"/>
                <a:gridCol w="2270160"/>
                <a:gridCol w="2238480"/>
                <a:gridCol w="2081160"/>
              </a:tblGrid>
              <a:tr h="512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ilo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rtificad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Em desenvolvim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stituc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ea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268360" y="2143080"/>
            <a:ext cx="6407280" cy="4599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25" name=""/>
          <p:cNvSpPr/>
          <p:nvPr/>
        </p:nvSpPr>
        <p:spPr>
          <a:xfrm rot="18384600">
            <a:off x="1432800" y="1929240"/>
            <a:ext cx="490680" cy="1482480"/>
          </a:xfrm>
          <a:custGeom>
            <a:avLst/>
            <a:gdLst/>
            <a:ahLst/>
            <a:rect l="l" t="t" r="r" b="b"/>
            <a:pathLst>
              <a:path w="937" h="998">
                <a:moveTo>
                  <a:pt x="937" y="0"/>
                </a:moveTo>
                <a:cubicBezTo>
                  <a:pt x="589" y="257"/>
                  <a:pt x="242" y="515"/>
                  <a:pt x="121" y="681"/>
                </a:cubicBezTo>
                <a:cubicBezTo>
                  <a:pt x="0" y="847"/>
                  <a:pt x="105" y="922"/>
                  <a:pt x="211" y="998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-84240" y="15840"/>
            <a:ext cx="9264600" cy="67978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53964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28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ito Obrigada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2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áudia Guz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VS/PFI/BIREME/OPAS/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zzo@bireme.b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121932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pera como uma rede de produtos e serviços na Internet, de maneira a atender às necessidades de informação  em saúde de autoridades, administradores, investigadores, professores, estudantes, profissionais e público em ge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diferencia do conjunto de fontes de informação da Internet por obedecer a critérios de seleção e controle de qualida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380880"/>
            <a:ext cx="8136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0000"/>
                </a:solidFill>
                <a:latin typeface="Arial Narrow"/>
              </a:rPr>
              <a:t>A Biblioteca Virual em Saúde (BVS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267080" y="4191120"/>
            <a:ext cx="427536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Referencias bibliográficas com enlace par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texto completo y revision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sistemáticas comple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8229600" y="2514600"/>
          <a:ext cx="890640" cy="83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29600" y="2514600"/>
                    <a:ext cx="89064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4" name=""/>
          <p:cNvGrpSpPr/>
          <p:nvPr/>
        </p:nvGrpSpPr>
        <p:grpSpPr>
          <a:xfrm>
            <a:off x="304920" y="761760"/>
            <a:ext cx="4952880" cy="2133720"/>
            <a:chOff x="304920" y="761760"/>
            <a:chExt cx="4952880" cy="2133720"/>
          </a:xfrm>
        </p:grpSpPr>
        <p:sp>
          <p:nvSpPr>
            <p:cNvPr id="65" name=""/>
            <p:cNvSpPr/>
            <p:nvPr/>
          </p:nvSpPr>
          <p:spPr>
            <a:xfrm>
              <a:off x="304920" y="2362320"/>
              <a:ext cx="2514600" cy="5331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Localizador de sitios</a:t>
              </a: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LI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" name=""/>
            <p:cNvCxnSpPr>
              <a:stCxn id="67" idx="2"/>
              <a:endCxn id="65" idx="0"/>
            </p:cNvCxnSpPr>
            <p:nvPr/>
          </p:nvCxnSpPr>
          <p:spPr>
            <a:xfrm rot="5400000">
              <a:off x="2609280" y="-285840"/>
              <a:ext cx="1600920" cy="3696480"/>
            </a:xfrm>
            <a:prstGeom prst="curvedConnector5">
              <a:avLst>
                <a:gd name="adj1" fmla="val 50000"/>
                <a:gd name="adj2" fmla="val 49995"/>
                <a:gd name="adj3" fmla="val 50000"/>
              </a:avLst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</p:cxnSp>
      </p:grpSp>
      <p:grpSp>
        <p:nvGrpSpPr>
          <p:cNvPr id="68" name=""/>
          <p:cNvGrpSpPr/>
          <p:nvPr/>
        </p:nvGrpSpPr>
        <p:grpSpPr>
          <a:xfrm>
            <a:off x="5257800" y="762120"/>
            <a:ext cx="3274920" cy="2235240"/>
            <a:chOff x="5257800" y="762120"/>
            <a:chExt cx="3274920" cy="2235240"/>
          </a:xfrm>
        </p:grpSpPr>
        <p:sp>
          <p:nvSpPr>
            <p:cNvPr id="69" name=""/>
            <p:cNvSpPr/>
            <p:nvPr/>
          </p:nvSpPr>
          <p:spPr>
            <a:xfrm>
              <a:off x="6427800" y="2198520"/>
              <a:ext cx="2104920" cy="7988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Texto completo</a:t>
              </a:r>
              <a:br>
                <a:rPr sz="1600"/>
              </a:b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SciE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0" name=""/>
            <p:cNvCxnSpPr>
              <a:stCxn id="67" idx="2"/>
              <a:endCxn id="69" idx="0"/>
            </p:cNvCxnSpPr>
            <p:nvPr/>
          </p:nvCxnSpPr>
          <p:spPr>
            <a:xfrm flipH="1" rot="16200000">
              <a:off x="5650920" y="368640"/>
              <a:ext cx="1437120" cy="2223360"/>
            </a:xfrm>
            <a:prstGeom prst="curvedConnector5">
              <a:avLst>
                <a:gd name="adj1" fmla="val 49937"/>
                <a:gd name="adj2" fmla="val 49991"/>
                <a:gd name="adj3" fmla="val 49937"/>
              </a:avLst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</p:cxnSp>
      </p:grpSp>
      <p:grpSp>
        <p:nvGrpSpPr>
          <p:cNvPr id="71" name=""/>
          <p:cNvGrpSpPr/>
          <p:nvPr/>
        </p:nvGrpSpPr>
        <p:grpSpPr>
          <a:xfrm>
            <a:off x="1447920" y="3428640"/>
            <a:ext cx="3238560" cy="1219680"/>
            <a:chOff x="1447920" y="3428640"/>
            <a:chExt cx="3238560" cy="1219680"/>
          </a:xfrm>
        </p:grpSpPr>
        <p:sp>
          <p:nvSpPr>
            <p:cNvPr id="72" name=""/>
            <p:cNvSpPr/>
            <p:nvPr/>
          </p:nvSpPr>
          <p:spPr>
            <a:xfrm>
              <a:off x="1447920" y="4038480"/>
              <a:ext cx="274320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Referencias bibliográfica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con resum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" name=""/>
            <p:cNvCxnSpPr>
              <a:stCxn id="74" idx="2"/>
              <a:endCxn id="72" idx="0"/>
            </p:cNvCxnSpPr>
            <p:nvPr/>
          </p:nvCxnSpPr>
          <p:spPr>
            <a:xfrm rot="5400000">
              <a:off x="3447720" y="2800080"/>
              <a:ext cx="610200" cy="1867680"/>
            </a:xfrm>
            <a:prstGeom prst="curvedConnector5">
              <a:avLst>
                <a:gd name="adj1" fmla="val 50000"/>
                <a:gd name="adj2" fmla="val 49990"/>
                <a:gd name="adj3" fmla="val 50000"/>
              </a:avLst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</p:cxnSp>
      </p:grpSp>
      <p:grpSp>
        <p:nvGrpSpPr>
          <p:cNvPr id="75" name=""/>
          <p:cNvGrpSpPr/>
          <p:nvPr/>
        </p:nvGrpSpPr>
        <p:grpSpPr>
          <a:xfrm>
            <a:off x="304920" y="4647960"/>
            <a:ext cx="3276360" cy="1219320"/>
            <a:chOff x="304920" y="4647960"/>
            <a:chExt cx="3276360" cy="1219320"/>
          </a:xfrm>
        </p:grpSpPr>
        <p:sp>
          <p:nvSpPr>
            <p:cNvPr id="76" name=""/>
            <p:cNvSpPr/>
            <p:nvPr/>
          </p:nvSpPr>
          <p:spPr>
            <a:xfrm>
              <a:off x="304920" y="5181480"/>
              <a:ext cx="3276360" cy="6858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99"/>
                  </a:solidFill>
                  <a:latin typeface="Arial"/>
                </a:rPr>
                <a:t>Acceso a documento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99"/>
                  </a:solidFill>
                  <a:latin typeface="Arial"/>
                </a:rPr>
                <a:t>a través de fotocopias  - SCA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7" name=""/>
            <p:cNvCxnSpPr/>
            <p:nvPr/>
          </p:nvCxnSpPr>
          <p:spPr>
            <a:xfrm rot="5400000">
              <a:off x="1961640" y="4438440"/>
              <a:ext cx="533880" cy="953280"/>
            </a:xfrm>
            <a:prstGeom prst="curvedConnector5">
              <a:avLst>
                <a:gd name="adj1" fmla="val 50000"/>
                <a:gd name="adj2" fmla="val 49981"/>
                <a:gd name="adj3" fmla="val 50000"/>
              </a:avLst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</p:cxnSp>
      </p:grpSp>
      <p:grpSp>
        <p:nvGrpSpPr>
          <p:cNvPr id="78" name=""/>
          <p:cNvGrpSpPr/>
          <p:nvPr/>
        </p:nvGrpSpPr>
        <p:grpSpPr>
          <a:xfrm>
            <a:off x="3505320" y="761760"/>
            <a:ext cx="2514600" cy="2667240"/>
            <a:chOff x="3505320" y="761760"/>
            <a:chExt cx="2514600" cy="2667240"/>
          </a:xfrm>
        </p:grpSpPr>
        <p:sp>
          <p:nvSpPr>
            <p:cNvPr id="74" name=""/>
            <p:cNvSpPr/>
            <p:nvPr/>
          </p:nvSpPr>
          <p:spPr>
            <a:xfrm>
              <a:off x="3505320" y="2514600"/>
              <a:ext cx="2514600" cy="91440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000099"/>
                  </a:solidFill>
                  <a:latin typeface="Arial"/>
                </a:rPr>
                <a:t>Bases de datos:</a:t>
              </a:r>
              <a:br>
                <a:rPr sz="1600"/>
              </a:br>
              <a:r>
                <a:rPr b="1" lang="es-ES" sz="1600" spc="-1" strike="noStrike">
                  <a:solidFill>
                    <a:srgbClr val="000099"/>
                  </a:solidFill>
                  <a:latin typeface="Arial"/>
                </a:rPr>
                <a:t>Medline, Lilacs,</a:t>
              </a:r>
              <a:br>
                <a:rPr sz="1600"/>
              </a:br>
              <a:r>
                <a:rPr b="1" lang="es-ES" sz="1600" spc="-1" strike="noStrike">
                  <a:solidFill>
                    <a:srgbClr val="000099"/>
                  </a:solidFill>
                  <a:latin typeface="Arial"/>
                </a:rPr>
                <a:t>Cochrane, et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" name=""/>
            <p:cNvCxnSpPr>
              <a:stCxn id="67" idx="2"/>
            </p:cNvCxnSpPr>
            <p:nvPr/>
          </p:nvCxnSpPr>
          <p:spPr>
            <a:xfrm flipH="1">
              <a:off x="5104800" y="761760"/>
              <a:ext cx="153000" cy="1600920"/>
            </a:xfrm>
            <a:prstGeom prst="straightConnector1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</p:cxnSp>
      </p:grpSp>
      <p:graphicFrame>
        <p:nvGraphicFramePr>
          <p:cNvPr id="80" name=""/>
          <p:cNvGraphicFramePr/>
          <p:nvPr/>
        </p:nvGraphicFramePr>
        <p:xfrm>
          <a:off x="990720" y="3809880"/>
          <a:ext cx="495360" cy="106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3809880"/>
                    <a:ext cx="49536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82" name=""/>
          <p:cNvCxnSpPr>
            <a:stCxn id="74" idx="2"/>
            <a:endCxn id="61" idx="0"/>
          </p:cNvCxnSpPr>
          <p:nvPr/>
        </p:nvCxnSpPr>
        <p:spPr>
          <a:xfrm flipH="1" rot="16200000">
            <a:off x="5202720" y="2988000"/>
            <a:ext cx="762840" cy="1643760"/>
          </a:xfrm>
          <a:prstGeom prst="curvedConnector5">
            <a:avLst>
              <a:gd name="adj1" fmla="val 50000"/>
              <a:gd name="adj2" fmla="val 49989"/>
              <a:gd name="adj3" fmla="val 50000"/>
            </a:avLst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83" name=""/>
          <p:cNvCxnSpPr/>
          <p:nvPr/>
        </p:nvCxnSpPr>
        <p:spPr>
          <a:xfrm flipH="1" flipV="1" rot="5400000">
            <a:off x="6498000" y="2937240"/>
            <a:ext cx="1378800" cy="1294560"/>
          </a:xfrm>
          <a:prstGeom prst="curvedConnector5">
            <a:avLst>
              <a:gd name="adj1" fmla="val 49986"/>
              <a:gd name="adj2" fmla="val 49986"/>
              <a:gd name="adj3" fmla="val 49986"/>
            </a:avLst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grpSp>
        <p:nvGrpSpPr>
          <p:cNvPr id="84" name=""/>
          <p:cNvGrpSpPr/>
          <p:nvPr/>
        </p:nvGrpSpPr>
        <p:grpSpPr>
          <a:xfrm>
            <a:off x="2894400" y="4648320"/>
            <a:ext cx="4572720" cy="685800"/>
            <a:chOff x="2894400" y="4648320"/>
            <a:chExt cx="4572720" cy="685800"/>
          </a:xfrm>
        </p:grpSpPr>
        <p:sp>
          <p:nvSpPr>
            <p:cNvPr id="85" name=""/>
            <p:cNvSpPr/>
            <p:nvPr/>
          </p:nvSpPr>
          <p:spPr>
            <a:xfrm>
              <a:off x="4629600" y="5029200"/>
              <a:ext cx="283752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Portal de</a:t>
              </a:r>
              <a:r>
                <a:rPr b="1" lang="es-ES" sz="1600" spc="-1" strike="noStrike">
                  <a:solidFill>
                    <a:srgbClr val="000099"/>
                  </a:solidFill>
                  <a:latin typeface="Arial"/>
                </a:rPr>
                <a:t> revistas científica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" name=""/>
            <p:cNvCxnSpPr>
              <a:stCxn id="72" idx="2"/>
            </p:cNvCxnSpPr>
            <p:nvPr/>
          </p:nvCxnSpPr>
          <p:spPr>
            <a:xfrm flipH="1" rot="16200000">
              <a:off x="3533040" y="4009680"/>
              <a:ext cx="457920" cy="1734840"/>
            </a:xfrm>
            <a:prstGeom prst="curvedConnector2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</p:cxnSp>
      </p:grpSp>
      <p:grpSp>
        <p:nvGrpSpPr>
          <p:cNvPr id="87" name=""/>
          <p:cNvGrpSpPr/>
          <p:nvPr/>
        </p:nvGrpSpPr>
        <p:grpSpPr>
          <a:xfrm>
            <a:off x="2590920" y="5333760"/>
            <a:ext cx="3276000" cy="1447920"/>
            <a:chOff x="2590920" y="5333760"/>
            <a:chExt cx="3276000" cy="1447920"/>
          </a:xfrm>
        </p:grpSpPr>
        <p:sp>
          <p:nvSpPr>
            <p:cNvPr id="88" name=""/>
            <p:cNvSpPr/>
            <p:nvPr/>
          </p:nvSpPr>
          <p:spPr>
            <a:xfrm>
              <a:off x="2590920" y="6172200"/>
              <a:ext cx="2361960" cy="6094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Revistas electrónic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Acceso Libre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" name=""/>
            <p:cNvCxnSpPr/>
            <p:nvPr/>
          </p:nvCxnSpPr>
          <p:spPr>
            <a:xfrm rot="5400000">
              <a:off x="4834800" y="5516280"/>
              <a:ext cx="1215000" cy="849960"/>
            </a:xfrm>
            <a:prstGeom prst="curvedConnector5">
              <a:avLst>
                <a:gd name="adj1" fmla="val 108091"/>
                <a:gd name="adj2" fmla="val 50000"/>
                <a:gd name="adj3" fmla="val 108091"/>
              </a:avLst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</p:cxnSp>
      </p:grpSp>
      <p:grpSp>
        <p:nvGrpSpPr>
          <p:cNvPr id="90" name=""/>
          <p:cNvGrpSpPr/>
          <p:nvPr/>
        </p:nvGrpSpPr>
        <p:grpSpPr>
          <a:xfrm>
            <a:off x="5867280" y="5300640"/>
            <a:ext cx="3528720" cy="990360"/>
            <a:chOff x="5867280" y="5300640"/>
            <a:chExt cx="3528720" cy="990360"/>
          </a:xfrm>
        </p:grpSpPr>
        <p:sp>
          <p:nvSpPr>
            <p:cNvPr id="91" name=""/>
            <p:cNvSpPr/>
            <p:nvPr/>
          </p:nvSpPr>
          <p:spPr>
            <a:xfrm>
              <a:off x="6590880" y="5857920"/>
              <a:ext cx="2805120" cy="43308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Colección de las bibliotec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5" idx="2"/>
              <a:endCxn id="91" idx="1"/>
            </p:cNvCxnSpPr>
            <p:nvPr/>
          </p:nvCxnSpPr>
          <p:spPr>
            <a:xfrm flipH="1" rot="16200000">
              <a:off x="5842080" y="5325480"/>
              <a:ext cx="774720" cy="724320"/>
            </a:xfrm>
            <a:prstGeom prst="curvedConnector2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</p:cxnSp>
      </p:grpSp>
      <p:graphicFrame>
        <p:nvGraphicFramePr>
          <p:cNvPr id="93" name=""/>
          <p:cNvGraphicFramePr/>
          <p:nvPr/>
        </p:nvGraphicFramePr>
        <p:xfrm>
          <a:off x="1600200" y="6024600"/>
          <a:ext cx="890640" cy="833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0200" y="6024600"/>
                    <a:ext cx="89064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7604280" y="3313080"/>
            <a:ext cx="1311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086600" y="35053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238880" y="3276720"/>
            <a:ext cx="16765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99"/>
                </a:solidFill>
                <a:latin typeface="Arial"/>
              </a:rPr>
              <a:t>Biblioteca Cochr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09880" y="152280"/>
            <a:ext cx="2895840" cy="609840"/>
          </a:xfrm>
          <a:prstGeom prst="rect">
            <a:avLst/>
          </a:prstGeom>
          <a:solidFill>
            <a:srgbClr val="ffcc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Biblioteca Virtual en Salu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www.bvs.b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438280" y="2819520"/>
          <a:ext cx="890640" cy="833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2819520"/>
                    <a:ext cx="89064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8253360" y="5181480"/>
          <a:ext cx="890640" cy="833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253360" y="5181480"/>
                    <a:ext cx="89064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8253360" y="3657600"/>
          <a:ext cx="890640" cy="833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253360" y="3657600"/>
                    <a:ext cx="89064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6000840" y="836640"/>
            <a:ext cx="314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mplo de pesquisa na BV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3"/>
          <a:stretch/>
        </p:blipFill>
        <p:spPr>
          <a:xfrm>
            <a:off x="1908000" y="142920"/>
            <a:ext cx="1868760" cy="1773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6443640" y="2476440"/>
            <a:ext cx="576360" cy="5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971280" y="1628640"/>
            <a:ext cx="7770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Arial"/>
              </a:rPr>
              <a:t>Como surgiu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VS: um dos modelos mais avançados de gestão de informação e conhecimento científ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39640" y="62064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BVS -  Biblioteca Virtual em Saú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3716280"/>
            <a:ext cx="838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99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riação e desenvolvimento da Biblioteca Virtual e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Saúde caracteriza-se como o quarto período na evolução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 BIREME e do Sistema Regional significando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são de um modelo de cooperação técn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1660680"/>
            <a:ext cx="838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99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ratégia adotada pela BIREME para a promoção da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peração técnica em informação em sintonia com 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vo paradigma organizacional  e de tratamento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ção estabelecido pela Intern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09480" y="4572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que é a BIR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1251000"/>
            <a:ext cx="838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99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o Latino-Americano e do Caribe de Informação e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Ciências da Saúde – BIR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o especializado da OPAS de informação e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ciências da saú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468936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99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ão: contribuir  para o desenvolvimento da saú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talecendo e ampliando o fluxo de informação 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ências da saú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317808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99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i criada em 1967 através de um convênio entre 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Governo do Brasil e da OPAS  como Biblioteca Region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de Medic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09480" y="1522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VS -  Biblioteca Virtual em Saú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946080"/>
            <a:ext cx="8381880" cy="57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99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trajetória da BIREME – 4 grandes perío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967 – 1976: serviços da biblioteca regional de medicina com vistas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a responder  de modo prioritário às necessidades de acesso à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literatura científica das bibliotecas médicas da Região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977 – 1986: desenvolvimento da rede de bibliotecas na Região, em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busca da racionalização e uso compartilhado de suas coleções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e inicia do controle bibliográfico das revistas latino-americanas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reunidas na publicação Index Medicus Latino-Americ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982: Centro Latino-Americano e do Caribe de Informação em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Ciências da Saú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987 – 1997: desenvolvimento do Sistema Latino-Americano e do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Caribe de Informação em Ciências da Saúde, com a participação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ativa das bibliotecas e centros de documentação.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18:10:56Z</dcterms:created>
  <dc:creator>claudia.guzzo</dc:creator>
  <dc:description/>
  <dc:language>en-US</dc:language>
  <cp:lastModifiedBy>bireme</cp:lastModifiedBy>
  <dcterms:modified xsi:type="dcterms:W3CDTF">2003-07-13T06:52:17Z</dcterms:modified>
  <cp:revision>136</cp:revision>
  <dc:subject/>
  <dc:title>Estado actual de las instancias BVS países y temáticas </dc:title>
</cp:coreProperties>
</file>