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0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097680"/>
            <a:ext cx="9144000" cy="76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11280" y="1628280"/>
            <a:ext cx="792144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 Oficina de Gestão Arquivística de Documentos Digi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sília – DF,  22 a 25 de outubr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58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3. Definição do conjunto documental do MS que será objeto de estudo do Projeto InterPARES 3 – InterPARES/Team Bra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4. Contribuição ao Projeto InterPARES na aplicação dos conceitos definidos nas fases I e II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5. Garantir ações de sustentabilidade da execução e manutenção do Projeto InterPARES 3 no âmbito do 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6. Criar canais de comunicação entre os participantes do Team Brasil do Projeto InterPARE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over a transparência das ações institucionais por meio da gestão arquivística de documentos digit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erfeiçoar a gestão arquivística de doc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vorecer o processo decisório e a ação do controle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gurar a preservação do patrimônio arquivístico do Ministério da Saú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92720" y="216000"/>
            <a:ext cx="3816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549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liberações da II Oficina de Gestão Arquivística de Documentos Dig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492280"/>
            <a:ext cx="84247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pandir o sistema informatizado de protocolo e arquivo, em uso no MS, aos órgãos da esfera federal do SUS, para integrar as informações institucionais em saúde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216000"/>
            <a:ext cx="3816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1157400"/>
            <a:ext cx="856908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estruturar organizacionalmente os órgãos informais das unidades hospitalares do 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iar unidades de documentação e informação no âmbito das unidades descentralizadas do MS (núcleos estaduais, unidades hospitalares e unidades regionais da SV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92720" y="216000"/>
            <a:ext cx="3816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uscar formas que assegurem a sustentabilidade das ações de gestão arquivística de documentos por meio da ampliação de fontes de financiamento, de admissão e aperfeiçoamento de pess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iar instrumentos de divulgação de informação arquivística em saú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816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finir a Política de Informação Arquivística em Saú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vulgar a metodologia de gestão de documentos arquivísticos do MS, com o objetivo de sensibilizar os dirigentes, técnicos e gestores pú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816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8. Criar comissão permanente de estudos de atos normativos, padronização, normalização e acompanhamento dos documentos oficiais do 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816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9. Ampliação das atribuições da Comissão Permanente de Avaliação de Documentos Arquivísticos (CPADA), para definição de acesso aos documentos arquiví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0. Elaboração de manuais de gestão de documentos com os procedimentos de protocolo, arquivo e mudança de suporte (microfilmagem e digitalizaçã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1. Apresentação ao Conselho Nacional de Saúde do programa de gestão arquivística de documentos com o objetivo de propiciar o controle social, por meio do acesso às informações institucion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2. Celebração do Acordo de Cooperação Técnica entre o MS e o Arquivo Nacional para realizar estudo de caso em documentos arquivísticos digitais do MS no âmbito do Projeto Internacional de Pesquisa sobre a Autenticidade dos Documentos Digitais – InterPARES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57:54Z</dcterms:created>
  <dc:creator>ANDRÉA TORRICELI MARCOS CAMPOS</dc:creator>
  <dc:description/>
  <dc:language>en-US</dc:language>
  <cp:lastModifiedBy>Eliane</cp:lastModifiedBy>
  <dcterms:modified xsi:type="dcterms:W3CDTF">2007-10-25T16:58:18Z</dcterms:modified>
  <cp:revision>18</cp:revision>
  <dc:subject/>
  <dc:title>II OFICINA DE PERIÓDICOS INSTITUCIONAIS</dc:title>
</cp:coreProperties>
</file>