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1E79-559A-4577-9C3A-51C1E07FF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514600" y="412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9EF7-3EE3-4015-99C9-57131A8A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9456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08AD-79EC-464B-8DD2-C12A54CE9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856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288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51460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7856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84288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D10D-F381-4658-B84D-C6CD58107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9038-1F04-4CF1-B049-0606AD2A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B271-BC0D-4E0F-B42A-4E777DAD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3BDC-530D-4086-83BD-064CB123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F2A8-04EA-42BD-94CF-B5D6584A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DCB9-931D-4F00-B93D-3104D0B3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304560"/>
            <a:ext cx="6477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F846-3CAA-45C5-AF54-FAF1C896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32E6-3DE8-40B8-9FF8-67827519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C9E7-661B-42DC-9544-B0C99067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9456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49E5-827D-44C3-B661-D7ABD0FB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676E-7869-4EC4-B19E-3B54B8C9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14600" y="412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3863-4320-4C28-B453-B13AE09F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9456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0B23-E216-4591-8897-2306D49D6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856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4288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51460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7856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84288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B21E-FC9C-4B82-9795-12B5BC4F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316D-E041-4556-9829-24186C52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36F4-D5F1-4E0D-A8EA-8CCC3361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822F-051E-4A86-AAFC-F560544A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38280" y="304560"/>
            <a:ext cx="6477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D3B0-8D38-44A7-ACEB-14531E05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2C62-6F1A-4E60-BD37-EAAFC9C9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9456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C670-DACA-417B-B021-678E7078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2613-62C4-4EEA-8E35-E6609F11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095880"/>
            <a:ext cx="19047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7482-5F61-4BD3-A32B-186703F7F1F8}" type="datetime">
              <a:rPr b="0" lang="pt-BR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09588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7C12-B7D1-4D66-B8B3-C860B2551E1C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600"/>
            <a:ext cx="6399360" cy="170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095880"/>
            <a:ext cx="19047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0F4D-D94C-48E9-AB8B-ECB688E4872E}" type="datetime">
              <a:rPr b="0" lang="pt-BR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09588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46EF-A231-4A34-A6FA-C94CFB936D76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4640" y="94428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Arial Narrow"/>
              </a:rPr>
              <a:t>INSTRUÇÃO NORMATIVA DO MINISTÉRIO DA SAÚD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455640" y="4508280"/>
            <a:ext cx="521964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Brush Script MT"/>
              </a:rPr>
              <a:t>Ana Lúcia Basilio de Oliveira Sil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Brush Script MT"/>
              </a:rPr>
              <a:t>Chefe da Divisão de Documentos Arquivíst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Brush Script MT"/>
              </a:rPr>
              <a:t>ARQUIVO/CGD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Brush Script MT"/>
              </a:rPr>
              <a:t>23/10/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B801-F043-48DB-B27C-4443B9275A5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AD10194-7BCB-4A21-B36C-90835D8A11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26920" y="2628720"/>
            <a:ext cx="64767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cc"/>
                </a:solidFill>
                <a:latin typeface="Verdana"/>
              </a:rPr>
              <a:t>“</a:t>
            </a:r>
            <a:r>
              <a:rPr b="0" lang="pt-BR" sz="4800" spc="-1" strike="noStrike">
                <a:solidFill>
                  <a:srgbClr val="ffffcc"/>
                </a:solidFill>
                <a:latin typeface="Monotype Corsiva"/>
              </a:rPr>
              <a:t>É dever do Poder Público o controle das ações indispensáveis à adequada organização, preservação e guarda dos arquivos por ele gerados, viabilizando com isso a eficaz disseminação das informações nele contidas, garantindo o acesso pleno por parte do Estado e dos cidadãos”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ECB3-EE46-4097-B716-D264F52F3A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95C619-6F10-499C-975E-E35E0819F6D0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510920" y="836640"/>
            <a:ext cx="7404120" cy="518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A Instrução Normativa dispõe sobre as atividades de protocolo e arquivo, bem como sobre a capacitação de profissionais e à prestação de assistência técnica em gestão de documentos no âmbito das unidades organizacionais do MS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C32C-3F2D-40A0-85B2-E2B8E40C8B56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2FE658-8DAA-45C6-AF30-5D51CAC5ED12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Arial Narrow"/>
              </a:rPr>
              <a:t>Principais pontos da I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32000" y="116064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26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Arial"/>
              </a:rPr>
              <a:t>Recebimento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26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Arial"/>
              </a:rPr>
              <a:t>Registro;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26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Arial"/>
              </a:rPr>
              <a:t>Tramitação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26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Arial"/>
              </a:rPr>
              <a:t>Autuação de Documentos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26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Arial"/>
              </a:rPr>
              <a:t>Classificação de Documentos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26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Arial"/>
              </a:rPr>
              <a:t>Transferência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26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Arial"/>
              </a:rPr>
              <a:t>Eliminação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26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Arial"/>
              </a:rPr>
              <a:t>Mudança de Suporte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26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Arial"/>
              </a:rPr>
              <a:t>Capacitação e Assistência Técnica</a:t>
            </a: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47B3-B5F9-4173-8670-F995591D264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C80736-FB42-4268-BDF1-44D478B1F24D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08000" y="1521000"/>
            <a:ext cx="7453440" cy="436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Book Antiqua"/>
              </a:rPr>
              <a:t>Quem controla o presente, controla o passado, quem controla o passado controla o futuro.</a:t>
            </a:r>
            <a:br>
              <a:rPr sz="4000"/>
            </a:br>
            <a:br>
              <a:rPr sz="4000"/>
            </a:br>
            <a:r>
              <a:rPr b="1" lang="pt-BR" sz="4800" spc="-1" strike="noStrike">
                <a:solidFill>
                  <a:srgbClr val="ffffcc"/>
                </a:solidFill>
                <a:latin typeface="Brush Script MT"/>
              </a:rPr>
              <a:t>                       </a:t>
            </a:r>
            <a:r>
              <a:rPr b="1" lang="pt-BR" sz="3200" spc="-1" strike="noStrike">
                <a:solidFill>
                  <a:srgbClr val="ffffcc"/>
                </a:solidFill>
                <a:latin typeface="Book Antiqua"/>
              </a:rPr>
              <a:t>George Orwell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320B-99D5-4162-8CFB-CD5252BAC96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C099F4-6F1A-4937-BEA5-5B087789BCE6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3440" y="182844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ffffff"/>
                </a:solidFill>
                <a:latin typeface="Brush Script MT"/>
              </a:rPr>
              <a:t>Obrigada!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016000" y="386028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nalu.basilio@saude.gov.b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lefones: 3315 288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ipar@saude.gov.b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C820-9837-45CE-8B73-4EE7D428BCB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CC93EA-0A50-4797-A6A7-182F18FA1BBF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cap</cp:lastModifiedBy>
  <dcterms:modified xsi:type="dcterms:W3CDTF">2007-10-22T16:15:07Z</dcterms:modified>
  <cp:revision>3</cp:revision>
  <dc:subject/>
  <dc:title>Apresentação do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6</vt:r8>
  </property>
  <property fmtid="{D5CDD505-2E9C-101B-9397-08002B2CF9AE}" pid="3" name="Version">
    <vt:r8>3</vt:r8>
  </property>
</Properties>
</file>