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acombe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<Relationship Id="rId64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06-07-27T14:48:25.065000000" idx="1">
    <p:pos x="5238" y="231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1B0-AC0E-42D1-A5AB-2847133CAA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trustworthiness of a record as a record; i.e., the quality of a record that is what it purports to be and that is free from tampering or corru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trustworthiness of a record as a record; i.e., the quality of a record that is what it purports to be and that is free from tampering or corru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trustworthiness of a record as a record; i.e., the quality of a record that is what it purports to be and that is free from tampering or corrup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Recomendações do artigo “How to preserve digital record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rma fixa significa que toda vez que o documento é visualizado, possui a mesma aparência e o mesmo conteú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 documento arquivístico tem um suporte, uma forma e um conteúdo estáve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s the record of this Case Study affixed to a medium?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documento participa de uma ação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, seja como registro dos procedimentos ou parte de um processo de tomada de dec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 documento arquivístico é resultado (by product) de uma aç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What action does the record of this Case Study participate 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documento arquivístico tem que possuir relação orgânica (archival bond) =&gt; são as relações que ligam cada documento arquivístico de forma incremental ao anterior e posterior e a todos que participam da mesma 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 relação é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da na origem - (i.e. existe apartir do momento que o documento é produzido ou recebido e mant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cessária -  (i.e., existe para todos os documentos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terminada (i.e., é caracterizada pelo objetivo documento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as the record of this Case Study been set aside and linked to the other records in its aggrega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Un documento archivístico electrónico debe t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– persona com autoridade para produzir lo docu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Destinatario -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 persona a quien el documento é dirigido, no es necesariamente para quien el documento es envi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Escritor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– pessoa responsável pela articulação da escri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x.: autor: persona jurídica/ empresa , escritor: funcionario da empres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ex.: autor: director , escritor: persona que escribe e firma en lugar del director, con autoriz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PODE TER TAMBÉM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Criador/productor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– fundo al qual el documento perte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2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 – la persona a la que se asigna la dirección electrónica en la que el documento ha sido generedo y/o enviado – esta és la persona que tien responsbilidad juridica/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CONTEX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O contexto é a infra-estrutura em que está inserida a ação na qual o documento é produzido/receb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exto docu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-se a código de classificação, guias, índices e outros instrumentos que  situam o documento dentro do conjunto a que pertence, ou seja, ao f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exto jurídico-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-se a leis e normas externas à instituição produtora de documentos as quais controlam a condução das atividades dessa mesma instituiçã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exto de proced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-se a normas internas que regulam a criação, tramitação, uso e arquivamento dos documentos da institui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exto de proveni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-se a organogramas, regimentos e regulamentos internos que identificam a instituição produtora de docu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texto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-se ao aparato tecnológico (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) que envolve o docu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le de acesso e uso: senhas, restriçõ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edimentos de backup, checksum, trilhas de auditor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so de midias confiáveis, refreshing, 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ção da forma documental para cada tipo de documento produzido pelo órgão: correspondencias, relatórios, formulário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É necessária a autenticação de documentos ou cópias para apresentação em processos ou para terceir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so existam múltiplas cópias do mesmo documento arquivísticos, o produtor estabelece procedimentos que identificam qual o ofi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authoritative record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é o documento considerado pelo criador como o documento oficial e normalmente sujeito a controles que não são requeridos para outras cópias. A identificação da “authoritative copy” corresponde a designação de um “Office of Primary Responsaility” como um dos componentes de uma tabela de temporalidade de documentos. O “Office of Primary Responsaility” é o setor para o qual foi designada a competência para manter o documento oficial (authoritative copie)pertencente a uma determinada classe dentro de um plano de classificação integrado a uma tabela de temporalidade. O objetivo de designar um “Office of Primary Responsbility” para cada classe é reduzir a duplicação e designar responsabilidade pelos docu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alguns casos pode haver várias “authoritative copy”  de um documento, dependendo do objetivo par o qual o documento foi cr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QUISITO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ando houver transferência ou recolhimento, envolvendo a remoção do documento arquivístico do SEGAD, o produtor deve definir e implementar procedimentos que determinem qual documentação tem de ser removida e transferida para p preservador junto com os docu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sitos que o preservador deve aplicar para manter a autenticidade dos documentos e para produzir cópias autêntica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isfação destes requisitos vai capacitar o preservador a certificar que as cópias dos documentos digitais são autênticos. No caso dos documentos digitais, as dificuldades relacionadas a preservação, tornam mais prudente que o preservador produza uma documentação relacionada à forma como os documentos foram mantidos ao longo do tempo e como foram reproduzidos para apoiar a atestação da autentic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testação de autenticidade é apoiada pela habilidade do preservador em demonstrar a satisfação aos requisitos para manutenção e para produção de cópias autent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currently addressed in the US context – nota do America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s documentos digitais são mais suscetíveis à corrupção que os documentos convencionais  – por outro lado a TI  oferece possibilidades para proteção sólida de sua integrida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ssas possibilidades de proteção da integridade são maiores quando os documentos estão confinados em um sistema específic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emplo de controle dos documentos em um sistem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ilha de auditoria para registrar toda e qualquer ação em um documento dentro do sistem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sistema pode ser projetado de forma que uma vez arquivado, o documento nunca é desarquivado (retirado), pois o usuário só tem acesso a cópias do docu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sistema pode impedir a alteração ou eliminação dos documentos, com exceção de pessoas autorizad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edimentos simples como armazenamento redundante e backup podem facilitar a restauração de qualquer alteração ou deleção/eliminação inapropriada/inde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Quando um documento é retirado dos sistema ou quando o sistema é modificado o controle sistemático fica sob risc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s documentos digitais são mais suscetíveis à corrupção que os documentos convencionais  – por outro lado a TI  oferece possibilidades para proteção sólida de sua integrida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ssas possibilidades de proteção da integridade são maiores quando os documentos estão confinados em um sistema específic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emplo de controle dos documentos em um sistem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ilha de auditoria para registrar toda e qualquer ação em um documento dentro do sistem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sistema pode ser projetado de forma que uma vez arquivado, o documento nunca é desarquivado (retirado), pois o usuário só tem acesso a cópias do docu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sistema pode impedir a alteração ou eliminação dos documentos, com exceção de pessoas autorizad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edimentos simples como armazenamento redundante e backup podem facilitar a restauração de qualquer alteração ou deleção/eliminação inapropriada/inde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Quando um documento é retirado dos sistema ou quando o sistema é modificado o controle sistemático fica sob risc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currently addressed in the US context – nota do America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guns esquemas que foram analisa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mentos de metadados do padrão Dublin C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coded Archival Description (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SAD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drão de metadados de RK Mines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drão de metadados do governo da Austrália (RK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gras de descrição arquivística do Canadá (uma das fontes da IS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VISÃO DE ENTRAR EM OPERAÇÃO EM JULH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térios para determinar os materiais que estão em maior situação de risco – como data ( data criação e dta de último acesso), sistema operacional, software, mídia , equipam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617-C03E-482D-ACC6-1324591E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449-AC6B-47B9-ADE0-B5E36B18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1A9-6928-4F5E-B527-FDAFFF5E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D38-80FD-40A1-B928-6DA0B00E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087-D1D6-4457-8CB6-0D62B0FE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DD4B-4CA6-446D-9DC7-F9F5A99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498F-91B7-43EA-9AF0-C574350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31E1-ED70-4786-82DC-6900D7D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3B5D-5352-40FA-ABE8-6FA8E02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14FE-09A2-4B3D-8C70-9465222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46F8-158C-46A9-8EBA-BBB67A3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814-C7C9-4D98-9309-887FE4D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8434-1999-4DE7-AF33-2C9C82A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5CFA-5382-4EC3-86AB-358ABD7A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D7E0-8E4A-463A-AB92-4D2457F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FCAB-CA5F-46AF-9FB6-61BE1896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904-4793-4894-A5CE-F0F60C0C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130-3550-4A09-A0AC-A943BC8F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1DE-2DB8-4A98-9D4D-36396298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9F7-ECBF-495C-8FC4-0D783B4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E31-CFA8-46B0-9F1A-0AEE998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B50-E32E-4543-A739-37784EC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A29-6351-4BD5-98BE-FE0DBE9C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602-8B46-4499-95EA-526493E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4B2-E3A1-4D87-8C57-4F92E933C6CB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360-99D0-43C6-A382-6B086E697FCA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mailto:lacombe@arquivonacional.gov.br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InterPARES</a:t>
            </a:r>
            <a:br>
              <a:rPr sz="5000"/>
            </a:b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35280" y="2060280"/>
            <a:ext cx="691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TIONAL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ARCH O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MANENT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HENTIC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RDS I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SQUISA INTERNACIONAL SOBRE DOCUMENTOS ARQUIVÍSTICOS AUTÊNTICOS EM SISTEMAS ELETRÔ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8480" y="2133720"/>
            <a:ext cx="965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981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LEMENTOS CONSTITUTIVOS DO DOCUMENTO ARQUIVÍS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3516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800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ção de anexos, urgente, ciente, arquive-se, número do protocolo, número do código de classificação,  data e hora da transmissão, data e hora do recebimento 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800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3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ídico-administrati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ocedimen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oveniê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3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981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LEMENTOS CONSTITUTIVOS DO DOCUMENTO ARQUIVÍS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557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060640"/>
            <a:ext cx="86756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xto jurídico-administra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fere-se a leis e normas externas à instituição produtora de documentos as quais controlam a condução das atividades dessa mesma institu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xto de procediment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fere-se a normas internas que regulam a criação, tramitação, uso e arquivamento dos documentos da institu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xto de proveniê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fere-se a organogramas, regimentos e regulamentos internos que identificam a instituição produtora de docu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xto documen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fere-se a código de classificação, guias, índices e outros instrumentos que situam o documento dentro do f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xto tecnológ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 aparato tecnológico (hardware e software) que envolve o docu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CONFIABILIDADE</a:t>
            </a:r>
            <a:r>
              <a:rPr b="1" lang="pt-BR" sz="23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UY" sz="23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liability</a:t>
            </a:r>
            <a:r>
              <a:rPr b="1" lang="es-UY" sz="23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capacidade de um documento sustentar os fatos que at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confiabilidade está relacionada ao conteúdo do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 documento arquivístico digital e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pletude da forma: elementos intrínsecos e anot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ntrole dos procedimentos de criação: quem cria e como c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AUTENTICIDA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fiabilidade de um documento arquivístico como tal, isto é, qualidade de um documento ser o que diz ser e que é livre de adulteração ou corrup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ARES Terminology Databa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3399"/>
                </a:solidFill>
                <a:latin typeface="Arial"/>
              </a:rPr>
              <a:t>Qualidade de um documento ser o que diz ser, independente de se tratar de minuta, original ou cópia, e que é livre de adulterações ou qualquer outro tipo de corrupção. </a:t>
            </a: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(CTDE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AUTENTICIDAD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avaliar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utenti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documento arquivístico digital há que se estabelecer su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ent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ementos que distinguem o documento arquivístico dos demais (elementos intrínsecos e anota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r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ocumento completo e não adult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o arquivístico digital autêntico e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da trans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da preser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AUTENTIC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 Ato ou efeito de atestar que um documento é verdadeiro ou que é uma cópia fiel do original, de acordo com as normas legais de valid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a autenticação é uma declaração de autenticidade em um determinado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Garamond"/>
              </a:rPr>
              <a:t>InterPARES 1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1</a:t>
            </a:r>
            <a:br>
              <a:rPr sz="3800"/>
            </a:b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00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os arquivísticos digitais “tradiciona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MÍNIOS DE PESQUI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enti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InterPARES 1 – Domínio Autenticidade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00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99"/>
                </a:solidFill>
                <a:latin typeface="Arial"/>
              </a:rPr>
              <a:t>Objetiv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requisitos conceituais para avaliar e manter a autenticidade dos documentos digi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99"/>
                </a:solidFill>
                <a:latin typeface="Arial"/>
              </a:rPr>
              <a:t>Produ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para análise diplomática dos documentos digitais (Template for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para apoiar a presunção de autenticidade dos documentos digitais (Benchm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para apoiar a produção de cópias autenticas de documentos digitais (Base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InterPARES 1 – Domínio Avaliação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00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tivo - Estud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nfluência da TI na aval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valiação de documentos digitais (responsabilidades, critérios, mo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sult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agem das funções de seleção de documentos digitais (metodologia IDEF(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ório – necessidade do monitoramento dos prazos de gua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ORIGEM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JETO DE UBC 1994 – 199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OBJETIVO GERAL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envolver o conhecimento teórico-metodológico essencial para a preservação de documentos arquivísticos digitais autêntic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FAS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PARES 1: 1999 – 200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PARES 2: 2002 – 200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InterPARES 1 – Domínio Preservação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0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tivo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princípios, critérios e responsabilidades, além de métodos, procedimentos e regras para a preservação de longo praz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os métodos de autenticação para documentos digitais preserv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InterPARES 1 – Domínio Preservação </a:t>
            </a: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00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sult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agem das funções de preservação de documentos digitais (metodologia IDEF(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o de caso ilustrando a aplicação do mo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ó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servação de documentos digitais envolve todo o ciclo de vida dos docu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ções para preservação de documentos digitais devem ser dinâmicas, isto é, acompanhar a evolução tecnológ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ções para preservação de documentos digitais não são puramente tecnológicas. Há que incorporar conceitos, princípios e práticas da arquivologia e da diplom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InterPARES 1 – Domínio Estratégia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0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sultado princip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ípios para conduzir as políticas, normas e estratégias de preservação de documentos arquivísticos digitais autên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7991280" cy="32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InterPARES 1</a:t>
            </a:r>
            <a:br>
              <a:rPr sz="4400"/>
            </a:br>
            <a:br>
              <a:rPr sz="3800"/>
            </a:b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Resultados Principais: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1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Template para análise diplomática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odelo para orientar a identificação dos documentos arquivísticos dig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Por esta análise é possível determinar se um determinado documento é um documento arquivístico ou n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documento arquivístico eletrônico de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 forma fixa e conteúdo está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cipar ou apoiar uma açã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 vínculos explícitos com os demais documentos produzidos/ acumulados pelo órgão, dentro ou fora do sistema informatiz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r  três pessoas envolvidas na ação: autor , destinatário e reda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* Pode incluir também: produtor e originad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r interpretado por meio de contextos identificáveis: jurídico- administrativo, de proveniência, de procedimentos, documental e tecnológ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2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equisitos conceituais para avaliar e manter a autenticidade dos documentos digitai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3628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.1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s para apoiar a presunção de autenticidade dos documentos dig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Requirements for supporting the presumption of authenticity of electronic record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2.2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s para apoiar a produção de cópias autênticas de documentos digitai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requirements supporting the production of authentic copies of electronic record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72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NÇÃO DE AUTENTICIDAD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inferência tirada do conhecimento sobre a maneira pela qual um documento arquivístico digital foi criado e man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esunção de autenticidade será baseada no número de requisitos atendidos e no grau em que foram atendidos. Quanto maior o número de requisitos atendidos e maior o grau em que cada requisito individual foi atendido, maior a presunção de autentic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es requisitos servem como base para o preserv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valiar a autentic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s documentos arquivísticos digitai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serem recolhi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poiar a presunção de autenticidade o preservador tem que obter evidências sobre os requisitos abaix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ão dos atributos e das relações do documento arquiv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ído em duas categori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112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r>
              <a:rPr b="0" lang="pt-BR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9999"/>
                </a:solidFill>
                <a:latin typeface="Arial"/>
              </a:rPr>
              <a:t>REQUISITO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dent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das pessoas envolvidas na criação do docum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o au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o reda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o originad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2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o destinat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 e hora da criação, da transmissão, do recebimento e do arquiv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ão da relação orgânica (código de classific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3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e anex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ttach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e do setor responsável pela execução da ação contida no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ção de an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o das migrações e data em que ocorre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3399"/>
                </a:solidFill>
                <a:latin typeface="Arial"/>
              </a:rPr>
              <a:t>PARTICIPAÇÃ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PARES 1: 13 países – 4 continentes – 60 pes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PARES 2: 21 países – 5 continentes – 100 pes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3399"/>
                </a:solidFill>
                <a:latin typeface="Arial"/>
              </a:rPr>
              <a:t>ÁREAS DO CONHECIMENTO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PARES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rquivologia, Administração, Direito, Ciência da computação, Metodologia da pesqui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terPARES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rquivologia, Administração, Direito, Ciência da computação, Artes (teatro, cinema, música, dança, fotografi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ções de acesso 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para prevenir, descobrir e corrigir perdas ou adulteração dos documen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s de preservação com relação à deterioração da mídia e obsolescência tecnológic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REQUISITO 5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elecimento da forma documental – indicação de normas e procedimentos que determinam a forma documen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1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R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esunção de autenticidade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os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9999"/>
                </a:solidFill>
                <a:latin typeface="Arial"/>
              </a:rPr>
              <a:t>REQUISITO 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ção de normas e meios utilizados pelo produtor ou acumulador para autenticação de docume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9999"/>
                </a:solidFill>
                <a:latin typeface="Arial"/>
              </a:rPr>
              <a:t>REQUISITO 7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ção da cópia oficial (authoritative reco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9999"/>
                </a:solidFill>
                <a:latin typeface="Arial"/>
              </a:rPr>
              <a:t>REQUISITO 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relevante sobre o sistema e os documentos devem acompanhar o documento arquivístico no momento da transferência ou recolh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Garamond"/>
              </a:rPr>
              <a:t>2.2</a:t>
            </a:r>
            <a:r>
              <a:rPr b="0" lang="en-US" sz="34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Requisitos para apoiar a </a:t>
            </a:r>
            <a:r>
              <a:rPr b="0" lang="pt-BR" sz="3400" spc="-1" strike="noStrike" u="sng">
                <a:solidFill>
                  <a:srgbClr val="003399"/>
                </a:solidFill>
                <a:uFillTx/>
                <a:latin typeface="Garamond"/>
              </a:rPr>
              <a:t>produção de cópias autênticas</a:t>
            </a:r>
            <a:r>
              <a:rPr b="0" lang="pt-BR" sz="3400" spc="-1" strike="noStrike">
                <a:solidFill>
                  <a:srgbClr val="003399"/>
                </a:solidFill>
                <a:latin typeface="Garamond"/>
              </a:rPr>
              <a:t> de documentos arquivísticos digitais</a:t>
            </a:r>
            <a:endParaRPr b="0" lang="en-US" sz="3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REQUISITO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ontroles sobre os documentos no recolhimento, manutenção e reproduçã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REQUISITO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ocumentação do processo de reprodução e seus efei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REQUISITO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Descrição arquivíst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para preservação de longo prazo de documentos digitai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bje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ar o desenvolvimento de políticas, estratégias e padrões para a preservação de longo prazo de documentos digitais com base em princípios e critérios pré-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ncípi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uma declaração conceitual derivada da observação dos fatos, que serve de base para uma ciência ou uma argument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itér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ormas que servem de base para seleções, julgamentos e definições de linhas de ação e condu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4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tar-se especificamente para documentos arquivísticos e não objetos digitais de forma genérica, isto é, devem tratar de documentos produzidos ou recebidos e mantidos no curso de uma atividade prá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alizar em documentos digitais autên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RINCÍPI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nhecer e tomar providências frente ao fato de que a autenticidade está em risco principalmente quando os documentos são transmitidos no espaço e n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ssão no espaço – quando são enviados entre pessoas, sistemas e apl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ssão no tempo – quando são armazenad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ffli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quando o hardware ou software utilizados para processar, transmitir ou manter os documentos são atualizados ou substituí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RITÉ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3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cetibilidade de corrupção dos documentos digitais maior que nos documentos conven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3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 =&gt; possibilidades para proteção sólida da integridade dos documento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lhas de auditor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sso a cópias – o original fica armazenado no repositór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obre alteração e elimin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pias de segurança -&gt; recuperar alterações e eliminações indev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RITÉRI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068640"/>
            <a:ext cx="3708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o retirado do sistema     ou          sistema mod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 sistemático da integridade fica sob ris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068640"/>
            <a:ext cx="38163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o confinado em um siste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or possibilidade de proteção da integ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5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3789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2852640"/>
            <a:ext cx="3313440" cy="1297080"/>
          </a:xfrm>
          <a:prstGeom prst="downArrowCallout">
            <a:avLst>
              <a:gd name="adj1" fmla="val 63869"/>
              <a:gd name="adj2" fmla="val 63863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2852640"/>
            <a:ext cx="3167280" cy="1440000"/>
          </a:xfrm>
          <a:prstGeom prst="downArrowCallout">
            <a:avLst>
              <a:gd name="adj1" fmla="val 54993"/>
              <a:gd name="adj2" fmla="val 54988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852640"/>
            <a:ext cx="3168720" cy="2089080"/>
          </a:xfrm>
          <a:prstGeom prst="downArrowCallout">
            <a:avLst>
              <a:gd name="adj1" fmla="val 37924"/>
              <a:gd name="adj2" fmla="val 37920"/>
              <a:gd name="adj3" fmla="val 16667"/>
              <a:gd name="adj4" fmla="val 66667"/>
            </a:avLst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2852640"/>
            <a:ext cx="3313080" cy="2089080"/>
          </a:xfrm>
          <a:prstGeom prst="downArrowCallout">
            <a:avLst>
              <a:gd name="adj1" fmla="val 39651"/>
              <a:gd name="adj2" fmla="val 39648"/>
              <a:gd name="adj3" fmla="val 16667"/>
              <a:gd name="adj4" fmla="val 66667"/>
            </a:avLst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49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hecer que a preservação de documentos digitais autênticos é u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sso contínu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 se inicia com a criação dos documentos e cujo objetivo é sua transmissão no espaço e n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3672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99"/>
                </a:solidFill>
                <a:latin typeface="Garamond"/>
              </a:rPr>
              <a:t>CLAID Team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360" y="2565360"/>
            <a:ext cx="849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PARTICIPANT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gentina, Brasil, Cuba, México e Pe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CATEGORI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sita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OBJETIV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seminar o InterPARES (conceitos, metodologia, resultados) nos países de língua espanhola e portugue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1341360"/>
            <a:ext cx="4681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Garamond"/>
              </a:rPr>
              <a:t>CARIBEAN  LATINAMERICA InterPARES DISSE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3336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Participação do BRASIL no InterPARE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9999"/>
                </a:solidFill>
                <a:latin typeface="Arial"/>
              </a:rPr>
              <a:t>PRINCÍPI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r baseada no conceito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fiab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a gestão e na preservação de documentos arquivísticos e especificamente nos conceitos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stema de gestão arquivística confiáve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usted record-keeping syst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no papel do preservador como um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rganização de custódia confiável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rusted custodia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RITÉ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de gestão arquivística confiável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njunto de regras que controlam a produção, a manutenção e o uso dos documentos do produtor. Essas regras apontam para uma provável autenticidade dos documentos que estão dentro do sist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ção de custódia confiável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reservador deve ser capaz de demonstrar que não tem motivo para alterar os documentos ou permitir que outros o façam e que é capaz de implementar todos os “Requisitos para apoiar a produção de cópias autêntica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confiável = isento, im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xplicitamente que todas as ações envolvidas no processo de preservação devem ser registradas como forma de proteger e estimar a autenticidade ao longo d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RITÉ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eservador deve documentar no míni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cedimentos do produtor para apoiar a presunção de autenticidade (Requisitos de presunção de autenticidad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cesso de recolhimento e manutenção dos documentos ao longo do tem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cedimentos de reprodução de cópias autênticas (Requisitos de reproduçã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496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uma clara diferença entre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servação da autenticid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documentos arquivísticos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entic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um documento arquiví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3.</a:t>
            </a: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pt-BR" sz="3600" spc="-1" strike="noStrike">
                <a:solidFill>
                  <a:srgbClr val="003399"/>
                </a:solidFill>
                <a:latin typeface="Garamond"/>
              </a:rPr>
              <a:t>Princípios e critérios </a:t>
            </a:r>
            <a:r>
              <a:rPr b="0" lang="pt-BR" sz="3200" spc="-1" strike="noStrike">
                <a:solidFill>
                  <a:srgbClr val="003399"/>
                </a:solidFill>
                <a:latin typeface="Garamond"/>
              </a:rPr>
              <a:t>(cont.)</a:t>
            </a:r>
            <a:br>
              <a:rPr sz="3200"/>
            </a:br>
            <a:br>
              <a:rPr sz="800"/>
            </a:b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Toda política, estratégia e padrão de preservação de documento arquivístico deve:</a:t>
            </a:r>
            <a:endParaRPr b="0" lang="en-US" sz="2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PRINCÍPIO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CRITÉ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ent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ção de autenticidade de um documento arquivístico em um determinado momento, por pessoa jurídica com autoridade para 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uma declaração oficial, na forma de palavras ou símbolos, acrescida ou inserida no documento para atestar que é autên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natura digi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dentifica o remetente e verifica que não houve alteração na trans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de apoiar a autenticação, mas não é suficiente para estabelecer a identidade  e demonstrar a integridade do documento ao longo d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3399"/>
                </a:solidFill>
                <a:latin typeface="Arial"/>
              </a:rPr>
              <a:t>OBJE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cumentos arquivísticos digitais dinâmicos, interativos e experienci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tura dos grupos de trabal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os de pesqu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s tranversa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600200"/>
          <a:ext cx="8291520" cy="2476440"/>
        </p:xfrm>
        <a:graphic>
          <a:graphicData uri="http://schemas.openxmlformats.org/drawingml/2006/table">
            <a:tbl>
              <a:tblPr/>
              <a:tblGrid>
                <a:gridCol w="2476440"/>
                <a:gridCol w="1959120"/>
                <a:gridCol w="1887480"/>
                <a:gridCol w="19684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idades art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idades cientif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ividades de gov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e manutenção de docu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enticidade, precisão e fidedign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íni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s de avaliação e preserv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68360" y="4149720"/>
          <a:ext cx="8280360" cy="201600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ag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é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Domínio Transversal de Terminologia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989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o – 669 ter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ionário – 669 ter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ário – 433 ter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Domínio Transversal de Descrição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98900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133720"/>
            <a:ext cx="8207280" cy="34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atividades de pesqui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adados do MCP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a dados de garantia liter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ção e especificação de ferrament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mendações e especificações para modelos de metadados de gestão e descrição arquiv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InterPARES</a:t>
            </a:r>
            <a:br>
              <a:rPr sz="5000"/>
            </a:br>
            <a:br>
              <a:rPr sz="5000"/>
            </a:b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Base Conceitual</a:t>
            </a:r>
            <a:br>
              <a:rPr sz="40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Garamond"/>
              </a:rPr>
              <a:t>Diplomática Arquivística Contemporânea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Domínio Transversal de Descrição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98900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557360"/>
            <a:ext cx="84247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AD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s de Dados - U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mas de metadados de gestão e padrões de descrição arquiv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75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s de metadados  / elementos de descri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ali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esquemas de meta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ação dos esquemas/padrões como padrões utilizados para identificar quais metadados/descritores são cap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85000"/>
              </a:lnSpc>
              <a:spcBef>
                <a:spcPts val="75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O 2381 –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ords managements processes – metadata for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85000"/>
              </a:lnSpc>
              <a:spcBef>
                <a:spcPts val="75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pares: Benchmark e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85000"/>
              </a:lnSpc>
              <a:spcBef>
                <a:spcPts val="75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nash SPIRT RK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75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Domínio Transversal de Modelagem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98900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2276640"/>
            <a:ext cx="7489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modelos do ciclo de produção e preservação de documentos – IDEF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age Chain of Preservation - MCP Model (ciclo v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iness Process Model (records continu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Domínio Transversal de Modelagem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98900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7412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InterPARES 2</a:t>
            </a:r>
            <a:br>
              <a:rPr sz="3800"/>
            </a:b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Principais produtos 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70028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es de dados com gloss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delagem das funções de produção e preservação dos docu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DRA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para registro e análise de modelos de metadados e de descrição arquivíst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reator guideline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trizes para a produção de documentos arquivístico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eserver guidelin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diretrizes para a preservação de documentos arquivísticos dig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650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licy framework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incípios para orientar políticas de preservação de documentos arquivísticos dig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3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BJETIVO GERA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zir o corpo teórico e metodológico de preservação digital produzido nas duas primeiras fases em planos concretos de ação para conjuntos documentais mantidos por arquivos públicos e priv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ORDENAÇÃ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uciana Duranti – U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ÍCI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ubro de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M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ubro d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3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NTES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AM Áfr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Holanda e Bélg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TEAM Brasi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Itáli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AM Canad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Malási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AM Chin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Méxic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AM Cingapur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Noruega e Sué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AM Coréi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AM Reino Uni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STUDOS GER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ução da base de terminolog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e de referenci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STUDOS DE CA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9999"/>
                </a:solidFill>
                <a:latin typeface="Garamond"/>
              </a:rPr>
              <a:t>TEAM Brasil</a:t>
            </a:r>
            <a:br>
              <a:rPr sz="4200"/>
            </a:b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RE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uivo N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enação Geral de Gestão de Docu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ARCEIROS DE TES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ério da Saúd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rdenação de Arqu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âmara dos Deputados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Coordenação de Arqu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MP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istema de Arqu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egacia Legal - 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TEAM Brasil</a:t>
            </a:r>
            <a:br>
              <a:rPr sz="4200"/>
            </a:b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Resultados e produtos previstos: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íticas, estratégias e procedimentos para instituições arquivísticas ou programas de preserv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os de ação para os parceiros de tes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érios para determinar os materiais que estão e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ior situação de ris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ing de obsolescência tecnológ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os de custo-benefício para vários tipos de instituições arquivísticas e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1100"/>
              </a:spcBef>
              <a:buClr>
                <a:srgbClr val="4c6d4e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ódulos de treinamento para arquivistas e outros profissionais a respeito de preservação de documentos arquivísticos digi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Muito obrigada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lacombe@arquivonacional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DOCUMENTO ARQUIVÍSTICO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o produzido ou recebido e mantido no curso de uma atividade pr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he InterPARES Glossary,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3399"/>
                </a:solidFill>
                <a:latin typeface="Arial"/>
              </a:rPr>
              <a:t>É o documento produzido e recebido por uma pessoa física ou jurídica, no decorrer das suas atividades, qualquer que seja o suporte, e dotado de organicidade.  </a:t>
            </a: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(CTDE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DOCUMENTO ARQUIVÍSTICO</a:t>
            </a:r>
            <a:r>
              <a:rPr b="1" lang="pt-BR" sz="27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cu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formação registrada s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nform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onjunto de dados que visam ser comunicados no tempo e no espa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gistr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fixada num suporte e com uma forma prevista em regras pré-estabel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soa fís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qualquer ser humano capaz de atuar leg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ssoa juríd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grupos de seres humanos organizados de maneira a constituir uma instituição, uma comissão, um comitê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iv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ações que visam cumprir com determinad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ganicidade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ção que os documentos de um mesmo fundo tem uns com os ou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DOCUMENTO ARQUIVÍSTICO ELETRÔNICO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documento criado (produzido ou recebido e mantido) em formato eletrô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he InterPARES Glossary,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en-US" sz="2300" spc="-1" strike="noStrike">
                <a:solidFill>
                  <a:srgbClr val="009999"/>
                </a:solidFill>
                <a:latin typeface="Arial"/>
              </a:rPr>
              <a:t>DOCUMENTO ARQUIVÍSTICO (ELETRÔNICO) DIGI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2400" spc="-1" strike="noStrike">
                <a:solidFill>
                  <a:srgbClr val="003399"/>
                </a:solidFill>
                <a:latin typeface="Arial"/>
              </a:rPr>
              <a:t>É o </a:t>
            </a:r>
            <a:r>
              <a:rPr b="0" i="1" lang="pt-BR" sz="2400" spc="-1" strike="noStrike" u="sng">
                <a:solidFill>
                  <a:srgbClr val="003399"/>
                </a:solidFill>
                <a:uFillTx/>
                <a:latin typeface="Arial"/>
              </a:rPr>
              <a:t>documento arquivístico</a:t>
            </a:r>
            <a:r>
              <a:rPr b="0" i="1" lang="pt-BR" sz="2400" spc="-1" strike="noStrike">
                <a:solidFill>
                  <a:srgbClr val="003399"/>
                </a:solidFill>
                <a:latin typeface="Arial"/>
              </a:rPr>
              <a:t> codificado em dígitos binários, produzido, tramitado e armazenado por sistema computacional. </a:t>
            </a:r>
            <a:r>
              <a:rPr b="0" i="1" lang="pt-BR" sz="2000" spc="-1" strike="noStrike">
                <a:solidFill>
                  <a:srgbClr val="003399"/>
                </a:solidFill>
                <a:latin typeface="Arial"/>
              </a:rPr>
              <a:t>(CTDE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nterPARES – Base Conceitual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981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LEMENTOS CONSTITUTIVOS DO DOCUMENTO ARQUIVÍST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628640"/>
            <a:ext cx="849600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or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pel, magnético ou 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doc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2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lementos extrínse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2.1.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presentação geral: doc. textual, gráfico, imagético, sonoro o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os ao mesm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2.1.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presentação específica: tipo, tamanho e cor da fonte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sinatura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ink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logomarca 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2.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lementos intrínse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ata, local, criador (instituição), autor, assunto, destinatário, escritor, originador (e-mail) 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3:30:22Z</dcterms:created>
  <dc:creator>rosely</dc:creator>
  <dc:description/>
  <dc:language>en-US</dc:language>
  <cp:lastModifiedBy>lacombe</cp:lastModifiedBy>
  <dcterms:modified xsi:type="dcterms:W3CDTF">2007-10-23T14:40:31Z</dcterms:modified>
  <cp:revision>602</cp:revision>
  <dc:subject/>
  <dc:title>InterPARES O QUE É ?</dc:title>
</cp:coreProperties>
</file>