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B5C-AB19-4F39-8BBE-8ABB3D0E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880-1CB2-41CA-94EE-D6256186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2A1-6739-42E2-A3C8-E4F2C443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E45-AF5D-4879-86FD-50725034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AA3E-DFD8-4939-B694-B3FBD708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5383-0442-4514-BA80-7D505A7E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297D-958E-4D0D-B2B6-9A0EE53D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5C2A-FACC-452D-8787-57E9A33A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6FCD-CAAC-4944-9FB2-3803EE04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4BC9-2CFA-48B9-9076-8A2C0FCC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95B8-E5F5-4D63-AFE3-7C8182B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C46-83A8-4B3D-884F-558BC85D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648A-1641-4384-BDBC-8E803A0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3952-9B9C-4BBA-BC71-A7F97336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6C0E-7005-4653-8601-FA423E1C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06D9-A8DA-4FDA-8867-5033893E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5EE6-3F89-4A50-813C-A92997D3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AB2-1608-4287-AE91-8A2D741E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07E-CF35-49D0-AEF2-F5EA7CD9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60E-414C-4752-9FD8-0E86DB7C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E77-B97A-4933-AE44-89FD360D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CA8-05E5-42EC-B0B2-0413D37D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5EB-9F9A-46CD-9CB5-6967C1B6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118-22B2-46CF-B0C7-9A62D7CA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9A4-7823-48A3-9158-EC44B4610E5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6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609480" y="1447920"/>
            <a:ext cx="8077320" cy="152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>
            <a:hlinkClick r:id="" action="ppaction://hlinkshowjump?jump=firstslide"/>
          </p:cNvPr>
          <p:cNvSpPr/>
          <p:nvPr/>
        </p:nvSpPr>
        <p:spPr>
          <a:xfrm>
            <a:off x="6858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nextslide"/>
          </p:cNvPr>
          <p:cNvSpPr/>
          <p:nvPr/>
        </p:nvSpPr>
        <p:spPr>
          <a:xfrm>
            <a:off x="8534520" y="64771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A6BA-E437-42DB-BCBC-E16D0C10628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1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ourdes@power.ufscar.b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npq.br/plataformalattes/formpropostaunico1.htm" TargetMode="External"/><Relationship Id="rId2" Type="http://schemas.openxmlformats.org/officeDocument/2006/relationships/hyperlink" Target="http://www.cnpq.br/plataformalattes/formpropostaunico1.htm" TargetMode="External"/><Relationship Id="rId3" Type="http://schemas.openxmlformats.org/officeDocument/2006/relationships/hyperlink" Target="E:\..\..\..\LOURDES 2004\CURSO ELABORA&#199;&#195;O DE PROJETOS\FAPESP INFRA.pps" TargetMode="External"/><Relationship Id="rId4" Type="http://schemas.openxmlformats.org/officeDocument/2006/relationships/hyperlink" Target="E:\..\..\..\LOURDES 2004\CURSO ELABORA&#199;&#195;O DE PROJETOS\MINIST&#201;RIO DA CULTURA.pps" TargetMode="External"/><Relationship Id="rId5" Type="http://schemas.openxmlformats.org/officeDocument/2006/relationships/hyperlink" Target="E:\..\..\..\LOURDES 2004\CURSO ELABORA&#199;&#195;O DE PROJETOS\MINIST&#201;RIO DA CULTURA.pps" TargetMode="Externa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capes.gov.br/" TargetMode="External"/><Relationship Id="rId2" Type="http://schemas.openxmlformats.org/officeDocument/2006/relationships/hyperlink" Target="http://www.finep.gov.br/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npq.br/" TargetMode="External"/><Relationship Id="rId2" Type="http://schemas.openxmlformats.org/officeDocument/2006/relationships/hyperlink" Target="http://www.fapesp.br/" TargetMode="Externa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minc.gov.br/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E GESTÃO DE PROJETOS EM UNIDADES DE INFORMAÇÃ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3429000"/>
            <a:ext cx="3124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ff99"/>
                </a:solidFill>
                <a:latin typeface="Arial"/>
              </a:rPr>
              <a:t>LOURDES DE SOUZA MORA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eaeaea"/>
                </a:solidFill>
                <a:uFillTx/>
                <a:latin typeface="Arial"/>
                <a:hlinkClick r:id="rId1"/>
              </a:rPr>
              <a:t>lourdes@power.ufscar.b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ff99"/>
                </a:solidFill>
                <a:latin typeface="Arial"/>
              </a:rPr>
              <a:t>sibisc@saocarlos.sp.gov.b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JETO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685800" y="1676520"/>
            <a:ext cx="967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a menor unidade de atividade social ou econômica que pode ser planejada, analisada e administrada separadam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um empreendimento temporário realizado para criar um produto ou serviço sing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um problema programado para ser resolv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a formalização do que se pretende como resultado do problema na área de trabalho que precisa ser equacion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um trabalho ou um conjunto de atividades que tem começo, meio e fim, e é executado uma única vez, portanto não deve ser confundido com as atividades de rotina que são repetitivas e contínu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5257800"/>
            <a:ext cx="71629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Portan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um projeto deve ser elaborado para resolver problemas muito bem definidos, bem identificados e específic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600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DEFINI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é um empreendimento não repetitivo, caracterizado por uma seqüência clara e lógica de eventos, com início, meio e fim, que se destina a  atingir um objetivo claro e definido, sendo conduzido por pessoas dentro de parâmetros predefinidos de tempo, custo, recursos envolvidos e qualidade.”     Ricardo Viana Var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s de melhoria são condição para se manter a juventude e a vitalidade da organização” John Steinbe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racterísticas dos proje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Temporariedade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( todo projeto tem início, meio e fim muito bem definid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Individualidade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( todo projeto é único e tem um objetivo própr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utras característic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mpreendimento não repetitivo; seqüência clara e lógica de eventos;  objetivo claro e definido; conduzido por pesso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jetos utilizam recursos e parâmetros predefi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1828800"/>
            <a:ext cx="7902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0000"/>
                </a:solidFill>
                <a:uFillTx/>
                <a:latin typeface="Arial"/>
              </a:rPr>
              <a:t>TIPOLO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jetos podem ser elaborado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envolvimento de pesqui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mplantação de novos serviços e p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mplementação e melhoria de serviços e produtos já exist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dequação e modernização de infra-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pacitação ( bolsas, participação em even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todos eles podem ser formatados para a captação de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( internos e externos) ou podem ser somente ferramentas de planejamento e gestã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33520"/>
            <a:ext cx="2133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PROJE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ASES DE  UM PRO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Inici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dentificação e estruturação do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finidos a missão e objetivos do pro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lanej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dentificação  das estratégias de 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talhamento de recursos, custos, cronograma e equi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alização do planej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228600"/>
            <a:ext cx="813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PROJE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05120"/>
            <a:ext cx="8134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ASES DE UM PRO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companha a exec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põe mudanças e adequ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Final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valiação do executado e dos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stação de contas e relatórios de ativ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ADMINISTRAÇÃO POR PROJETO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DMINISTRAÇÃO POR PROJETOS  CONSISTE EM IDENTIFICAR PROBLEMAS DA ORGANIZAÇÃO COMO PASSÍVEIS DE SEREM RESOLVIDOS COMO SE FOSSEM PROJETOS, PODENDO EMPREGAR, ASSIM, TODAS AS FERRAMENTAS E PROCESSOS DESENVOLVIDOS E DE EFICIÊNCIA COMPROVADA EM PROJETOS DE EXTREMA COMPLEXIDADE”        Dalton. L. Valerian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JETOS: ELEMENTOS ESSENCIA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dentificação do proje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scrição da situação proble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posição dos Objetiv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finição das Met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lineamento de método, estratégias e procedimen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2819520"/>
            <a:ext cx="77724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JETOS: ELEMENTOS ESSENCIA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pecificação de cronogra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dentificação de recursos e cus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posição de monitoramento e avali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Definidos por Heloisa Lüch em seu livro Metodologia de Projetos, 200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EVANTAMENTO E IDENTIFICAÇÃO DO PROBL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hecimento da organiz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evantamento de dados e inform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dentificação dos pontos relevan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levância social, cultural, acadêmica, científica, econômic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E GESTÃO DE PROJETOS EM UNIDADES DE INFORMAÇÃ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529080" y="2304720"/>
            <a:ext cx="5386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JETOS - CONCEITOS GER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LABORAÇÃO E APRESENTAÇÃO DO PROJE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XECUÇÃO E CONCLUSÃO DO PROJE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QUESTÃO DO FINANCIAMENTO DE PROJE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234936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9720" y="285264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19112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510552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429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ESTRUTURA BÁSIC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1. introdu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2. 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3. justific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4. estratégias de ação ou memorial descri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5. orçam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6. cronograma físico financei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7. outras fontes de financiamento ou plano de  financiam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8. equi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9. cronograma de execu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10.referências bibliográf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 apresentação de projetos para as agências  ou instituições financiadoras é necessário, além da elaboração do projeto propriamente dito, preencher os  formulários de apresentação de propostas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0464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371600"/>
            <a:ext cx="8686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INTRODUÇÃ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em uma função didá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não  deve conter agradecimentos e comentários pesso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eve ter uma proposta clara do trabalho, não deixar como surpresa para o fim do pro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xplorar pontos importan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mportância do assunto ou do tóp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que se sabe sobre o assu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que não se sabe sobre o assun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s áreas controvertid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 natureza e a extensão da contribuição pretendi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dentificar a institui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5105520"/>
            <a:ext cx="6019560" cy="946440"/>
          </a:xfrm>
          <a:prstGeom prst="rect">
            <a:avLst/>
          </a:prstGeom>
          <a:solidFill>
            <a:srgbClr val="66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C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ixe para redigir a introdução no final do trabalh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ça a redação sempre na 3º pessoa, usando sujeito indeterminado. Use uma linguagem simples e clar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8380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STRUTURA BÁS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476280"/>
            <a:ext cx="77724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STRUTURA BÁS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676520"/>
            <a:ext cx="80010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OBJE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é o trabalho que se pretende realiz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é o resultado final que se deseja alcanç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é a descrição de um desempenh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não deve ser confundido com as ativ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tem sempre um verbo com um conteúdo e uma estratég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 objetivo geral pode ser complementado por objetivos específicos  que devem indicar partes do conteúdo do projeto deve co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76320" y="3809880"/>
            <a:ext cx="838224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 AÇÃO: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efinida por um verbo no infinito – implantar, criar, desenvolver, publicar, projetar, divulgar, construir, restaurar, transformar, preservar, modernizar, instalar, transferir, implementar, expor, e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O OBJETO: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sobre o qual a ação exerce e/ou da qual ele (objeto) resulta – acervo, arquivo, processo administrativo ou operacional, treinamento, programa, software, livro, exposição, e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REQUISITOS, RESTRIÇÕES OU CONDIÇÕES: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que complementam a ação e ou objeto – de desempenho, de tempo, de local, de qualidade, de quantidade, de áreas de aplicação, de tipos, e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imes New Roman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ESTRUTURA BÁ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76520"/>
            <a:ext cx="77724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EXEMPLO CLÁSSICO DE OBJETIVO CLARO E SIMP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bjetivo do Programa Espacial Norte-Americano - NA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COLOCAR UM HOMEM NA LUA ATÉ O FIM DA DÉCADA”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ção: </a:t>
            </a: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coloc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bjeto: </a:t>
            </a: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um ho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requisitos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e local -  </a:t>
            </a: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na lu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e tempo – </a:t>
            </a: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até o fim da déc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648320"/>
            <a:ext cx="6248520" cy="1189800"/>
          </a:xfrm>
          <a:prstGeom prst="rect">
            <a:avLst/>
          </a:prstGeom>
          <a:solidFill>
            <a:srgbClr val="66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C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ão utilizar verbos abertos a muitas interpretações como por exemplo  saber, conhecer, compreender, etc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s leis de incentivos fiscais o objetivo do projeto é o próprio produto cultural e a sua divulgação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imes New Roman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ESTRUTURA BÁ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304920" y="1600200"/>
            <a:ext cx="8458200" cy="33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JUSTIFIC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é o texto mais extenso do projeto, utilizar, portanto, todos os argumentos para convencer sobre o valor do trabalho e qualidade de ser exeqüível, demonstrando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 importância e a relevância do proje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 abrangência do assunto ou do objeto prop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 “porque”  do trabalh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s benefícios que o projeto pretende traz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s  resultados pretendi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 público alvo benefici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pode apresentar conceituação e um breve histórico sobre o tema ou assunto ( se houver necessida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referencial teórico  com citações também pode fazer parte da justifica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egislação: há projetos que podem ser fundamentados ou mesmo justificados com  base na legislação vig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952880"/>
            <a:ext cx="7086600" cy="7333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emplo: implantação de arquivos públicos municipais – fundamentado n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stituição Federal, na Lei de Responsabilidade Fiscal e na Lei de Arquivos, na Lei de Proteç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5867280"/>
            <a:ext cx="4800600" cy="733320"/>
          </a:xfrm>
          <a:prstGeom prst="rect">
            <a:avLst/>
          </a:prstGeom>
          <a:solidFill>
            <a:srgbClr val="66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C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ão se perca em exaltações inúteis – o projeto precisa ser fundamentado e não exal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838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STRATÉGIAS DE AÇÃO OU MEMORIAL DESCRI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190512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a forma de mostrar com clareza quais as atividades que serão      desenvolvidas para se obter os resultados propostos atingindo cada objetivo específ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o planejamento da realização de cada etapa do pro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requer o ordenamento das atividades práticas necessárias passo-a-pas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680000"/>
            <a:ext cx="6629400" cy="1189800"/>
          </a:xfrm>
          <a:prstGeom prst="rect">
            <a:avLst/>
          </a:prstGeom>
          <a:solidFill>
            <a:srgbClr val="66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C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étodo é um conjunto de etapas dispostas de maneira ordenada, a serem vencidas para atingir determinados objetivos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 que fazer – méto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o fazer - té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676520"/>
            <a:ext cx="8305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requer o estabelecimento das metas, atividades, indicadores 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xempl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Meta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disponibilizar acervo atualizado e ampliado em literatura brasileira clássica e contemporân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tividade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seleção do acervo a ser adquir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Descrição Da Atividade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serão selecionados por equipe especializada títulos de livros disponíveis no mercado livreiro nacional na área de literatura brasilei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Indicadores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serão selecionados 2.000 títulos de livros com indicação de prioridades de 1 a 3 para serem adquir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952880"/>
            <a:ext cx="8610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roduto é um bem ou um serviço criado pelo projeto. Pode s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teri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quipa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roces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forma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serviços, 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 combinação de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82224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STRATÉGIAS DE AÇÃO OU MEMORIAL DESCRI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8120" y="762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ORÇ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76520"/>
            <a:ext cx="7315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recursos solicitados por item de dispêndio ou alín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recursos de contrapartida da instituição por item de dispêndio ou alín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tens de dispên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usteio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terial de consu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iá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assag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nsul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serviços terceiros - P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serviços terceiros – P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apital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terial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quipa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reforma e construção civ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Bolsa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e vários t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181480"/>
            <a:ext cx="6629400" cy="1067400"/>
          </a:xfrm>
          <a:prstGeom prst="rect">
            <a:avLst/>
          </a:prstGeom>
          <a:solidFill>
            <a:srgbClr val="66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C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çamento não é simplesmente uma lista de preços de produtos e serviços. As agências financiadoras, geralmente, não apoiam a contratação de pessoal e serviços de manutençã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33720" y="8380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RONOGRAMA FÍSICO-FINANCEI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752480"/>
            <a:ext cx="82296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o detalhamento e o relacionamento entre as metas e atividades propostas e os recursos financeiros investid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tividade 05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aquisição e disponibilização de 2.000 volumes de livros da literatura brasileira no período de 12 me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28600" y="4038480"/>
            <a:ext cx="8534520" cy="1312200"/>
            <a:chOff x="228600" y="4038480"/>
            <a:chExt cx="8534520" cy="1312200"/>
          </a:xfrm>
        </p:grpSpPr>
        <p:sp>
          <p:nvSpPr>
            <p:cNvPr id="192" name=""/>
            <p:cNvSpPr/>
            <p:nvPr/>
          </p:nvSpPr>
          <p:spPr>
            <a:xfrm>
              <a:off x="228600" y="4038480"/>
              <a:ext cx="8534520" cy="1312200"/>
            </a:xfrm>
            <a:prstGeom prst="rect">
              <a:avLst/>
            </a:prstGeom>
            <a:solidFill>
              <a:srgbClr val="66ff66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tividade        Período      Quantidade    Custo instituição     Custo agência 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    To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    12 meses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2000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        25.400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         70.000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  95.400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" y="4503600"/>
              <a:ext cx="85345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6880" y="4046400"/>
              <a:ext cx="0" cy="12193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3280" y="4046400"/>
              <a:ext cx="0" cy="12193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05440" y="4046400"/>
              <a:ext cx="0" cy="12193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32720" y="4046400"/>
              <a:ext cx="0" cy="12193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71600" y="4046400"/>
              <a:ext cx="0" cy="12193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457200" y="2120760"/>
            <a:ext cx="8153280" cy="1828800"/>
            <a:chOff x="457200" y="2120760"/>
            <a:chExt cx="8153280" cy="1828800"/>
          </a:xfrm>
        </p:grpSpPr>
        <p:sp>
          <p:nvSpPr>
            <p:cNvPr id="201" name=""/>
            <p:cNvSpPr/>
            <p:nvPr/>
          </p:nvSpPr>
          <p:spPr>
            <a:xfrm>
              <a:off x="457200" y="2120760"/>
              <a:ext cx="8153280" cy="1797480"/>
            </a:xfrm>
            <a:prstGeom prst="rect">
              <a:avLst/>
            </a:prstGeom>
            <a:solidFill>
              <a:srgbClr val="ff0000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item           quantidade         unidade           preço          preço             fonte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unitário          to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aquisição                   2.000          volume                 35             70.000           agênc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process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técnico                       2.000          volume                 12,70        25.400         instituiçã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3301920"/>
              <a:ext cx="8153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2730240"/>
              <a:ext cx="8153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29000" y="2120760"/>
              <a:ext cx="0" cy="1828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00600" y="2120760"/>
              <a:ext cx="0" cy="1828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8880" y="2120760"/>
              <a:ext cx="0" cy="1828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3720" y="2120760"/>
              <a:ext cx="0" cy="1828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2120760"/>
              <a:ext cx="0" cy="1828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19520" y="7621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MEMÓRIA DE CÁLC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4419720"/>
            <a:ext cx="6858000" cy="1310760"/>
          </a:xfrm>
          <a:prstGeom prst="rect">
            <a:avLst/>
          </a:prstGeom>
          <a:solidFill>
            <a:srgbClr val="66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C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cronograma físico financeiro é utilizado pelas agências financiadoras como base para efetuar os desembolsos ( repasse de recursos financeiros). Algumas agências, como a fundação Vitae e FAPESP, exigem a memória de cálcul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00"/>
                </a:solidFill>
                <a:latin typeface="Arial"/>
              </a:rPr>
              <a:t>INTRODUÇÃO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69840" y="1699920"/>
            <a:ext cx="72741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Sociedade da Informação e seus novos paradigma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6160" y="2492280"/>
            <a:ext cx="6118200" cy="3870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51280" y="3500280"/>
            <a:ext cx="3673440" cy="360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4221000"/>
            <a:ext cx="3671640" cy="28764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05120" y="838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OUTRAS FONTES DE FINA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2133720"/>
            <a:ext cx="8305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um mesmo projeto pode ter várias fontes de financiamento, assim pode ter um plano de financi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uma informação que algumas agências podem solicitar ou n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istar apenas os recursos que efetivamente foram aprovados para 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09680" y="76212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QUIPE/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90512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istar todos os membros da equipe que irão atuar direta ou indiretamente n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ve conter: nome, titulação, área de atuação, cargo e função n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equipe deve ser adequada às atividades propostas no proje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lgumas agências solicitam anexar ao projeto uma cópia dos currículos dos coordenadores  d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tualmente é necessário cadastrar-se no sistema Lattes para apresentação de projetos financiados pelas agências federais (CNPq, CAPES, FINE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5029200"/>
            <a:ext cx="5486400" cy="1191240"/>
          </a:xfrm>
          <a:prstGeom prst="rect">
            <a:avLst/>
          </a:prstGeom>
          <a:solidFill>
            <a:srgbClr val="66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um dos critérios de avaliação da proposta: a capacidade e experiência da equipe para desenvolver e gerenciar o proje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81080" y="7621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RONOGRAMA DE EXECU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676520"/>
            <a:ext cx="8305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o relacionamento entre as atividades  e o período ( tempo) necessário para a execuçã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o resumo do planejamento de tempo investido para o desenvolvimento e conclusão do pro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 demonstração das etapas do trabalho  a ser desenvolvido com previsão de duração de cada uma as etapas ou as atividades são apresentadas em ordem cronológica e devem representar a metodologia de execução do pro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562720"/>
            <a:ext cx="6934320" cy="824040"/>
          </a:xfrm>
          <a:prstGeom prst="rect">
            <a:avLst/>
          </a:prstGeom>
          <a:solidFill>
            <a:srgbClr val="66ff6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CA:     o não cumprimento dos prazos estabelecidos pode colocar em risco o projeto, principalmente se houver prazos para a aplicação dos recursos repass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19320" y="3581280"/>
            <a:ext cx="6629400" cy="1966320"/>
            <a:chOff x="1219320" y="3581280"/>
            <a:chExt cx="6629400" cy="1966320"/>
          </a:xfrm>
        </p:grpSpPr>
        <p:sp>
          <p:nvSpPr>
            <p:cNvPr id="223" name=""/>
            <p:cNvSpPr/>
            <p:nvPr/>
          </p:nvSpPr>
          <p:spPr>
            <a:xfrm>
              <a:off x="1219320" y="3581280"/>
              <a:ext cx="6629400" cy="1966320"/>
            </a:xfrm>
            <a:prstGeom prst="rect">
              <a:avLst/>
            </a:prstGeom>
            <a:solidFill>
              <a:srgbClr val="ff0000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ATIVIDADES                                                   ME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</a:t>
              </a: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1     2     3     4     5     6     7     8     9     10     11     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seleção                             X     X    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aquisição                                              X     X    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processamento                                                         X     X     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divulgação                                                                                       X                  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avaliação</a:t>
              </a: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                       X      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3616200"/>
              <a:ext cx="0" cy="171756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9320" y="4873320"/>
              <a:ext cx="6629400" cy="3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9320" y="4644720"/>
              <a:ext cx="6629400" cy="3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19320" y="4431960"/>
              <a:ext cx="6629400" cy="3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4190760"/>
              <a:ext cx="6629400" cy="3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3873240"/>
              <a:ext cx="6629400" cy="3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5101920"/>
              <a:ext cx="6629400" cy="3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905120" y="8380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REFERÊ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828800"/>
            <a:ext cx="8305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a relação de todas as fontes de informação registrada utilizadas na elaboração do pro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eve ser utilizada a NBR 6023 da ABNT – Associação Brasileira de Normas Técnicas - para a elaboração das referências bibliográf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ode ser apresentada em ordem alfabética de sobrenome do autor ou ordem numérica como aparecem citadas no tex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4495680"/>
            <a:ext cx="6553440" cy="1310760"/>
          </a:xfrm>
          <a:prstGeom prst="rect">
            <a:avLst/>
          </a:prstGeom>
          <a:solidFill>
            <a:srgbClr val="66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C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projetos que apresentam referências bibliográficas aparentam ter mais consistência na sua proposta, pois há sempre um referencial teórico que sustenta as proposições e as considerações sobre o tema ou assunto.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LABOR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55640" y="476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PRESENT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1905120"/>
            <a:ext cx="7925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usca de apoio financei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terno: na própria institu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xterno: identificar a agência ou a instituição externa que poderá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inanciar o projeto, levando em consideração – tipo de proposta e os itens financiáv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37702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ditais de chama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1752480"/>
            <a:ext cx="79250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MOS DE REFERÊ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s termos de referência de um projeto de pesquisa correspondem a uma comunicação por escrito a respeito do se pretende faz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s termos de referência de um projeto de forma mais ampla correspondem a comprovação da competência da instituição e/ou do autor/coordenador para o desenvolvimento do pro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na maioria dos editais termo de referência refere-se ao perfil do candidato ( pessoa ou instituição) à apresentação da proposta, como por exempl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ser instituição pública de pesquisa do Estado de São Pau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ser professor doutor com cadastro no Sistema Lat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ferecer cursos de pós-graduação com conceito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é uma carta de intenções ou uma confirmação de competê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685800"/>
            <a:ext cx="67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PRESENTAÇÃ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1905120"/>
            <a:ext cx="76201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mulários eletrô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eaeaea"/>
                </a:solidFill>
                <a:uFillTx/>
                <a:latin typeface="Arial"/>
                <a:hlinkClick r:id="rId1"/>
              </a:rPr>
              <a:t>CNPQ  - Plataforma </a:t>
            </a:r>
            <a:r>
              <a:rPr b="0" lang="pt-BR" sz="24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Lat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os formulár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eaeaea"/>
                </a:solidFill>
                <a:uFillTx/>
                <a:latin typeface="Arial"/>
                <a:hlinkClick r:id="rId3"/>
              </a:rPr>
              <a:t>FAPE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eaeaea"/>
                </a:solidFill>
                <a:uFillTx/>
                <a:latin typeface="Arial"/>
                <a:hlinkClick r:id="rId4"/>
              </a:rPr>
              <a:t>MinC</a:t>
            </a:r>
            <a:r>
              <a:rPr b="0" lang="pt-BR" sz="2400" spc="-1" strike="noStrike" u="sng">
                <a:solidFill>
                  <a:srgbClr val="eaeaea"/>
                </a:solidFill>
                <a:uFillTx/>
                <a:latin typeface="Arial"/>
                <a:hlinkClick r:id="rId5"/>
              </a:rPr>
              <a:t>/PRONAC/F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83664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PRESENTAÇÃO DE PROJ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11280" y="8366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EXECUÇÃO E CONCLUSÃO DO PRO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676520"/>
            <a:ext cx="7848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Prestação de Co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ada instituição financiadora tem suas normas e proc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há prazos estipulados para a apresentação de contas – individual ou institu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Relatório de Atividades ou Relatório Técnico Parcial ou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há formatos eletrônicos para relatórios técnicos (CNPQ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eve contar as seguintes par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identific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introdu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metas alcançadas e metas reprogram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equipamentos aprov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valiação de desempenho financei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resultados alcançados , com indicadores de desempen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equi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onsiderações finais ( principais problemas encontrados na execução e expectativas alcançad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533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 QUESTÃO DO FINANCIAMENT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600200"/>
            <a:ext cx="8458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FINANCIAMENTO PODE SER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terno: a própria institui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xterno: agências e instituições financiadoras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POIADORES E OU FINANCIADORES DE PROJE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stituições e agências governament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APES, CNPQ, FINEP,FAPE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i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rganismos nacionais e internacion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undação Abrinq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undação Airton Senna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mpresas privadas e estat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etrobrás, Caixa Econômica Federal, Nestl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essoas fí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ff66"/>
                </a:solidFill>
                <a:latin typeface="Arial"/>
              </a:rPr>
              <a:t>ABC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ff66"/>
                </a:solidFill>
                <a:latin typeface="Arial"/>
              </a:rPr>
              <a:t>ASSOCIAÇÃO BRASILEIRA DE CAPTADORES DE 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www.abcr.com.b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62120" y="533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 QUESTÃO DO FINANCIAMENT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76520"/>
            <a:ext cx="83059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PROGRAMAS DE FINANCIAMENTOS DE PROJ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alcão – fluxo contínu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hamada – publicação de ed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sulta prévia – proposta preli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533520" y="1600200"/>
            <a:ext cx="9677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RGANIZAÇÃO DEPARTAM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ênfase na supremacia do órg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pouca atenção às pesso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conhecida também como funcional ou form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baseada na divisão social do trabalho por categorias, especializações ou fun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6320" y="533412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5720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 NOVO MODELO DE ADMINISTRAÇÃO 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NOVAS FORMAS DE ORGAN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7724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3520" y="1752480"/>
            <a:ext cx="8229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ANDIDATOS AO FINANCI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stituições de ensino e pesquisa (públicas e privad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stituições cultur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mpresas priv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erceiro se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essoas físicas ( pesquisadores, intelectuai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MODALIDADES DE FINANCI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oio financeiro não-reembolsável (por exemplo para instituições públicas de pesqui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oio financeiro reembolsável ( por exemplo para empresas privadas desenvolver um novo produt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MODALIDADES DE CONTRATAÇÃO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stitucional: o termo do convênio é estabelecido com a própria instituição ou fundação de apo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dividual: o termo do convênio é estabelecido com a pessoa fís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533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 QUESTÃO DO FINANCIAMENTO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-228600" y="1981080"/>
            <a:ext cx="906768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A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ordenação de Aperfeiçoamento de Pessoal de Nível Superior do Ministério da Educ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m o objetivo de apoiar os cursos de pós-graduação no país e suporte para a qualificação de doc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 u="sng">
                <a:solidFill>
                  <a:srgbClr val="eaeaea"/>
                </a:solidFill>
                <a:uFillTx/>
                <a:latin typeface="Arial"/>
                <a:hlinkClick r:id="rId1"/>
              </a:rPr>
              <a:t>www.capes.gov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FIN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inanciadora de Estudos e Projetos do Ministério da Ciência e Tecnolo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m como objetivo promover o desenvolvimento tecnológico e a inovação no país em consonância com as metas e prioridades pelo governo fed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www.finep.gov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533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POIADORES E FINANCIADORES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533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POIADORES E FINANCIADORES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828800"/>
            <a:ext cx="76201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NP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elho Nacional de Desenvolvimento Científico e Tecnoló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sua missão é promover o desenvolvimento científico e tecnológico do país e contribuir na formulação de políticas nacionais de ciência e tecnolog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 u="sng">
                <a:solidFill>
                  <a:srgbClr val="eaeaea"/>
                </a:solidFill>
                <a:uFillTx/>
                <a:latin typeface="Arial"/>
                <a:hlinkClick r:id="rId1"/>
              </a:rPr>
              <a:t>www.cnpq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FAPE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dação de Amparo á Pesquisa do Estado de São Pa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m como objetivo apoiar o desenvolvimento das atividades de pesquisas do Estado de São Pa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grama específico de infra-estrutura em vários módulos: bibliotecas, arquivos, mus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www.fapesp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POIADORES E FINANCIADORES DE PROJETOS</a:t>
            </a: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MPRESAS PRIVADAS E ESTATA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ograma Petrobrás Cultu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reservação e memó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atrimônio imater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emória e ar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poio a museus, arquivos e bibliote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ograma Caixa de Adoção de Entidades Cultur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cervos de relevância 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cuperação e disponibiliz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quis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esquisa, catalogação e informatização de acer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62120" y="228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POIADORES E FINANCIADORES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700280"/>
            <a:ext cx="830592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i de Incentivo à Cultura ou aLei Rouanet Lei nº 8.313/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ONAC – PROGRAMA NACIONAL DE APOIO À C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ecen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pção de pessoas físicas ou  jurídicas de aplicarem parcelas do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mposto de renda em projetos culturais aprovados de acordo com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s diretrizes do PRON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essoas físicas 6% do imposto dev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essoas jurídicas 4% do imposto dev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s projetos podem ser apresentados a qualquer época do 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azo de 60 dias para análise e divulgação dos resul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692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MINISTÉRIO DA CU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APOIADORES E FINANCIADORES DE PROJETOS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MINISTÉRIO DA CULTURA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FNC – FUNDO NACIONAL DE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inancia projetos para a preservação e proteção do patrimônio cultural e histórico brasileiro, financia até 80% do total do proj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DOAÇÃO É DIFERENTE DE PATROCÍNI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oação: a fundo perdido, sem contrapartida e retorno para o doad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atrocínio: tem contrapartida e condições para receber e empregar os recurs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eaeaea"/>
                </a:solidFill>
                <a:uFillTx/>
                <a:latin typeface="Arial"/>
                <a:hlinkClick r:id="rId1"/>
              </a:rPr>
              <a:t>www.minc.gov.b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66ff66"/>
                </a:solidFill>
                <a:latin typeface="Arial"/>
              </a:rPr>
              <a:t>projeto@minc.gov.b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2120" y="533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POIADORES E FINANCIADORES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981080"/>
            <a:ext cx="84582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GISLAÇÃO DE INCENTIVOS FISC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LEI ROUANET Nº 8.313 DE 23/12/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stabelece  princípios da Lei nº 7.505 de 02 de julho de 198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stitui o Programa Nacional de Apoio à Cultu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PORTARIA Nº 46 DE 13/03/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isciplina a lei Roua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isciplina a elaboração, a formalização, a apresentação e a análise de projetos culturais, artísticos e audio-visu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PORTARIA Nº 180 DE 18/06/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isciplina a Lei Roua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58920" y="3284640"/>
            <a:ext cx="65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99"/>
                </a:solidFill>
                <a:latin typeface="Arial"/>
              </a:rPr>
              <a:t>LOURDES DE SOUZA MOR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99"/>
                </a:solidFill>
                <a:latin typeface="Arial"/>
              </a:rPr>
              <a:t>lourdes@power.ufscar.b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 NOVO MODELO DE ADMINISTRAÇÃO e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NOVAS FORMAS DE ORGANIZAÇÃ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ORGANIZAÇÃO DEPARTAMENTAL</a:t>
            </a:r>
            <a:r>
              <a:rPr b="0" lang="pt-BR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Vantagem:</a:t>
            </a:r>
            <a:r>
              <a:rPr b="0" lang="pt-BR" sz="2000" spc="-1" strike="noStrike">
                <a:solidFill>
                  <a:srgbClr val="ffcc00"/>
                </a:solidFill>
                <a:latin typeface="Arial"/>
              </a:rPr>
              <a:t> é fácil de exercer a autoridade, há somente um chef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Desvantagens:</a:t>
            </a:r>
            <a:r>
              <a:rPr b="0" lang="pt-BR" sz="2000" spc="-1" strike="noStrike">
                <a:solidFill>
                  <a:srgbClr val="ffcc00"/>
                </a:solidFill>
                <a:latin typeface="Arial"/>
              </a:rPr>
              <a:t> formação de feudos, falta de visão geral e não se  executa trabalho interdepartamen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533520" y="1599840"/>
            <a:ext cx="96012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336699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ORGANIZAÇÃO POR PROJE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quipe temporária com coordenador, exclusiva para execução de projeto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 coordenador tem ampla autoridade sobre todos os recursos: humanos, financeiros e materia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aracteriza-se por “departamento multifuncional e temporário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2860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 NOVO MODELO DE ADMINISTRAÇÃO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NOVAS FORMAS DE ORGAN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280" y="5407200"/>
            <a:ext cx="817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70056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1989000"/>
            <a:ext cx="1119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ORGANIZAÇÃO POR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Vantagens: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equipe multidisciplinar, o trabalho de especial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flui melhor e há sempre muita integração entre a equi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Desvantagens: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preserva a estrutura departamental que 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inviolável, pode haver ociosidade  e dificulta a supervi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 NOVO MODELO DE ADMINISTRAÇÃO e</a:t>
            </a: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NOVAS FORMAS DE ORGANIZAÇÃ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81240" y="1700280"/>
            <a:ext cx="92199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RGANIZAÇÃO MATR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bina as vantagens das duas estruturas anteri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uperpõe a estrutura de projetos a estrutura departa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quipe com componentes dos vários departamentos que atuam à medida da necessidade do pro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3120" y="30492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 NOVO MODELO DE ADMINISTRAÇÃO: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NOVAS FORMAS DE ORGANIZAÇ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32116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90db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3886200"/>
            <a:ext cx="7848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 NOVO MODELO DE ADMINISTRAÇÃO e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NOVAS FORMAS DE ORGANIZAÇÃO</a:t>
            </a:r>
            <a:br>
              <a:rPr sz="2400"/>
            </a:b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ORGANIZAÇÃO MATRICIAL</a:t>
            </a:r>
            <a:r>
              <a:rPr b="0" lang="pt-BR" sz="2000" spc="-1" strike="noStrike">
                <a:solidFill>
                  <a:srgbClr val="90db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Vantagem</a:t>
            </a:r>
            <a:r>
              <a:rPr b="0" lang="pt-BR" sz="2000" spc="-1" strike="noStrike">
                <a:solidFill>
                  <a:srgbClr val="90dbff"/>
                </a:solidFill>
                <a:latin typeface="Arial"/>
              </a:rPr>
              <a:t>: não tem as desvantagens das outr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Desvantagens:</a:t>
            </a:r>
            <a:r>
              <a:rPr b="0" lang="pt-BR" sz="2000" spc="-1" strike="noStrike">
                <a:solidFill>
                  <a:srgbClr val="90dbff"/>
                </a:solidFill>
                <a:latin typeface="Arial"/>
              </a:rPr>
              <a:t> perda da unicidade de chefia, o funcionário reporta-se ao chefe de departamento e ao coordenador do proje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3:51:02Z</dcterms:created>
  <dc:creator>Lourdes de Souza Moraes</dc:creator>
  <dc:description/>
  <dc:language>en-US</dc:language>
  <cp:lastModifiedBy>acap</cp:lastModifiedBy>
  <cp:lastPrinted>2004-04-24T12:38:15Z</cp:lastPrinted>
  <dcterms:modified xsi:type="dcterms:W3CDTF">2007-10-23T20:08:30Z</dcterms:modified>
  <cp:revision>77</cp:revision>
  <dc:subject/>
  <dc:title>Elaboração e apresentação de projetos para a implantação de serviços e captação de recursos</dc:title>
</cp:coreProperties>
</file>