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-4320" y="44280"/>
            <a:ext cx="9164880" cy="34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cc00"/>
                </a:solidFill>
                <a:latin typeface="Arial"/>
              </a:rPr>
              <a:t>Ministério da Saúd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cc00"/>
                </a:solidFill>
                <a:latin typeface="Arial"/>
              </a:rPr>
              <a:t>Secretaria de Atenção à Saúd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cc00"/>
                </a:solidFill>
                <a:latin typeface="Arial"/>
              </a:rPr>
              <a:t>Instituto Nacional de Traumatologia e Ortopedi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cc00"/>
                </a:solidFill>
                <a:latin typeface="Arial"/>
              </a:rPr>
              <a:t>Coordenação de Ensino e Pesquis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cc00"/>
                </a:solidFill>
                <a:latin typeface="Arial"/>
              </a:rPr>
              <a:t>Área de Bibliotec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0920" y="1268280"/>
            <a:ext cx="8642160" cy="535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276120" algn="just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turamente está prevista a adoção e a constante atualização de um novo Banco de Dados, que possa oferecer um controle e o registro de todos os funcionários do INTO , disponibilizando o acervo da Biblioteca com uma amplitude ma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USUÁRI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400" y="198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A BIBLIOTECA E A REDE BIBLIOS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1457280"/>
            <a:ext cx="8569080" cy="550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 a implementação da Rede, a Biblioteca colabora na organização da memória técnica institucional, reunindo todo o material relacionado à história do INTO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s setores de Comunicação e Informática passaram a atuar de forma integrada junto à Biblioteca, permitindo desenvolver suas ações com maior eficác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90400" y="198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A BIBLIOTECA E A REDE BIBLIOS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428840"/>
            <a:ext cx="8642160" cy="531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276120" algn="just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informações passaram a ser compartilhadas com mais freqüência entre os usuários da Re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76120" algn="just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orma da apresentação do modelo BVS é vista (e utilizada) pelos residentes, acadêmicos e funcionários do INTO que freqüentam a Bibliote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90400" y="198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A BIBLIOTECA E A REDE BIBLIOS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1913040"/>
            <a:ext cx="864216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276120" algn="just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O site da Rede BIBLIOSUS atua como importante ferramenta de gerenciamento das atividades da Biblioteca do INT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6400" y="115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HORÁRIO DE ATENDIMENT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horário de atendimento é de 2ª a 6ª feira, de 08h às 17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084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rcRect l="50004" t="0" r="0" b="0"/>
          <a:stretch/>
        </p:blipFill>
        <p:spPr>
          <a:xfrm>
            <a:off x="4572000" y="0"/>
            <a:ext cx="4572000" cy="6856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9909" r="0" b="0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95280" y="774720"/>
            <a:ext cx="856944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1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cc00"/>
                </a:solidFill>
                <a:latin typeface="Monotype Corsiva"/>
              </a:rPr>
              <a:t>   </a:t>
            </a:r>
            <a:r>
              <a:rPr b="0" lang="pt-BR" sz="5400" spc="-1" strike="noStrike">
                <a:solidFill>
                  <a:srgbClr val="ffcc00"/>
                </a:solidFill>
                <a:latin typeface="Monotype Corsiva"/>
              </a:rPr>
              <a:t>Projetos conjuntos têm mais chance de sucesso quando se beneficiam de ambos os lados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1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cc00"/>
                </a:solidFill>
                <a:latin typeface="Monotype Corsiva"/>
              </a:rPr>
              <a:t>                       </a:t>
            </a:r>
            <a:r>
              <a:rPr b="0" lang="pt-BR" sz="5400" spc="-1" strike="noStrike">
                <a:solidFill>
                  <a:srgbClr val="ffcc00"/>
                </a:solidFill>
                <a:latin typeface="Monotype Corsiva"/>
              </a:rPr>
              <a:t>(Eurípedes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1816200"/>
            <a:ext cx="856944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92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893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pt-BR" sz="3800" spc="-1" strike="noStrike">
                <a:solidFill>
                  <a:srgbClr val="ffffcc"/>
                </a:solidFill>
                <a:latin typeface="Arial"/>
              </a:rPr>
              <a:t>Coordenação de Ensino e Pesquisa</a:t>
            </a:r>
            <a:br>
              <a:rPr sz="4000"/>
            </a:br>
            <a:br>
              <a:rPr sz="4000"/>
            </a:br>
            <a:r>
              <a:rPr b="0" lang="pt-BR" sz="4000" spc="-1" strike="noStrike">
                <a:solidFill>
                  <a:srgbClr val="ffffcc"/>
                </a:solidFill>
                <a:latin typeface="Arial"/>
              </a:rPr>
              <a:t>Área de Biblioteca</a:t>
            </a:r>
            <a:br>
              <a:rPr sz="4000"/>
            </a:b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ordenador: Dr. Sérgio Vianna 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Bibliotecário:   Luís Cláudio Lima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lefones: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021) 3512-4653 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021) 3512-4999 ramal 609</a:t>
            </a:r>
            <a:br>
              <a:rPr sz="4000"/>
            </a:br>
            <a:r>
              <a:rPr b="0" i="1" lang="pt-BR" sz="4000" spc="-1" strike="noStrike">
                <a:solidFill>
                  <a:srgbClr val="ffffff"/>
                </a:solidFill>
                <a:latin typeface="Arial"/>
              </a:rPr>
              <a:t>E-mail: </a:t>
            </a:r>
            <a:r>
              <a:rPr b="0" i="1" lang="pt-BR" sz="4000" spc="-1" strike="noStrike" u="sng">
                <a:solidFill>
                  <a:srgbClr val="ffcc00"/>
                </a:solidFill>
                <a:uFillTx/>
                <a:latin typeface="Arial"/>
              </a:rPr>
              <a:t>lsilveira@into.saude.gov.b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60" y="1989000"/>
            <a:ext cx="9144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"/>
              </a:rPr>
              <a:t>A Biblioteca do INTO e suas Ações junto à Rede BIBLIOSUS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120" y="188640"/>
            <a:ext cx="8642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HISTÓRICO DA BIBLIOTEC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7840" y="1008000"/>
            <a:ext cx="8642160" cy="595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i criada em 30 de março de 2004  para atender às necessidades internas de produção científica, possibilitando o acesso às fontes de informação diversas, bem como as especializadas em Traumatologia e Ortoped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ntra-se registrada no Conselho Regional de Biblioteconomia, desde 6 de junho de 2005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APRESENTAÇÃ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518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iblioteca da COENP tem como objetivo primordial facultar à força de trabalho do INTO os recursos bibliográficos necessários à investigação científica e ao ensino, desde a aquisição da bibliografia à disseminação da informa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25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ua atuação desenvolve-se com o intuito de facilitar o acesso à informação e à documentação existentes em seu acervo, nos mais variados suportes, através de um conjunto de serviços que promove e disponibiliza com rapidez e eficiência as solicitações dos usuários que a ela se dirig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189000"/>
            <a:ext cx="8642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APRESENTAÇÃ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0560" y="1483920"/>
            <a:ext cx="8569080" cy="537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squisa Bibliográfic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esso à Intern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ulgação do Acerv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ulta Loca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réstimo Domicili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iço de Fotocópi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deoteca (Auditório da Bibliotec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89000"/>
            <a:ext cx="8642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ERVIÇOS PRESTADOS AOS USUÁRIO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CERV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096920"/>
            <a:ext cx="8569080" cy="550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É composto de, aproximadamente, 2000 itens entre monografias, teses e periódico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stá disponível através da Base de Dados Coleciona-SUS (Interne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ara sua organização estrutural, utilizam-se os  Manuais da LILACS/LILDBI We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CERV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1096920"/>
            <a:ext cx="8569080" cy="550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150000"/>
              </a:lnSpc>
              <a:spcBef>
                <a:spcPts val="7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ão encontrados volumes nas áreas de Traumatologia e Ortopedia, Enfermagem, Nutrição, Fisioterapia e Farmáci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50000"/>
              </a:lnSpc>
              <a:spcBef>
                <a:spcPts val="7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Tipologia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Literatura Especializada, Manuais, Teses e Periódico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50000"/>
              </a:lnSpc>
              <a:spcBef>
                <a:spcPts val="7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ormas de Aquisição Mais Comuns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Compra, através de Licitação, ou Doação por parte dos funcionários e outr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USUÁRI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569440" cy="540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 Biblioteca possui um cadastro de aproximadamente 40 usuários, entre residentes de medicina e residentes de enfermagem em seu controle interno, além de oferecer suporte aos estagiários das Universidades conveniadas, através da Área de Residência e Estágios  Multiprofissiona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9:24:29Z</dcterms:created>
  <dc:creator>amello</dc:creator>
  <dc:description/>
  <dc:language>en-US</dc:language>
  <cp:lastModifiedBy>amello</cp:lastModifiedBy>
  <dcterms:modified xsi:type="dcterms:W3CDTF">2007-10-01T18:24:29Z</dcterms:modified>
  <cp:revision>78</cp:revision>
  <dc:subject/>
  <dc:title>Biblioteca  da  Coordenação de Ensino e Pesquisa </dc:title>
</cp:coreProperties>
</file>