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2440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06640" y="812880"/>
            <a:ext cx="53384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06640" y="812880"/>
            <a:ext cx="53384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06640" y="812880"/>
            <a:ext cx="53305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06640" y="812880"/>
            <a:ext cx="53305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06640" y="812880"/>
            <a:ext cx="533700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066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066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066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06640" y="812880"/>
            <a:ext cx="53290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4200" y="31680"/>
            <a:ext cx="7603920" cy="15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2160360"/>
            <a:ext cx="915984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575240"/>
            <a:ext cx="915984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4200" y="31680"/>
            <a:ext cx="7603920" cy="15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2160360"/>
            <a:ext cx="44697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3320" y="2160360"/>
            <a:ext cx="44697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575240"/>
            <a:ext cx="44697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3320" y="4575240"/>
            <a:ext cx="44697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4200" y="31680"/>
            <a:ext cx="7603920" cy="15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2160360"/>
            <a:ext cx="294912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6720" y="2160360"/>
            <a:ext cx="294912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3440" y="2160360"/>
            <a:ext cx="294912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575240"/>
            <a:ext cx="294912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6720" y="4575240"/>
            <a:ext cx="294912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3440" y="4575240"/>
            <a:ext cx="294912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4200" y="31680"/>
            <a:ext cx="7603920" cy="15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2160360"/>
            <a:ext cx="915984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4200" y="31680"/>
            <a:ext cx="7603920" cy="15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2160360"/>
            <a:ext cx="915984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4200" y="31680"/>
            <a:ext cx="7603920" cy="15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2160360"/>
            <a:ext cx="446976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3320" y="2160360"/>
            <a:ext cx="446976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4200" y="31680"/>
            <a:ext cx="7603920" cy="15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4200" y="31680"/>
            <a:ext cx="7603920" cy="71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4200" y="31680"/>
            <a:ext cx="7603920" cy="15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2160360"/>
            <a:ext cx="44697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3320" y="2160360"/>
            <a:ext cx="446976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575240"/>
            <a:ext cx="44697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4200" y="31680"/>
            <a:ext cx="7603920" cy="15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2160360"/>
            <a:ext cx="446976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2160360"/>
            <a:ext cx="44697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3320" y="4575240"/>
            <a:ext cx="44697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4200" y="31680"/>
            <a:ext cx="7603920" cy="15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2160360"/>
            <a:ext cx="44697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2160360"/>
            <a:ext cx="44697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575240"/>
            <a:ext cx="915984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422280" y="433440"/>
            <a:ext cx="128592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24200" y="31680"/>
            <a:ext cx="7603920" cy="15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2160360"/>
            <a:ext cx="915984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476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195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38400" indent="-196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38400" indent="-196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38400" indent="-196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800360"/>
            <a:ext cx="10063080" cy="1440"/>
          </a:xfrm>
          <a:prstGeom prst="line">
            <a:avLst/>
          </a:prstGeom>
          <a:ln w="72000">
            <a:solidFill>
              <a:srgbClr val="2323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07800" y="6772320"/>
            <a:ext cx="1458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CD4AD-B1D6-4B68-A1D3-24A65318EDB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2736720"/>
            <a:ext cx="918072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80"/>
                </a:solidFill>
                <a:latin typeface="arial"/>
              </a:rPr>
              <a:t>O Projeto Casa Bras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arial"/>
              </a:rPr>
              <a:t>de inclusão digital e so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ria de Fátima Ramos Brand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Arial"/>
              </a:rPr>
              <a:t>Outubro/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00360" y="360360"/>
            <a:ext cx="7740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Verdana"/>
              </a:rPr>
              <a:t>II Fórum de Informação em Saúde</a:t>
            </a:r>
            <a:br>
              <a:rPr sz="2800"/>
            </a:br>
            <a:r>
              <a:rPr b="1" lang="en-GB" sz="2800" spc="-1" strike="noStrike">
                <a:solidFill>
                  <a:srgbClr val="008000"/>
                </a:solidFill>
                <a:latin typeface="Verdana"/>
              </a:rPr>
              <a:t>IV Encontro da Rede Biblio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00000" y="201240"/>
            <a:ext cx="7623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Gestão da Unidade Casa Brasil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43120" indent="-2811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ceiro Estratégi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116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elho Gestor Loc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116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enador da Ca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116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écnico de Estúdio Multimíd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116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écnico de Laboratór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116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enador de Telecentro e Monitor de Telecentr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116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écnico da Un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116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ros parceiros e voluntá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00360" y="201240"/>
            <a:ext cx="7624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Estratégia para o Sucesso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339640"/>
            <a:ext cx="91807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920"/>
                <a:tab algn="l" pos="484200"/>
                <a:tab algn="l" pos="933480"/>
                <a:tab algn="l" pos="1382760"/>
                <a:tab algn="l" pos="1832040"/>
                <a:tab algn="l" pos="2281320"/>
                <a:tab algn="l" pos="2730600"/>
                <a:tab algn="l" pos="3179880"/>
                <a:tab algn="l" pos="3629160"/>
                <a:tab algn="l" pos="4078440"/>
                <a:tab algn="l" pos="4527720"/>
                <a:tab algn="l" pos="4976640"/>
                <a:tab algn="l" pos="5425920"/>
                <a:tab algn="l" pos="5875200"/>
                <a:tab algn="l" pos="6324480"/>
                <a:tab algn="l" pos="6773760"/>
                <a:tab algn="l" pos="7223040"/>
                <a:tab algn="l" pos="7672320"/>
                <a:tab algn="l" pos="8121600"/>
                <a:tab algn="l" pos="857088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ig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avaliação permanent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 das ações de planejamento, gestão, capacitação e transferência da informação e conhecimentos, como também,  dos resultados parciais, finais e de impactos socia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00360" y="201240"/>
            <a:ext cx="7624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Princípios da Avaliação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0360" y="2339640"/>
            <a:ext cx="91803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onstrução colaborativa do modelo de avali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10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avaliação é integrada à gestão para promover feedback para as ações de implementação do proj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10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uporte de base tecnológica para coleta de informações e monitoramento automá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00000" y="201240"/>
            <a:ext cx="7623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Objetivos de Avaliação do</a:t>
            </a:r>
            <a:br>
              <a:rPr sz="3200"/>
            </a:b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Casa Brasil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1080" y="2700360"/>
            <a:ext cx="8639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445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lusão Digital e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4560">
              <a:lnSpc>
                <a:spcPct val="14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moção da Cidad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4560">
              <a:lnSpc>
                <a:spcPct val="14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envolvimento Sustent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4560">
              <a:lnSpc>
                <a:spcPct val="14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usão da Ciência e  da 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4560">
              <a:lnSpc>
                <a:spcPct val="14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es Sociais Comunitá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00360" y="201240"/>
            <a:ext cx="7624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Conceito de </a:t>
            </a:r>
            <a:br>
              <a:rPr sz="3200"/>
            </a:b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Inclusão Digital e Social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91807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1160">
              <a:lnSpc>
                <a:spcPct val="10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essibilidade Dig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1160">
              <a:lnSpc>
                <a:spcPct val="14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bilidades para Inclusão Dig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1160">
              <a:lnSpc>
                <a:spcPct val="14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ortunidades Econômicas e Socia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1160">
              <a:lnSpc>
                <a:spcPct val="14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ção Democrática e Cidad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00360" y="201600"/>
            <a:ext cx="761832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Modelo de Avaliação do Casa Brasil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60360" y="2160720"/>
            <a:ext cx="91803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000" y="179280"/>
            <a:ext cx="761868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Níveis de análise x Tipos de análise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079640" y="2160720"/>
            <a:ext cx="7921440" cy="52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24200" y="75960"/>
            <a:ext cx="761040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Indicadores de Insumos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19280" y="2700360"/>
            <a:ext cx="720072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ra-estrutura Fí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ra-estrutura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ra-estrutura Hu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ra-estrutura Orçament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4200" y="75960"/>
            <a:ext cx="761040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Indicadores de Processos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2160360"/>
            <a:ext cx="91663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stão Administrativa e Tecnológica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ra-estrutura física, tecnológica e de gestão de projetos sociais, de atendimento comunitário, acompanhamento e avali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stão Financeira e de Sustentabilidade -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abilidade, prestação de contas e sustentabil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stão Social e Participativa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onamentos, Conselho Gestor,  atendimento ao cidadão e identificação de problemas comunitá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stão de Conhecimento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ação de agentes e comunidade; organização e sistematização dos conteúdos em portal Casa Brasil  e em  rede social e comunidades virtu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35200" y="199800"/>
            <a:ext cx="7624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Resultados e Impactos Sociais 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36000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0" algn="just">
              <a:lnSpc>
                <a:spcPct val="101000"/>
              </a:lnSpc>
              <a:spcAft>
                <a:spcPts val="1137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ível do Indivíduo:</a:t>
            </a:r>
            <a:r>
              <a:rPr b="0" lang="en-GB" sz="2200" spc="-1" strike="noStrike">
                <a:solidFill>
                  <a:srgbClr val="dc2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lnSpc>
                <a:spcPct val="102000"/>
              </a:lnSpc>
              <a:spcAft>
                <a:spcPts val="1137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envolvimento de habilidades, oportunidade e emprego, satisfação, qualidade de vida, participação democrática e expectativ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101000"/>
              </a:lnSpc>
              <a:spcAft>
                <a:spcPts val="1137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ível de Contexto Social e Cultural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lnSpc>
                <a:spcPct val="102000"/>
              </a:lnSpc>
              <a:spcAft>
                <a:spcPts val="1137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essibilidade e inclusão digital, empregabilidade, renda, educação, saúde, segurança,  participação popular, sustentabilidade ambiental e soci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101000"/>
              </a:lnSpc>
              <a:spcAft>
                <a:spcPts val="1137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ível da Unidade Casa Brasi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lnSpc>
                <a:spcPct val="102000"/>
              </a:lnSpc>
              <a:spcAft>
                <a:spcPts val="1137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eúdos criados e produzidos, eventos realizados, comunidade atendida, articulação em rede social, representatividade e participação, serviços e programas de governo disponibiliz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23840" y="179280"/>
            <a:ext cx="76165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Apresentação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9640" y="2160720"/>
            <a:ext cx="827244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Projeto Casa Bra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os de Inclusão Digital e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liação do Projeto Casa Bra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ratégias de Implem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ltura e desenvolviment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3840" y="179280"/>
            <a:ext cx="76165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Capacitação da Equipe de Avaliação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2160720"/>
            <a:ext cx="917280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s objetivos foram levantados e definidos de maneira colaborativa  durante a capacitaçã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mpreensão comum dos objetivos, modelo de indicadores e dados relevantes para acompanhamento e avaliação permanente do proje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prendizagem de conceitos de avaliação de projetos sociais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finição colaborativa  dos componentes dos indicadores do model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24200" y="45720"/>
            <a:ext cx="761184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Desafios e Oportunidades 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52600" y="2138040"/>
            <a:ext cx="91677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ortunidade de acesso a informação para  o desenvolvimento da autonomia e para a produção de conhecimen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agnóstico e avaliação das necessidades e  experiências para direcionar ações de transformação da re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dade e cultura como eixos de valorização dos indivíduos e do grupo, da auto-estima e do fortalecimento das redes soc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24200" y="45720"/>
            <a:ext cx="761184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Cultura e Desenvolvimento Social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2160360"/>
            <a:ext cx="916776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ltura, vocações individuais e do grupo,  questões e problemas locais como ponto de partida para o planejamento, elaboração de projetos e desenvolvimento de ações educacionais, na perspectiva da participação e da produção comunitá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24200" y="45720"/>
            <a:ext cx="761184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Cultura, Educação  e Saúde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2160360"/>
            <a:ext cx="916776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cultura e as identidades reconhecidas constituem-se num princípio para o respeito à diversidade, a autonomia, criatividade, inovação e desenvolvimento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ultura e tecnologia podem contribuir para ampliar a abrangência social das ações e dos resultad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ducação e Informação em Saúde podem ampliar o alcance das ações de atenção ao cidadão nas 54 Unidades Casa Brasil em funcionamento, com possibilidade de alcance maior com os parceiros e a Rede Casa Bras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23840" y="76320"/>
            <a:ext cx="760860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Conclusões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5480" y="1979280"/>
            <a:ext cx="916488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177840" algn="just">
              <a:lnSpc>
                <a:spcPct val="98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Casa Brasil como possibilidade de articulação e convergência para o desenvolvimento social pelo acesso a informação, conhecimentos, participação comunitária e redes soci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177840" algn="just">
              <a:lnSpc>
                <a:spcPct val="112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valorização das identidades, cultura e diagnóstico dos problemas locais como eixos de ações e pro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177840" algn="just">
              <a:lnSpc>
                <a:spcPct val="112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genda necessária de articulação  da tecnologia, cultura, educação e saúde para promover mudanças e desenvolvimento social, aproveitando a capilaridade da rede Casa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177840" algn="just">
              <a:lnSpc>
                <a:spcPct val="112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lataforma instalada de rede de informações, capacitação e educação do Casa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177840" algn="just">
              <a:lnSpc>
                <a:spcPct val="112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brangência nacional da rede Casa Brasil em localidades de alta concentração de pobreza e exclu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177840" algn="just">
              <a:lnSpc>
                <a:spcPct val="112000"/>
              </a:lnSpc>
              <a:spcBef>
                <a:spcPts val="437"/>
              </a:spcBef>
              <a:spcAft>
                <a:spcPts val="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de acompanhamento e avaliação dos indicadores de resultados e impa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00360" y="201600"/>
            <a:ext cx="761976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Contato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63600" y="2160360"/>
            <a:ext cx="917568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rojeto Casa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www.casabrasil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aria de Fátima Ramos Brand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stituto Nacional de Tecnologia da Infor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atima.brandao@casabrasil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atimabrandao@gmail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00360" y="201240"/>
            <a:ext cx="7624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Projeto Casa Brasil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2471760"/>
            <a:ext cx="91807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89000">
              <a:lnSpc>
                <a:spcPct val="93000"/>
              </a:lnSpc>
              <a:spcAft>
                <a:spcPts val="28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olítica públic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transversal que integra diversas áreas de atuação do Governo Feder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5000"/>
              </a:lnSpc>
              <a:spcAft>
                <a:spcPts val="28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move a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 convergência de açõ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governo e da social civil organizad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o desenvolvimento social e atendimento ao cidad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5000"/>
              </a:lnSpc>
              <a:spcAft>
                <a:spcPts val="28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8900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move a 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cidadania digit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ela universalização do acesso às TICs para a criação e produção de conhecimento tecnológico, científico, cultural e soci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201600"/>
            <a:ext cx="762480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Objetivos do Casa Brasil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544680" y="2413080"/>
            <a:ext cx="91803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8680">
              <a:lnSpc>
                <a:spcPct val="93000"/>
              </a:lnSpc>
              <a:spcBef>
                <a:spcPts val="21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8680"/>
                <a:tab algn="l" pos="50652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mover o desenvolvimento social a partir da apropriação autônoma das Tecnologias da Informação e Comunicação (TICs) e da inclusão digit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93000"/>
              </a:lnSpc>
              <a:spcBef>
                <a:spcPts val="21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8680"/>
                <a:tab algn="l" pos="50652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mover a cidadania pela participação política e social, geração de oportunidades e trabalho, popularização da ciência, da cultura e do acesso e  produção de informação e conheciment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5000"/>
              </a:lnSpc>
              <a:spcBef>
                <a:spcPts val="21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8680"/>
                <a:tab algn="l" pos="506520"/>
                <a:tab algn="l" pos="955800"/>
                <a:tab algn="l" pos="1405080"/>
                <a:tab algn="l" pos="1854360"/>
                <a:tab algn="l" pos="2303640"/>
                <a:tab algn="l" pos="2752560"/>
                <a:tab algn="l" pos="3201840"/>
                <a:tab algn="l" pos="3651120"/>
                <a:tab algn="l" pos="4100400"/>
                <a:tab algn="l" pos="4549680"/>
                <a:tab algn="l" pos="4998960"/>
                <a:tab algn="l" pos="5448240"/>
                <a:tab algn="l" pos="5897520"/>
                <a:tab algn="l" pos="6346800"/>
                <a:tab algn="l" pos="6796080"/>
                <a:tab algn="l" pos="7245360"/>
                <a:tab algn="l" pos="7694640"/>
                <a:tab algn="l" pos="8143920"/>
                <a:tab algn="l" pos="8593200"/>
                <a:tab algn="l" pos="9042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riar e consolidar as redes sociais e parcerias para o desenvolvimento local  sustentável e das regiões de abrangênc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000" y="201240"/>
            <a:ext cx="7623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Módulos Casa Brasil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979280"/>
            <a:ext cx="97203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8576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6757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ece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6757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blioteca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6757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di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6757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údio Multimí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6757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icina de Rá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6757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boratório de Montagem e Configuração de Computadores 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260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6757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boratório de Divulgação da Ciê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00000" y="201240"/>
            <a:ext cx="7623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Estrutura de Gestão Casa Brasil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440000" y="1873080"/>
            <a:ext cx="7200720" cy="5146920"/>
            <a:chOff x="1440000" y="1873080"/>
            <a:chExt cx="7200720" cy="5146920"/>
          </a:xfrm>
        </p:grpSpPr>
        <p:sp>
          <p:nvSpPr>
            <p:cNvPr id="70" name=""/>
            <p:cNvSpPr/>
            <p:nvPr/>
          </p:nvSpPr>
          <p:spPr>
            <a:xfrm>
              <a:off x="1440000" y="5303880"/>
              <a:ext cx="1458720" cy="762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erif"/>
                  <a:ea typeface="Bitstream Vera Sans"/>
                </a:rPr>
                <a:t>Unida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erif"/>
                  <a:ea typeface="Bitstream Vera Sans"/>
                </a:rPr>
                <a:t>Casa Bras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52960" y="5872320"/>
              <a:ext cx="1458720" cy="76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erif"/>
                  <a:ea typeface="Bitstream Vera Sans"/>
                </a:rPr>
                <a:t>Unida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erif"/>
                  <a:ea typeface="Bitstream Vera Sans"/>
                </a:rPr>
                <a:t>Casa Bras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1776240" y="4143240"/>
              <a:ext cx="1292400" cy="571680"/>
              <a:chOff x="1776240" y="4143240"/>
              <a:chExt cx="1292400" cy="571680"/>
            </a:xfrm>
          </p:grpSpPr>
          <p:sp>
            <p:nvSpPr>
              <p:cNvPr id="73" name=""/>
              <p:cNvSpPr/>
              <p:nvPr/>
            </p:nvSpPr>
            <p:spPr>
              <a:xfrm>
                <a:off x="1776240" y="4143240"/>
                <a:ext cx="1292400" cy="5716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67040" y="4226040"/>
                <a:ext cx="91116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Escritór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Regi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3102120" y="4813200"/>
              <a:ext cx="1292040" cy="571680"/>
              <a:chOff x="3102120" y="4813200"/>
              <a:chExt cx="1292040" cy="571680"/>
            </a:xfrm>
          </p:grpSpPr>
          <p:sp>
            <p:nvSpPr>
              <p:cNvPr id="76" name=""/>
              <p:cNvSpPr/>
              <p:nvPr/>
            </p:nvSpPr>
            <p:spPr>
              <a:xfrm>
                <a:off x="3102120" y="4813200"/>
                <a:ext cx="1292040" cy="5716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292560" y="4896000"/>
                <a:ext cx="91116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Escritór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Regi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4478400" y="3780000"/>
              <a:ext cx="1461960" cy="571320"/>
              <a:chOff x="4478400" y="3780000"/>
              <a:chExt cx="1461960" cy="571320"/>
            </a:xfrm>
          </p:grpSpPr>
          <p:sp>
            <p:nvSpPr>
              <p:cNvPr id="79" name=""/>
              <p:cNvSpPr/>
              <p:nvPr/>
            </p:nvSpPr>
            <p:spPr>
              <a:xfrm>
                <a:off x="4478400" y="3780000"/>
                <a:ext cx="1461960" cy="5713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694400" y="3862440"/>
                <a:ext cx="103176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Coordenaçã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Naci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797360" y="4863960"/>
              <a:ext cx="1292400" cy="571680"/>
              <a:chOff x="4797360" y="4863960"/>
              <a:chExt cx="1292400" cy="571680"/>
            </a:xfrm>
          </p:grpSpPr>
          <p:sp>
            <p:nvSpPr>
              <p:cNvPr id="82" name=""/>
              <p:cNvSpPr/>
              <p:nvPr/>
            </p:nvSpPr>
            <p:spPr>
              <a:xfrm>
                <a:off x="4797360" y="4863960"/>
                <a:ext cx="1292400" cy="5716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987800" y="4946760"/>
                <a:ext cx="91152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Escritór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Regi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176720" y="2800440"/>
              <a:ext cx="1728720" cy="637920"/>
              <a:chOff x="4176720" y="2800440"/>
              <a:chExt cx="1728720" cy="637920"/>
            </a:xfrm>
          </p:grpSpPr>
          <p:sp>
            <p:nvSpPr>
              <p:cNvPr id="85" name=""/>
              <p:cNvSpPr/>
              <p:nvPr/>
            </p:nvSpPr>
            <p:spPr>
              <a:xfrm>
                <a:off x="4176720" y="2800440"/>
                <a:ext cx="1728720" cy="6379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429080" y="2894040"/>
                <a:ext cx="121752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Comitê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Executiv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 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Casa Brasi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12000" y="2825640"/>
              <a:ext cx="1341360" cy="627120"/>
              <a:chOff x="6912000" y="2825640"/>
              <a:chExt cx="1341360" cy="627120"/>
            </a:xfrm>
          </p:grpSpPr>
          <p:sp>
            <p:nvSpPr>
              <p:cNvPr id="88" name=""/>
              <p:cNvSpPr/>
              <p:nvPr/>
            </p:nvSpPr>
            <p:spPr>
              <a:xfrm>
                <a:off x="6912000" y="2825640"/>
                <a:ext cx="1341360" cy="6271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10360" y="2917800"/>
                <a:ext cx="94608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Secretar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Executi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 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Casa Brasi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5218200" y="5694480"/>
              <a:ext cx="1458720" cy="76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erif"/>
                  <a:ea typeface="Bitstream Vera Sans"/>
                </a:rPr>
                <a:t>Unida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erif"/>
                  <a:ea typeface="Bitstream Vera Sans"/>
                </a:rPr>
                <a:t>Casa Bras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0" y="5735520"/>
              <a:ext cx="1458720" cy="762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erif"/>
                  <a:ea typeface="Bitstream Vera Sans"/>
                </a:rPr>
                <a:t>Unida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erif"/>
                  <a:ea typeface="Bitstream Vera Sans"/>
                </a:rPr>
                <a:t>Casa Bras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068640" y="4092120"/>
              <a:ext cx="1409760" cy="235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924360" y="4284720"/>
              <a:ext cx="704880" cy="542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88000" y="4264200"/>
              <a:ext cx="1158840" cy="507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6408720" y="4772160"/>
              <a:ext cx="1292400" cy="571320"/>
              <a:chOff x="6408720" y="4772160"/>
              <a:chExt cx="1292400" cy="571320"/>
            </a:xfrm>
          </p:grpSpPr>
          <p:sp>
            <p:nvSpPr>
              <p:cNvPr id="96" name=""/>
              <p:cNvSpPr/>
              <p:nvPr/>
            </p:nvSpPr>
            <p:spPr>
              <a:xfrm>
                <a:off x="6408720" y="4772160"/>
                <a:ext cx="1292400" cy="5713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599160" y="4854600"/>
                <a:ext cx="91116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Escritór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Regi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296800" y="4714920"/>
              <a:ext cx="82440" cy="590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7000" y="5384880"/>
              <a:ext cx="66600" cy="488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4025880" y="1873080"/>
              <a:ext cx="1778040" cy="749520"/>
              <a:chOff x="4025880" y="1873080"/>
              <a:chExt cx="1778040" cy="749520"/>
            </a:xfrm>
          </p:grpSpPr>
          <p:sp>
            <p:nvSpPr>
              <p:cNvPr id="101" name=""/>
              <p:cNvSpPr/>
              <p:nvPr/>
            </p:nvSpPr>
            <p:spPr>
              <a:xfrm>
                <a:off x="4025880" y="1873080"/>
                <a:ext cx="1778040" cy="7495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287960" y="1982880"/>
                <a:ext cx="125244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Comitê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Ges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2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 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Bitstream Vera Serif"/>
                    <a:ea typeface="Bitstream Vera Sans"/>
                  </a:rPr>
                  <a:t>Casa Brasi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 flipH="1">
              <a:off x="4697280" y="5435640"/>
              <a:ext cx="486000" cy="1501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00560" y="4394160"/>
              <a:ext cx="184320" cy="469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37240" y="5435640"/>
              <a:ext cx="168120" cy="260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3520" y="5343480"/>
              <a:ext cx="1800" cy="1488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50200" y="5289480"/>
              <a:ext cx="420480" cy="447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432160" y="5302080"/>
              <a:ext cx="954000" cy="1632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65840" y="2622600"/>
              <a:ext cx="15840" cy="177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65560" y="3438360"/>
              <a:ext cx="1800" cy="384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05440" y="3097080"/>
              <a:ext cx="1008000" cy="12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770440" y="3322440"/>
              <a:ext cx="127476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03920" y="2271600"/>
              <a:ext cx="1225440" cy="660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08600" y="6257880"/>
              <a:ext cx="1458720" cy="762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erif"/>
                  <a:ea typeface="Bitstream Vera Sans"/>
                </a:rPr>
                <a:t>Unida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erif"/>
                  <a:ea typeface="Bitstream Vera Sans"/>
                </a:rPr>
                <a:t>Casa Bras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60480" y="6256440"/>
              <a:ext cx="1459080" cy="76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erif"/>
                  <a:ea typeface="Bitstream Vera Sans"/>
                </a:rPr>
                <a:t>Unida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erif"/>
                  <a:ea typeface="Bitstream Vera Sans"/>
                </a:rPr>
                <a:t>Casa Bras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73640" y="6154560"/>
              <a:ext cx="1460520" cy="762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erif"/>
                  <a:ea typeface="Bitstream Vera Sans"/>
                </a:rPr>
                <a:t>Unida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Bitstream Vera Serif"/>
                  <a:ea typeface="Bitstream Vera Sans"/>
                </a:rPr>
                <a:t>Casa Bras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01240"/>
            <a:ext cx="7623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Casa Brasil – Comitê Gestor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0360" y="1440000"/>
            <a:ext cx="9539280" cy="56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 algn="just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 as diretrizes gerais de gestão e aprova planos de  ações/atividades no âmbito do projeto; acompanha o desempenho das Unidades; avalia periodicamente os resultados alcanç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 algn="just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sa Civil da Presidência da Repúblic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 algn="just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retaria de Comunicação de Governo e Gestão Estratégica da Presidência da Repúblic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 algn="just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ério de Ciência e Tecnologi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 algn="just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ério do Planejamento, Orçamento e Gestão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 algn="just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ério das Comunicaçõe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 algn="just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ério da Cultura 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 algn="just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ério da Educ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00000" y="201240"/>
            <a:ext cx="7623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Casa Brasil -  Comitê Executivo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519280"/>
            <a:ext cx="917892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a a implementação das deliberações e diretrizes do Comitê Gestor; coordena as ações de implementação do Projeto Casa Brasi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 algn="just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ério de Ciência e Tecnologia  que o coorden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 algn="just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ituto Nacional de Tecnologia da Informação (ITI), responsável pela Secretaria-Executiva; Casa Civil da Presidência da república; Secretaria de Comunicação de Governo e Gestão Estratégica da Presidência da República; Ministérios da Educação, da Comunicação, da Cultura e do Planejamento, Orçamento e Gestã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PRO,  CEF,  Banco do Brasil, Centrais Elétricas, Empresa Brasileira de Correios e Telégrafos e Petrobr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120"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201240"/>
            <a:ext cx="7623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Casa Brasil – Coordenação Nacional</a:t>
            </a:r>
            <a:endParaRPr b="1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2340000"/>
            <a:ext cx="9178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cionaliza as ações de imple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Arial"/>
              </a:rPr>
              <a:t>Secretaria Executiva (ITI)</a:t>
            </a:r>
            <a:r>
              <a:rPr b="0" lang="en-GB" sz="2600" spc="-1" strike="noStrike">
                <a:solidFill>
                  <a:srgbClr val="00008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116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óia ações do Comitê Gestor, Comitê Executivo e   Coordenaçã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Arial"/>
              </a:rPr>
              <a:t>Secretarias Region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116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óiam as ações da Coordenação Nacional na implantação e avaliação sistemática do projeto no território nacional.  Contam com dois Técnicos para cada secre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tima</cp:lastModifiedBy>
  <cp:revision>0</cp:revision>
  <dc:subject/>
  <dc:title/>
</cp:coreProperties>
</file>