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649-B4BF-4ECC-8685-94F53230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052-1332-41DC-89AC-590DD131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D22-D658-4F3C-A29E-78C41B7B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A9E-5115-42F8-B43F-8E0EF18A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A67-9D89-47AC-A9CA-0B626A36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7DD-A441-4361-A065-69C08190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E32-635B-4B8D-AEF4-9D2B137D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E5A-AE2A-4D38-8C03-E49051B5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00B-D96D-46D3-B748-71CAD161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66F-059D-4D9B-9DFB-C2F554F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D18-46C1-4339-98CC-CD5A2B7B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409-0A52-4F21-B967-2C49732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D2FE-7923-4B63-A349-934D8BDCF66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985080" cy="446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5508720" y="2349000"/>
            <a:ext cx="1439640" cy="79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03440" y="2081160"/>
            <a:ext cx="13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Descober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da amé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08720" y="3645000"/>
            <a:ext cx="158436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75440" y="481644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olu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anc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484360" y="2349360"/>
            <a:ext cx="719280" cy="43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19440" y="21528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irosh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9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ª CNS Situação sanitária e assistencial dos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9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2ª CNS Legislação referente à higiene e segurança do trabal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95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Criação do MS - PEM (Programa de Erradicação da Malária)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9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3ª CNS Descentralização na área de saú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9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INPS Unifica os seis Institutos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9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4ª CNS Recursos humanos para as atividades em saú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Extensão de benefícios previdenciários ao trabalhador rural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PIS/PASEP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MTPS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MPAS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7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Lei 62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5ª CNS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I. Implementação do Sistema Nacional de Saúde; II. Programa de saúde materno-infantil; III. Sistema Nacional de Vigilância Epidemiológica; IV. Programa de controle das grandes endemias e V. Programa de extensão das ações de saúde às populações rur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75/7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PIASS Programa de Interiorização das Ações de Saúde e Saneamento – Lei da vacinação obrigató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e701"/>
                </a:solidFill>
                <a:latin typeface="Arial"/>
              </a:rPr>
              <a:t>19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e701"/>
                </a:solidFill>
                <a:latin typeface="Arial"/>
              </a:rPr>
              <a:t>A Lei n° 6.439, de 1° de setembro de 1977, instituiu o Sistema Nacional de Previdência e Assistência Social - SINPAS, orientado, coordenado e controlado pelo Ministério da Previdência e Assistência Social, responsável "pela proposição da política de previdência e assistência médica, farmacêutica e social, bem como pela supervisão dos órgão que lhe são subordinados" e das entidades a ele vincula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e701"/>
                </a:solidFill>
                <a:latin typeface="Arial"/>
              </a:rPr>
              <a:t>6ª CNS </a:t>
            </a:r>
            <a:r>
              <a:rPr b="0" lang="pt-BR" sz="1600" spc="-1" strike="noStrike">
                <a:solidFill>
                  <a:srgbClr val="ffe701"/>
                </a:solidFill>
                <a:latin typeface="Arial"/>
              </a:rPr>
              <a:t>I. Situação atual do controle das grandes endemias; II. Operacionalização dos novos diplomas legais básicos, aprovados pelo governo federal em matéria de saúde; III. Interiorização dos serviços de saúde e IV. Política Nacional de Saú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e701"/>
                </a:solidFill>
                <a:latin typeface="Arial"/>
              </a:rPr>
              <a:t>1980/19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e701"/>
                </a:solidFill>
                <a:latin typeface="Arial"/>
              </a:rPr>
              <a:t>Prev-Saú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e701"/>
                </a:solidFill>
                <a:latin typeface="Arial"/>
              </a:rPr>
              <a:t>7ª CNS </a:t>
            </a:r>
            <a:r>
              <a:rPr b="0" lang="pt-BR" sz="1600" spc="-1" strike="noStrike">
                <a:solidFill>
                  <a:srgbClr val="ffe701"/>
                </a:solidFill>
                <a:latin typeface="Arial"/>
              </a:rPr>
              <a:t>Extensão das ações de saúde através dos serviços bás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e701"/>
                </a:solidFill>
                <a:latin typeface="Arial"/>
              </a:rPr>
              <a:t>19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e701"/>
                </a:solidFill>
                <a:latin typeface="Arial"/>
              </a:rPr>
              <a:t>CONASP -Conselho Consultivo da Administração de Saúde Previdenciária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e701"/>
                </a:solidFill>
                <a:latin typeface="Arial"/>
              </a:rPr>
              <a:t>1982/19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e701"/>
                </a:solidFill>
                <a:latin typeface="Arial"/>
              </a:rPr>
              <a:t>AIS (até 88 em alguns estados)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e701"/>
                </a:solidFill>
                <a:latin typeface="Arial"/>
              </a:rPr>
              <a:t>19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e701"/>
                </a:solidFill>
                <a:latin typeface="Arial"/>
              </a:rPr>
              <a:t>8ª C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e701"/>
                </a:solidFill>
                <a:latin typeface="Arial"/>
              </a:rPr>
              <a:t>1986/199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e701"/>
                </a:solidFill>
                <a:latin typeface="Arial"/>
              </a:rPr>
              <a:t>SU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8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Constituição do Brasil, Art. 196 S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(Até o advento do SUS a “filosofia” do sistema de saúde foi a de recuperar a saúde da mão-de-obra emprega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8ª CNS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I. Saúde como Direito; II. Reformulação do Sistema Nacional de Saúde e III. Financiamento Seto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INAMPS passa para o MS. SUS se corpori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Lei 8.080 e Lei 8142. SUS se institucional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NOB 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9ª CNS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Municipalização é o camin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NOB 93 Ousadia de cumprir e fazer cumprir a L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NOB 96 Descentraliz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10ª CNS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I. Saúde, cidadania e políticas públicas; II. Gestão e organização dos serviços de saúde; III. Controle social na saúde; IV. Financiamento da saúde; V. Recursos humanos para a saúde e VI. Atenção integral à saú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artão Nacional de Saú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11ª CNS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Efetivando o SUS: acesso, qualidade e humanização na atenção à saúde com controle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NOAS 2001 Regionaliz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12ª CNS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Saúde um direito de todo e um dever do Estado. A saúde que temos, o SUS que quere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13ª CNS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Saúde e Qualidade de Vida: Política de Estado e Desenvolvi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e701"/>
                </a:solidFill>
                <a:latin typeface="Arial"/>
              </a:rPr>
              <a:t>Processo político institucional forma e se conforma na razão e na emoção das pessoas ou nelas é formado e conform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e701"/>
                </a:solidFill>
                <a:latin typeface="Arial"/>
              </a:rPr>
              <a:t>Bion – A mente existe para ser continente dos pensamentos; razão sem emoção é estéril e emoção sem razão é louc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Uma obra, aqui entendida como uma produção humana ou pelos homens apropriada, alcança  reconhecimento como patrimônio cultural quando a razão e a emoção se complementam, se fundem sem se confundir. Quando o sentimento estético  é acompanhado pela valoração técnica e intelectual. É quando existe uma interação entre a obra e a comunidade. É quando existe uma identificação entre o autor e o indivíduo que velará pela ob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701"/>
                </a:solidFill>
                <a:latin typeface="Arial"/>
              </a:rPr>
              <a:t>A saúde, como bem disse Teruel, "é, no desenvolvimento social, o recurso que cada pessoa dispõe para viver, produzir, participar, conhecer e reger sua existência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701"/>
                </a:solidFill>
                <a:latin typeface="Arial"/>
              </a:rPr>
              <a:t>A saúde é um bem individual e, como tal, um patrimônio pess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701"/>
                </a:solidFill>
                <a:latin typeface="Arial"/>
              </a:rPr>
              <a:t>O SUS transformou-a em patrimônio coletivo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CONFERÊNCIAS NACIONAIS DE SAÚ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1ª CNS 1941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Situação sanitária e assistencial dos es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2ª CNS 1950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Legislação referente à higiene e segurança do trabal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3ª CNS 1963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Descentralização na área de saú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4ª CNS 1967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Recursos humanos para as atividades em saú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5ª CNS 1975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I. Implementação do Sistema Nacional de Saúde; II. Programa de saúde materno-infantil; III. Sistema Nacional de Vigilância Epidemiológica; IV. Programa de controle das grandes endemias e V. Programa de extensão das ações de saúde às populações rur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6ª CNS 1977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I. Situação atual do controle das grandes endemias; II. Operacionalização dos novos diplomas legais básicos, aprovados pelo governo federal em matéria de saúde; III. Interiorização dos serviços de saúde e IV. Política Nacional de Saú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7ª CNS 1980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Extensão das ações de saúde através dos serviços bás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8ª CNS 1986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I. Saúde como Direito; II. Reformulação do Sistema Nacional de Saúde e III. Financiamento Setor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9ª CNS 1992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Municipalização é o camin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10ª CNS 1996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I. Saúde, cidadania e políticas públicas; II. Gestão e organização dos serviços de saúde; III. Controle social na saúde; IV. Financiamento da saúde; V. Recursos humanos para a saúde e VI. Atenção integral à saú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11ª CNS 2000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Efetivando o SUS: acesso, qualidade e humanização na atenção à saúde com controle 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12ª CNS 2003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Saúde um direito de todo e um dever do Estado. A saúde que temos, o SUS que quere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13ª CNS 2007</a:t>
            </a:r>
            <a:r>
              <a:rPr b="0" lang="en-US" sz="1400" spc="-1" strike="noStrike">
                <a:solidFill>
                  <a:srgbClr val="ffe701"/>
                </a:solidFill>
                <a:latin typeface="Arial"/>
              </a:rPr>
              <a:t> Saúde e Qualidade de Vida: Política de Estado e Desenvolvimen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428920" y="1712880"/>
            <a:ext cx="4292640" cy="3756240"/>
            <a:chOff x="2428920" y="1712880"/>
            <a:chExt cx="4292640" cy="3756240"/>
          </a:xfrm>
        </p:grpSpPr>
        <p:sp>
          <p:nvSpPr>
            <p:cNvPr id="52" name="_s4155"/>
            <p:cNvSpPr/>
            <p:nvPr/>
          </p:nvSpPr>
          <p:spPr>
            <a:xfrm>
              <a:off x="2428920" y="2257560"/>
              <a:ext cx="3211560" cy="3211560"/>
            </a:xfrm>
            <a:prstGeom prst="donut">
              <a:avLst>
                <a:gd name="adj" fmla="val 2939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_s4156"/>
            <p:cNvSpPr/>
            <p:nvPr/>
          </p:nvSpPr>
          <p:spPr>
            <a:xfrm>
              <a:off x="6076800" y="361800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_s4153"/>
            <p:cNvSpPr/>
            <p:nvPr/>
          </p:nvSpPr>
          <p:spPr>
            <a:xfrm>
              <a:off x="2522520" y="2351160"/>
              <a:ext cx="3022560" cy="3022560"/>
            </a:xfrm>
            <a:prstGeom prst="donut">
              <a:avLst>
                <a:gd name="adj" fmla="val 3125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_s4154"/>
            <p:cNvSpPr/>
            <p:nvPr/>
          </p:nvSpPr>
          <p:spPr>
            <a:xfrm>
              <a:off x="6076800" y="349884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_s4151"/>
            <p:cNvSpPr/>
            <p:nvPr/>
          </p:nvSpPr>
          <p:spPr>
            <a:xfrm>
              <a:off x="2617920" y="2446200"/>
              <a:ext cx="2833560" cy="2833920"/>
            </a:xfrm>
            <a:prstGeom prst="donut">
              <a:avLst>
                <a:gd name="adj" fmla="val 3333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_s4152"/>
            <p:cNvSpPr/>
            <p:nvPr/>
          </p:nvSpPr>
          <p:spPr>
            <a:xfrm>
              <a:off x="6076800" y="337968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_s4149"/>
            <p:cNvSpPr/>
            <p:nvPr/>
          </p:nvSpPr>
          <p:spPr>
            <a:xfrm>
              <a:off x="2711520" y="2540160"/>
              <a:ext cx="2644560" cy="2644560"/>
            </a:xfrm>
            <a:prstGeom prst="donut">
              <a:avLst>
                <a:gd name="adj" fmla="val 3569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_s4150"/>
            <p:cNvSpPr/>
            <p:nvPr/>
          </p:nvSpPr>
          <p:spPr>
            <a:xfrm>
              <a:off x="6076800" y="3260880"/>
              <a:ext cx="644760" cy="11880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Arial"/>
                </a:rPr>
                <a:t>12 mil anos – u.barr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Arial"/>
                </a:rPr>
                <a:t>6 mil anos – regr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Arial"/>
                </a:rPr>
                <a:t>Publicadas - Sumé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_s4147"/>
            <p:cNvSpPr/>
            <p:nvPr/>
          </p:nvSpPr>
          <p:spPr>
            <a:xfrm>
              <a:off x="2806560" y="2635200"/>
              <a:ext cx="2455920" cy="2455920"/>
            </a:xfrm>
            <a:prstGeom prst="donut">
              <a:avLst>
                <a:gd name="adj" fmla="val 3847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_s4148"/>
            <p:cNvSpPr/>
            <p:nvPr/>
          </p:nvSpPr>
          <p:spPr>
            <a:xfrm>
              <a:off x="6076800" y="314172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_s4145"/>
            <p:cNvSpPr/>
            <p:nvPr/>
          </p:nvSpPr>
          <p:spPr>
            <a:xfrm>
              <a:off x="2900520" y="2728800"/>
              <a:ext cx="2266920" cy="2266920"/>
            </a:xfrm>
            <a:prstGeom prst="donut">
              <a:avLst>
                <a:gd name="adj" fmla="val 4166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_s4146"/>
            <p:cNvSpPr/>
            <p:nvPr/>
          </p:nvSpPr>
          <p:spPr>
            <a:xfrm>
              <a:off x="6076800" y="302256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_s4143"/>
            <p:cNvSpPr/>
            <p:nvPr/>
          </p:nvSpPr>
          <p:spPr>
            <a:xfrm>
              <a:off x="2995560" y="2824200"/>
              <a:ext cx="2077920" cy="2077920"/>
            </a:xfrm>
            <a:prstGeom prst="donut">
              <a:avLst>
                <a:gd name="adj" fmla="val 4546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4144"/>
            <p:cNvSpPr/>
            <p:nvPr/>
          </p:nvSpPr>
          <p:spPr>
            <a:xfrm>
              <a:off x="6076800" y="290340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_s4141"/>
            <p:cNvSpPr/>
            <p:nvPr/>
          </p:nvSpPr>
          <p:spPr>
            <a:xfrm>
              <a:off x="3089160" y="2917800"/>
              <a:ext cx="1889280" cy="1889280"/>
            </a:xfrm>
            <a:prstGeom prst="donut">
              <a:avLst>
                <a:gd name="adj" fmla="val 5000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4142"/>
            <p:cNvSpPr/>
            <p:nvPr/>
          </p:nvSpPr>
          <p:spPr>
            <a:xfrm>
              <a:off x="6076800" y="2784600"/>
              <a:ext cx="644760" cy="11880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4139"/>
            <p:cNvSpPr/>
            <p:nvPr/>
          </p:nvSpPr>
          <p:spPr>
            <a:xfrm>
              <a:off x="3184560" y="3013200"/>
              <a:ext cx="1700280" cy="1700280"/>
            </a:xfrm>
            <a:prstGeom prst="donut">
              <a:avLst>
                <a:gd name="adj" fmla="val 5555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_s4140"/>
            <p:cNvSpPr/>
            <p:nvPr/>
          </p:nvSpPr>
          <p:spPr>
            <a:xfrm>
              <a:off x="6076800" y="266544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600 mil anos - fog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4137"/>
            <p:cNvSpPr/>
            <p:nvPr/>
          </p:nvSpPr>
          <p:spPr>
            <a:xfrm>
              <a:off x="3278160" y="3106800"/>
              <a:ext cx="1511280" cy="1511280"/>
            </a:xfrm>
            <a:prstGeom prst="donut">
              <a:avLst>
                <a:gd name="adj" fmla="val 6250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_s4138"/>
            <p:cNvSpPr/>
            <p:nvPr/>
          </p:nvSpPr>
          <p:spPr>
            <a:xfrm>
              <a:off x="6076800" y="254628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_s4135"/>
            <p:cNvSpPr/>
            <p:nvPr/>
          </p:nvSpPr>
          <p:spPr>
            <a:xfrm>
              <a:off x="3373560" y="3201840"/>
              <a:ext cx="1322280" cy="1322640"/>
            </a:xfrm>
            <a:prstGeom prst="donut">
              <a:avLst>
                <a:gd name="adj" fmla="val 7143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_s4136"/>
            <p:cNvSpPr/>
            <p:nvPr/>
          </p:nvSpPr>
          <p:spPr>
            <a:xfrm>
              <a:off x="6076800" y="2427480"/>
              <a:ext cx="644760" cy="11880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_s4133"/>
            <p:cNvSpPr/>
            <p:nvPr/>
          </p:nvSpPr>
          <p:spPr>
            <a:xfrm>
              <a:off x="3467160" y="3295800"/>
              <a:ext cx="1133280" cy="1133280"/>
            </a:xfrm>
            <a:prstGeom prst="donut">
              <a:avLst>
                <a:gd name="adj" fmla="val 8333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_s4134"/>
            <p:cNvSpPr/>
            <p:nvPr/>
          </p:nvSpPr>
          <p:spPr>
            <a:xfrm>
              <a:off x="6076800" y="230832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_s4131"/>
            <p:cNvSpPr/>
            <p:nvPr/>
          </p:nvSpPr>
          <p:spPr>
            <a:xfrm>
              <a:off x="3562200" y="3390840"/>
              <a:ext cx="944640" cy="944640"/>
            </a:xfrm>
            <a:prstGeom prst="donut">
              <a:avLst>
                <a:gd name="adj" fmla="val 10000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_s4132"/>
            <p:cNvSpPr/>
            <p:nvPr/>
          </p:nvSpPr>
          <p:spPr>
            <a:xfrm>
              <a:off x="6076800" y="218916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_s4129"/>
            <p:cNvSpPr/>
            <p:nvPr/>
          </p:nvSpPr>
          <p:spPr>
            <a:xfrm>
              <a:off x="3656160" y="3484440"/>
              <a:ext cx="755640" cy="755640"/>
            </a:xfrm>
            <a:prstGeom prst="donut">
              <a:avLst>
                <a:gd name="adj" fmla="val 12500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_s4130"/>
            <p:cNvSpPr/>
            <p:nvPr/>
          </p:nvSpPr>
          <p:spPr>
            <a:xfrm>
              <a:off x="6076800" y="207000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_s4128"/>
            <p:cNvSpPr/>
            <p:nvPr/>
          </p:nvSpPr>
          <p:spPr>
            <a:xfrm>
              <a:off x="3751200" y="3579840"/>
              <a:ext cx="566640" cy="566640"/>
            </a:xfrm>
            <a:prstGeom prst="donut">
              <a:avLst>
                <a:gd name="adj" fmla="val 16666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_s4121"/>
            <p:cNvSpPr/>
            <p:nvPr/>
          </p:nvSpPr>
          <p:spPr>
            <a:xfrm>
              <a:off x="6076800" y="1951200"/>
              <a:ext cx="644760" cy="11880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_s4127"/>
            <p:cNvSpPr/>
            <p:nvPr/>
          </p:nvSpPr>
          <p:spPr>
            <a:xfrm>
              <a:off x="3844800" y="3673440"/>
              <a:ext cx="378000" cy="378000"/>
            </a:xfrm>
            <a:prstGeom prst="donut">
              <a:avLst>
                <a:gd name="adj" fmla="val 25000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_s4119"/>
            <p:cNvSpPr/>
            <p:nvPr/>
          </p:nvSpPr>
          <p:spPr>
            <a:xfrm>
              <a:off x="6076800" y="183204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4126"/>
            <p:cNvSpPr/>
            <p:nvPr/>
          </p:nvSpPr>
          <p:spPr>
            <a:xfrm>
              <a:off x="3940200" y="3768840"/>
              <a:ext cx="189000" cy="1890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_s4117"/>
            <p:cNvSpPr/>
            <p:nvPr/>
          </p:nvSpPr>
          <p:spPr>
            <a:xfrm>
              <a:off x="6076800" y="1712880"/>
              <a:ext cx="644760" cy="1191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 milhões de an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68360" y="1268280"/>
            <a:ext cx="2087640" cy="187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0 me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cm/1000 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go = 35,5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tensílio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rro = 39,88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gras = 39,94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4653000"/>
            <a:ext cx="1008000" cy="0"/>
          </a:xfrm>
          <a:prstGeom prst="line">
            <a:avLst/>
          </a:prstGeom>
          <a:ln w="93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43640" y="4384800"/>
            <a:ext cx="24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Verniz civilizató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933720"/>
            <a:ext cx="2374920" cy="1465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tas de respeito ao outro, de respeito à sociedade, de fraternidade e solidariedade = 6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5537160"/>
            <a:ext cx="5111640" cy="1129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701"/>
                </a:solidFill>
                <a:latin typeface="Arial"/>
              </a:rPr>
              <a:t>instintos básicos de luta e fuga, de sobrevivênc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701"/>
                </a:solidFill>
                <a:latin typeface="Arial"/>
              </a:rPr>
              <a:t>e preservação - individual e da espécie e emoções primordiais de medo, ódio e am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reinaram soberanas por 3.994.000 a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ltura e civilização se formam e se conformam. Para falar em cultura é necessário existir uma civilização que será formada e conformada por vários elementos, dentre eles os cultur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ma e conteúdo são indissociáveis quando se pensa em patrimônio cultu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ormação e comunicação são elementos fundamentais para a transformação do indivíduo em cidad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eud - a civilização existe a partir de leis: leis para proteger o indivíduo de outro indivíduo, o indivíduo da sociedade e a sociedade dos indivídu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A LEI - SUS - </a:t>
            </a: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Na CF: acesso universal e igualitário (195); rede regionalizada e hierarquizada; descentralização, com direção única em cada esfera de governo; e atendimento integral (19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Princípios: Universa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Equ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Integra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iretrizes:  Descentraliz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Regionalizaç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Hierarquiz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Comando Ú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Participação da Com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701"/>
                </a:solidFill>
                <a:latin typeface="Arial"/>
              </a:rPr>
              <a:t>DE CABRAL AO CART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Breve história do tempo sanitário brasileiro, para evidenciar que existe um caminho de conquistas progressivas, e não uma sucessã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de eventos desconexos ou heró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Antes de 1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Os naturais da terra (agrupados em nações indígenas) contavam com um sistema de saúde. Algumas de suas regras sanitárias – como o enterramento dos mortos – chegaram até o nosso conheci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543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 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Hospital de Todos os Santos Brás Cubas - Santa Casa de S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800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édicos Degredados e Cristãos Novos (Marranos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8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Abertura dos Por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02/1909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Oswaldo Cru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1902 – 948 casos de Febre Amarela no Rio de Janeiro - 1909 – 0 ca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Carlos Cha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e701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Lei Elói Ch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Alguns antecedentes legais da Lei Elói Chaves (como a comprovar que tudo tem uma seqüência e conseqüênc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888 -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Decreto n° 9.912-A regulou o direito à aposentadoria dos empregados dos Correios. Fixava em 30 anos de efetivo serviço e idade mínima de 60 anos os requisitos para a aposentadoria. A Lei n° 3.397 criou a Caixa de Socorros em cada uma das Estradas de Ferro do Impé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889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-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O Decreto n° 10.269, de 20 de julho de 1889, criou o Fundo de Pensões do Pessoal das Oficinas de Imprensa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890 -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Decreto n° 221instituiu a aposentadoria para os empregados da Estrada de Ferro Central do Brasil, benefício depois ampliado a todos os ferroviários do Estado (Decreto n° 565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892 -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Lei n° 217 instituiu a aposentadoria por invalidez e a pensão por morte dos operários do Arsenal da Marinha do Rio de Janei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894 -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O projeto de lei apresentado pelo Deputado Medeiros e Albuquerque, visava instituir um seguro de acidente do trabalh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911 -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Decreto n° 9.284 criou a Caixa de Pensões dos Operários da Casa da Moe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919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- Lei n° 3.724 tornou compulsório o seguro contra acidentes do trabalho em certas ativ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923 -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O Decreto n° 4.682, de 24 de janeiro de 1923, na verdade a conhecida Lei Elói Chaves (o autor do projeto respectivo), determinou a criação de uma Caixa de Aposentadoria e Pensões para os empregados de cada empresa ferroviária. É considerada o ponto de partida, no Brasil, da Previdência Social propriamente di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O Decreto n° 16.037 criou o Conselho Nacional do Trabalho com atribuições inclusive, de decidir sobre questões relativas a Previdência Soc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926 -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A Lei n° 5.109, de 20 de dezembro de 1926, estendeu o Regime da Lei Elói Chaves aos portuários e maríti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928 -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A Lei n° 5.485, de 30 de junho de 1928, estendeu o regime da Lei Elói Chaves aos trabalhadores dos serviços telegráficos e radiotelegráf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 SUS: Patrimônio cultural brasileiro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30</a:t>
            </a:r>
            <a:br>
              <a:rPr sz="2400"/>
            </a:b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O Decreto n° 19.433, de 26 de novembro de 1930, criou o Ministério do Trabalho, Indústria e Comércio, tendo como uma das atribuições orientar e supervisionar a Previdência Social, inclusive como órgão de recursos das decisões das Caixas de Aposentadorias e Pens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O Decreto n° 19.497, de 17 de dezembro de 1930, determinou a criação de Caixas de Aposentadorias e Pensões para os empregados nos serviços de força, luz e bon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31</a:t>
            </a:r>
            <a:br>
              <a:rPr sz="2400"/>
            </a:b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O Decreto n° 20.465, de 1° de outubro de 1931, estendeu o Regime da Lei Elói Chaves aos empregados dos demais serviços públicos concedidos ou explorados pelo Poder Público, além de consolidar a legislação referente às Caixas de Aposentadorias e Pens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932</a:t>
            </a:r>
            <a:br>
              <a:rPr sz="2400"/>
            </a:b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Os trabalhadores nas empresas de mineração foram incluídos no Regime da Lei Elói Chav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933</a:t>
            </a:r>
            <a:br>
              <a:rPr sz="2800"/>
            </a:b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O Decreto n° 22.872, de 29 de junho de 1933, criou o Instituto de Aposentadoria e Pensões dos Marítimos, considerado "a primeira instituição brasileira de previdência social de âmbito nacional, com base na atividade genérica da empresa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3:24:04Z</dcterms:created>
  <dc:creator>DATASUS</dc:creator>
  <dc:description/>
  <dc:language>en-US</dc:language>
  <cp:lastModifiedBy>DATASUS</cp:lastModifiedBy>
  <dcterms:modified xsi:type="dcterms:W3CDTF">2007-10-23T12:46:53Z</dcterms:modified>
  <cp:revision>32</cp:revision>
  <dc:subject/>
  <dc:title>O SUS: Patrimônio cultural brasileiro</dc:title>
</cp:coreProperties>
</file>