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B12869-EF65-427C-8A3C-CD4EA090FE2D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F131D-9C08-4483-B7EA-0166049F72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161A-340A-4210-B57C-4C5CC5636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1541-5658-49F6-915A-3D56E739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36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F0BC-1F8B-45B9-8FA8-B6BCAF31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36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3600"/>
            <a:ext cx="2647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8F7C-3338-4D54-BDDA-5F9DF0CC78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8140-588B-4BF3-ACFC-ACFD4591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0A50-A480-4ACD-9F2B-4ADCCD7B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5216-EBF5-43A8-8FA8-8091BC18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CB3B-E4CA-44BA-8E08-54A0ADA2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9720"/>
            <a:ext cx="82216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7498-01E2-4379-9123-958D4B9D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89FD-A9C5-4383-BA2A-5D26672E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36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F6BD-0990-4B4B-8798-038AC662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1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EA09-E10C-4F74-868E-42D68363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1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7792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7DE71-8021-4E1F-9421-05FFFAB90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1144440"/>
            <a:ext cx="5788080" cy="401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65240" y="5524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846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alibri"/>
              </a:rPr>
              <a:t>Projeto de Expans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9600" y="2225520"/>
            <a:ext cx="4280040" cy="14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35440" y="2421000"/>
            <a:ext cx="3047760" cy="119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7200" spc="-1" strike="noStrike">
                <a:solidFill>
                  <a:srgbClr val="3333cc"/>
                </a:solidFill>
                <a:latin typeface="Times New Roman"/>
              </a:rPr>
              <a:t>S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-80280" y="-309600"/>
            <a:ext cx="3942360" cy="3876840"/>
            <a:chOff x="-80280" y="-309600"/>
            <a:chExt cx="3942360" cy="3876840"/>
          </a:xfrm>
        </p:grpSpPr>
        <p:sp>
          <p:nvSpPr>
            <p:cNvPr id="54" name=""/>
            <p:cNvSpPr/>
            <p:nvPr/>
          </p:nvSpPr>
          <p:spPr>
            <a:xfrm rot="2453400">
              <a:off x="343080" y="404640"/>
              <a:ext cx="3095280" cy="2448000"/>
            </a:xfrm>
            <a:prstGeom prst="rightArrow">
              <a:avLst>
                <a:gd name="adj1" fmla="val 50000"/>
                <a:gd name="adj2" fmla="val 31610"/>
              </a:avLst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557200">
              <a:off x="419040" y="942480"/>
              <a:ext cx="2757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Arial"/>
                </a:rPr>
                <a:t>Informação em Saúd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94400" y="-467640"/>
            <a:ext cx="4369680" cy="4338360"/>
            <a:chOff x="4694400" y="-467640"/>
            <a:chExt cx="4369680" cy="4338360"/>
          </a:xfrm>
        </p:grpSpPr>
        <p:sp>
          <p:nvSpPr>
            <p:cNvPr id="57" name=""/>
            <p:cNvSpPr/>
            <p:nvPr/>
          </p:nvSpPr>
          <p:spPr>
            <a:xfrm rot="18977400">
              <a:off x="5527800" y="907560"/>
              <a:ext cx="304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Arial"/>
                </a:rPr>
                <a:t>Educação</a:t>
              </a:r>
              <a:r>
                <a:rPr b="1" lang="pt-BR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3600" spc="-1" strike="noStrike">
                  <a:solidFill>
                    <a:srgbClr val="000000"/>
                  </a:solidFill>
                  <a:latin typeface="Arial"/>
                </a:rPr>
                <a:t>Permanent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9011000">
              <a:off x="5167080" y="333000"/>
              <a:ext cx="3423960" cy="2736720"/>
            </a:xfrm>
            <a:prstGeom prst="leftArrow">
              <a:avLst>
                <a:gd name="adj1" fmla="val 50000"/>
                <a:gd name="adj2" fmla="val 31278"/>
              </a:avLst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23760" y="2949480"/>
            <a:ext cx="4383720" cy="4270680"/>
            <a:chOff x="4523760" y="2949480"/>
            <a:chExt cx="4383720" cy="4270680"/>
          </a:xfrm>
        </p:grpSpPr>
        <p:sp>
          <p:nvSpPr>
            <p:cNvPr id="60" name=""/>
            <p:cNvSpPr/>
            <p:nvPr/>
          </p:nvSpPr>
          <p:spPr>
            <a:xfrm rot="2328600">
              <a:off x="5508000" y="465264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Arial"/>
                </a:rPr>
                <a:t>Controle Social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299800">
              <a:off x="5003280" y="3716280"/>
              <a:ext cx="3424320" cy="2737080"/>
            </a:xfrm>
            <a:prstGeom prst="leftArrow">
              <a:avLst>
                <a:gd name="adj1" fmla="val 50000"/>
                <a:gd name="adj2" fmla="val 31277"/>
              </a:avLst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-94320" y="2719800"/>
            <a:ext cx="4890960" cy="4466160"/>
            <a:chOff x="-94320" y="2719800"/>
            <a:chExt cx="4890960" cy="4466160"/>
          </a:xfrm>
        </p:grpSpPr>
        <p:sp>
          <p:nvSpPr>
            <p:cNvPr id="63" name=""/>
            <p:cNvSpPr/>
            <p:nvPr/>
          </p:nvSpPr>
          <p:spPr>
            <a:xfrm rot="19797600">
              <a:off x="356760" y="4325760"/>
              <a:ext cx="421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Arial"/>
                </a:rPr>
                <a:t>Democratização do acess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9735800">
              <a:off x="334800" y="3560400"/>
              <a:ext cx="4032360" cy="2784600"/>
            </a:xfrm>
            <a:prstGeom prst="rightArrow">
              <a:avLst>
                <a:gd name="adj1" fmla="val 50000"/>
                <a:gd name="adj2" fmla="val 36202"/>
              </a:avLst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007240" y="384120"/>
            <a:ext cx="3885840" cy="381960"/>
            <a:chOff x="5007240" y="384120"/>
            <a:chExt cx="3885840" cy="381960"/>
          </a:xfrm>
        </p:grpSpPr>
        <p:grpSp>
          <p:nvGrpSpPr>
            <p:cNvPr id="66" name=""/>
            <p:cNvGrpSpPr/>
            <p:nvPr/>
          </p:nvGrpSpPr>
          <p:grpSpPr>
            <a:xfrm>
              <a:off x="7223040" y="384120"/>
              <a:ext cx="1670040" cy="320760"/>
              <a:chOff x="7223040" y="384120"/>
              <a:chExt cx="1670040" cy="3207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223040" y="384120"/>
                <a:ext cx="167004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7223040" y="384120"/>
                <a:ext cx="167004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007240" y="384120"/>
              <a:ext cx="22975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Arial"/>
                </a:rPr>
                <a:t>Projeto de Expansã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0920" y="1773360"/>
            <a:ext cx="842472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Realizar diagnóstico do acervo existen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Identificar documentos relevantes e seguir a digitalização dos mesm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Inserir a produção institucional da SESA no ColecionaS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riar base de dados bibliográfic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Fortalecer e intensificar a ação da BVS institucion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Integrar as 21 Células Regionais de Saúde (CERES) e as Secretarias Municipais da Saúde dos 7 municípios com população acima de 100 mil habitant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Levantar a memória do patrimônio cultural da Saúde do Ceará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87480"/>
            <a:ext cx="1081080" cy="749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97520" y="1093680"/>
            <a:ext cx="39754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5007240" y="384120"/>
            <a:ext cx="3885840" cy="381960"/>
            <a:chOff x="5007240" y="384120"/>
            <a:chExt cx="3885840" cy="381960"/>
          </a:xfrm>
        </p:grpSpPr>
        <p:grpSp>
          <p:nvGrpSpPr>
            <p:cNvPr id="74" name=""/>
            <p:cNvGrpSpPr/>
            <p:nvPr/>
          </p:nvGrpSpPr>
          <p:grpSpPr>
            <a:xfrm>
              <a:off x="7223040" y="384120"/>
              <a:ext cx="1670040" cy="320760"/>
              <a:chOff x="7223040" y="384120"/>
              <a:chExt cx="1670040" cy="320760"/>
            </a:xfrm>
          </p:grpSpPr>
          <p:pic>
            <p:nvPicPr>
              <p:cNvPr id="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223040" y="384120"/>
                <a:ext cx="167004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7223040" y="384120"/>
                <a:ext cx="167004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007240" y="384120"/>
              <a:ext cx="22975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Arial"/>
                </a:rPr>
                <a:t>Projeto de Expansã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95280" y="1989000"/>
            <a:ext cx="84247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onstruir a linha do tempo da Saúde do Ceará  identificando os principais marcos (história do agente comunitário de saúde, Programa Saúde da Família, poliomielite, hanseníase, etc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valiar o desenvolvimento, a execução e disseminação da informação no âmbito do Estad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companhar o desenvolvimento e a execução do trabalho na Rede BiblioSU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Implantar os serviços de gestão de arquivos, protocolos e capacitação de pesso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riar o Comitê Regional da Rede BiblioS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0920" y="87480"/>
            <a:ext cx="1081080" cy="749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97520" y="1093680"/>
            <a:ext cx="39754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007240" y="384120"/>
            <a:ext cx="3885840" cy="381960"/>
            <a:chOff x="5007240" y="384120"/>
            <a:chExt cx="3885840" cy="381960"/>
          </a:xfrm>
        </p:grpSpPr>
        <p:grpSp>
          <p:nvGrpSpPr>
            <p:cNvPr id="82" name=""/>
            <p:cNvGrpSpPr/>
            <p:nvPr/>
          </p:nvGrpSpPr>
          <p:grpSpPr>
            <a:xfrm>
              <a:off x="7223040" y="384120"/>
              <a:ext cx="1670040" cy="320760"/>
              <a:chOff x="7223040" y="384120"/>
              <a:chExt cx="1670040" cy="320760"/>
            </a:xfrm>
          </p:grpSpPr>
          <p:pic>
            <p:nvPicPr>
              <p:cNvPr id="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223040" y="384120"/>
                <a:ext cx="167004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7223040" y="384120"/>
                <a:ext cx="167004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5007240" y="384120"/>
              <a:ext cx="22975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Arial"/>
                </a:rPr>
                <a:t>Projeto de Expansã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95280" y="1989000"/>
            <a:ext cx="842472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Diagnóstico de 100% do acervo bibliográfic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atalogação de 100% documentos relevant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Inserção de 100% da produção institucional da SESA no ColecionaS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riação de uma base de dados bibliográfic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apacitação de 100% do pessoal para a operacionalização efetiva dos trabalhos relacionados à Rede BiblioS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nitoramento de 100% do trabalho relacionado à Rede BiblioS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87480"/>
            <a:ext cx="1081080" cy="74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2560" y="1093680"/>
            <a:ext cx="12412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tas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007240" y="384120"/>
            <a:ext cx="3885840" cy="381960"/>
            <a:chOff x="5007240" y="384120"/>
            <a:chExt cx="3885840" cy="381960"/>
          </a:xfrm>
        </p:grpSpPr>
        <p:grpSp>
          <p:nvGrpSpPr>
            <p:cNvPr id="90" name=""/>
            <p:cNvGrpSpPr/>
            <p:nvPr/>
          </p:nvGrpSpPr>
          <p:grpSpPr>
            <a:xfrm>
              <a:off x="7223040" y="384120"/>
              <a:ext cx="1670040" cy="320760"/>
              <a:chOff x="7223040" y="384120"/>
              <a:chExt cx="1670040" cy="320760"/>
            </a:xfrm>
          </p:grpSpPr>
          <p:pic>
            <p:nvPicPr>
              <p:cNvPr id="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223040" y="384120"/>
                <a:ext cx="167004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7223040" y="384120"/>
                <a:ext cx="167004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007240" y="384120"/>
              <a:ext cx="22975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Arial"/>
                </a:rPr>
                <a:t>Projeto de Expansã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95280" y="2374920"/>
            <a:ext cx="842472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sto pelos integrantes do NUCIT e representantes das Coordenadorias: das Células Regionais de Saúde - CORES, de Políticas e Atenção à Saúde - COPAS, de Promoção à Saúde - COPROM, Administrativo-financeira - COAFI, dos Núcleos de: Tecnologia da Informação - NUINF, de Economia da Saúde - NUCONS, da Assessoria de Comunicação - ASCOM, do Conselho Estadual de Saúde - CESAU, da Escola de Saúde Pública Paulo Marcelo Martins Rodrigues - ESP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87480"/>
            <a:ext cx="1081080" cy="749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62280" y="1093680"/>
            <a:ext cx="5356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mitê Regional da Rede Biblio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007240" y="384120"/>
            <a:ext cx="3885840" cy="381960"/>
            <a:chOff x="5007240" y="384120"/>
            <a:chExt cx="3885840" cy="381960"/>
          </a:xfrm>
        </p:grpSpPr>
        <p:grpSp>
          <p:nvGrpSpPr>
            <p:cNvPr id="98" name=""/>
            <p:cNvGrpSpPr/>
            <p:nvPr/>
          </p:nvGrpSpPr>
          <p:grpSpPr>
            <a:xfrm>
              <a:off x="7223040" y="384120"/>
              <a:ext cx="1670040" cy="320760"/>
              <a:chOff x="7223040" y="384120"/>
              <a:chExt cx="1670040" cy="32076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223040" y="384120"/>
                <a:ext cx="167004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7223040" y="384120"/>
                <a:ext cx="167004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007240" y="384120"/>
              <a:ext cx="22975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Arial"/>
                </a:rPr>
                <a:t>Projeto de Expansã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87480"/>
            <a:ext cx="108108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826920" y="1844640"/>
          <a:ext cx="7709040" cy="4380120"/>
        </p:xfrm>
        <a:graphic>
          <a:graphicData uri="http://schemas.openxmlformats.org/drawingml/2006/table">
            <a:tbl>
              <a:tblPr/>
              <a:tblGrid>
                <a:gridCol w="2205360"/>
                <a:gridCol w="47448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SCRI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fe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m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ab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ma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u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u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ag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ou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o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z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286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1- Capacitação de pessoal local pela equipe da BVS/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286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2- Implantação da estrutura fís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286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3- Processo para contratação de arquivista, bibliotecário e histori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286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4- Diagnóstico do acervo existente na SE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5- Pesquisar acervos de documentos releva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6- Inserir a produção institucional da SESA no ColecionaS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7- Criar base de dados bibliográf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8- Capacitação de pessoal e acompanhamento da operacionaliz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9- Visita de monitor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- Fazer avaliação do proj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- I Encontro da Rede BiblioS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946880" y="1147680"/>
            <a:ext cx="39816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onograma de Execuçã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92440" y="404640"/>
            <a:ext cx="3786120" cy="2624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01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ordenadoria de Gestão do Trabalho e da Educação em Saúde - CG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úcleo de Ciência, Tecnologia e Inovação em Saúde - NUC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791640" y="4508640"/>
            <a:ext cx="377280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quipe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NUCIT-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Newton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Kepler de Oliveira - Supervi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aria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Corina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Amaral Vi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aria de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Fátima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de Sou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aria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Flávia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Barbo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aria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Núbia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Noronh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aul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Marcelo Laranjeira Barro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6195600" y="5877000"/>
            <a:ext cx="256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ucit@saude.ce.gov.b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85 3101-523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ap</cp:lastModifiedBy>
  <dcterms:modified xsi:type="dcterms:W3CDTF">2007-10-24T20:56:09Z</dcterms:modified>
  <cp:revision>9</cp:revision>
  <dc:subject/>
  <dc:title>Slide 1</dc:title>
</cp:coreProperties>
</file>