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5.wmf" ContentType="image/x-wmf"/>
  <Override PartName="/ppt/media/image29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DDA-99DE-4926-B272-AF560E83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11F-812C-4A49-A0CD-6F7BFD55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938-572A-4402-ACBF-4CB47D56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3EC-F646-4D3E-AEAB-F7D85E9C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2A1-97EF-48D9-9D80-94D7C0B4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569-F2FA-478F-94CE-A25A4947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138-6A48-43BE-9CF8-E922CF31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A3B-9FF3-4A58-BA22-857245FD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EDC-6F5D-42EF-8DA1-5D52F322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619-5D1E-4718-AA1D-F58DA81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F21-4D78-4FA9-8136-9C0C638C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B5B-DA61-44FB-B1F8-4C0C8AA0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C3F5-48C0-4BB6-BFA0-C59752FE8C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440" y="0"/>
            <a:ext cx="4573440" cy="1173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228600" y="487440"/>
            <a:ext cx="2952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eec100"/>
                </a:solidFill>
                <a:latin typeface="Arial"/>
              </a:rPr>
              <a:t>Brasília, 24 ou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unidade Virtual BV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contexto da Rede Bibli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sane Taru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REME/OPAS/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50760" y="503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191" b="0"/>
          <a:stretch/>
        </p:blipFill>
        <p:spPr>
          <a:xfrm>
            <a:off x="149400" y="2101680"/>
            <a:ext cx="8959680" cy="384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5320" y="1447920"/>
            <a:ext cx="82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em somos? O que sabemos? Como descobrir o que sabem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75000" y="6216480"/>
            <a:ext cx="654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http://cv-saudebucal.bvs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6680" y="260280"/>
            <a:ext cx="8456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503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1880" y="5051520"/>
            <a:ext cx="53881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odo mundo tem determinado conhe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inguém sabe tudo, o conhecimento está no coletiv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ichel Serres – Filósofo Francê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86" t="0" r="2682" b="0"/>
          <a:stretch/>
        </p:blipFill>
        <p:spPr>
          <a:xfrm>
            <a:off x="0" y="1773360"/>
            <a:ext cx="912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85880" y="1590840"/>
            <a:ext cx="5705640" cy="435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3730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6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95280"/>
            <a:ext cx="74674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unidades Virtuais – Ambientes Colabo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mo utilizado para os agrupamentos humanos que surgem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iberespaço, através da comunicação mediada pelas red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ut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uma iniciativa inerente às organizações baseadas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entificam interesses comuns e valores da comun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abilizam contribuições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ta conexões entre indivíduos independente de loc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articipações podem ser assíncr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a essência é o compromisso e a ética dos seus particip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243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9000" y="6172200"/>
            <a:ext cx="651672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480" y="3276720"/>
            <a:ext cx="8001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ambiente de 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gestores, pesquisadores, conselheiros, bibliotecários, profissionais da saúde, estudantes e cidad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essados em informações e documentos pertinentes à saúde púb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002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dade Virtual da Rede de Bibliotecas e Unidades de Informação Cooperantes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asil (Rede BiblioS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9000" y="6172200"/>
            <a:ext cx="6516720" cy="571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47920" y="169236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57400" y="1219320"/>
            <a:ext cx="5257800" cy="398880"/>
          </a:xfrm>
          <a:prstGeom prst="rect">
            <a:avLst/>
          </a:prstGeom>
          <a:solidFill>
            <a:srgbClr val="fdc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http://cv-redebibliosus.bvs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943600" y="1752480"/>
            <a:ext cx="252252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588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543440" y="3352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251604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0" r="0" b="2460"/>
          <a:stretch/>
        </p:blipFill>
        <p:spPr>
          <a:xfrm>
            <a:off x="4800600" y="1143000"/>
            <a:ext cx="2013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4100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029200" cy="4898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6095880"/>
            <a:ext cx="49150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371600" y="1600200"/>
            <a:ext cx="5981760" cy="4343040"/>
            <a:chOff x="1371600" y="1600200"/>
            <a:chExt cx="5981760" cy="4343040"/>
          </a:xfrm>
        </p:grpSpPr>
        <p:sp>
          <p:nvSpPr>
            <p:cNvPr id="47" name=""/>
            <p:cNvSpPr/>
            <p:nvPr/>
          </p:nvSpPr>
          <p:spPr>
            <a:xfrm>
              <a:off x="2811600" y="2486880"/>
              <a:ext cx="3082680" cy="26614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5056560"/>
              <a:ext cx="1771560" cy="886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6520" y="1600200"/>
              <a:ext cx="1771920" cy="8866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81800" y="5056560"/>
              <a:ext cx="1771560" cy="8866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3581280"/>
            <a:ext cx="1168200" cy="1447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33920" y="1752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5181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 fontes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5181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 A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315200" cy="381024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676520"/>
            <a:ext cx="17524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828800"/>
            <a:ext cx="175284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1981080"/>
            <a:ext cx="17524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5105520"/>
            <a:ext cx="175248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5334120"/>
            <a:ext cx="175284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486400"/>
            <a:ext cx="175284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809880"/>
            <a:ext cx="1752840" cy="914400"/>
          </a:xfrm>
          <a:prstGeom prst="ellipse">
            <a:avLst/>
          </a:prstGeom>
          <a:solidFill>
            <a:srgbClr val="c0de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4495680"/>
            <a:ext cx="1752480" cy="914400"/>
          </a:xfrm>
          <a:prstGeom prst="ellipse">
            <a:avLst/>
          </a:prstGeom>
          <a:solidFill>
            <a:srgbClr val="c0de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4191120"/>
            <a:ext cx="1752840" cy="914400"/>
          </a:xfrm>
          <a:prstGeom prst="ellipse">
            <a:avLst/>
          </a:prstGeom>
          <a:solidFill>
            <a:srgbClr val="c0de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116856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819520" y="3048120"/>
            <a:ext cx="11682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9000" y="6172200"/>
            <a:ext cx="651672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6280" y="895320"/>
            <a:ext cx="8191440" cy="5067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124080" y="1828800"/>
            <a:ext cx="38102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9000" y="6172200"/>
            <a:ext cx="651672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69343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039000" cy="2000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4363920" cy="4495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57150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0" b="72426"/>
          <a:stretch/>
        </p:blipFill>
        <p:spPr>
          <a:xfrm>
            <a:off x="914400" y="1600200"/>
            <a:ext cx="2971800" cy="1590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2236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629400" cy="2024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61722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0199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95480" y="4149720"/>
            <a:ext cx="6248520" cy="1898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33720" y="1752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ito Obriga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666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ane.taruhn@birem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9907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ção - ev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2259000"/>
            <a:ext cx="2520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ég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t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fone (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ádio (19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ema sonoro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visão (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2819520"/>
            <a:ext cx="237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to e vídeo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8172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J. B. Járdines, C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449100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écul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95640" y="4995720"/>
            <a:ext cx="165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éca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80360" y="5195880"/>
            <a:ext cx="122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114640"/>
            <a:ext cx="19429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h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gu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4762" t="37269" r="4020" b="21145"/>
          <a:stretch/>
        </p:blipFill>
        <p:spPr>
          <a:xfrm>
            <a:off x="684360" y="1700280"/>
            <a:ext cx="8064360" cy="3097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602136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Prof. Pacheco, PUC-PR citado por Filipe Cassapo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992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84360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0694" t="32293" r="8838" b="8638"/>
          <a:stretch/>
        </p:blipFill>
        <p:spPr>
          <a:xfrm>
            <a:off x="684360" y="1484280"/>
            <a:ext cx="7848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14720" y="1228680"/>
            <a:ext cx="33526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14720" y="1228680"/>
            <a:ext cx="33526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859280" y="836640"/>
            <a:ext cx="3745080" cy="650520"/>
            <a:chOff x="4859280" y="836640"/>
            <a:chExt cx="3745080" cy="650520"/>
          </a:xfrm>
        </p:grpSpPr>
        <p:sp>
          <p:nvSpPr>
            <p:cNvPr id="84" name=""/>
            <p:cNvSpPr/>
            <p:nvPr/>
          </p:nvSpPr>
          <p:spPr>
            <a:xfrm flipV="1">
              <a:off x="4859280" y="1197000"/>
              <a:ext cx="12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54920" y="836640"/>
              <a:ext cx="71280" cy="64908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27000 h 649080"/>
                <a:gd name="textAreaBottom" fmla="*/ 62208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64360" y="844560"/>
              <a:ext cx="2340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de de fontes e fluxos de inform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681200" y="1854360"/>
            <a:ext cx="6172200" cy="990360"/>
            <a:chOff x="1681200" y="1854360"/>
            <a:chExt cx="6172200" cy="990360"/>
          </a:xfrm>
        </p:grpSpPr>
        <p:sp>
          <p:nvSpPr>
            <p:cNvPr id="88" name=""/>
            <p:cNvSpPr/>
            <p:nvPr/>
          </p:nvSpPr>
          <p:spPr>
            <a:xfrm>
              <a:off x="1681200" y="2448000"/>
              <a:ext cx="533520" cy="3808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95600" y="2448000"/>
              <a:ext cx="53352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10000" y="2448000"/>
              <a:ext cx="533520" cy="38088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4400" y="2448000"/>
              <a:ext cx="533520" cy="38088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8800" y="2448000"/>
              <a:ext cx="533520" cy="380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986120" y="1990800"/>
              <a:ext cx="38088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824200" y="2067120"/>
              <a:ext cx="152280" cy="304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4920" y="1990800"/>
              <a:ext cx="75960" cy="380880"/>
            </a:xfrm>
            <a:prstGeom prst="line">
              <a:avLst/>
            </a:prstGeom>
            <a:ln w="2844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4576680" y="1990800"/>
              <a:ext cx="76320" cy="4572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24600" y="2692440"/>
              <a:ext cx="60948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186520" y="2006640"/>
              <a:ext cx="380880" cy="4572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7400" y="1854360"/>
              <a:ext cx="1447920" cy="6094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0400" y="2463840"/>
              <a:ext cx="1143000" cy="380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" y="1371600"/>
            <a:ext cx="7162920" cy="1523880"/>
          </a:xfrm>
          <a:prstGeom prst="ellipse">
            <a:avLst/>
          </a:prstGeom>
          <a:solidFill>
            <a:srgbClr val="bbe0e3">
              <a:alpha val="12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967280" y="1771560"/>
            <a:ext cx="4176360" cy="650520"/>
            <a:chOff x="4967280" y="1771560"/>
            <a:chExt cx="4176360" cy="650520"/>
          </a:xfrm>
        </p:grpSpPr>
        <p:sp>
          <p:nvSpPr>
            <p:cNvPr id="103" name=""/>
            <p:cNvSpPr/>
            <p:nvPr/>
          </p:nvSpPr>
          <p:spPr>
            <a:xfrm flipV="1">
              <a:off x="4967280" y="2131920"/>
              <a:ext cx="1364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11960" y="1771560"/>
              <a:ext cx="79200" cy="649080"/>
            </a:xfrm>
            <a:custGeom>
              <a:avLst/>
              <a:gdLst>
                <a:gd name="textAreaLeft" fmla="*/ 23040 w 79200"/>
                <a:gd name="textAreaRight" fmla="*/ 79560 w 79200"/>
                <a:gd name="textAreaTop" fmla="*/ 27000 h 649080"/>
                <a:gd name="textAreaBottom" fmla="*/ 62208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1779480"/>
              <a:ext cx="260964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de de produtores, intermediários, usuá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68360" y="3390840"/>
            <a:ext cx="835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modelo da BVS a rede de instituições produtoras, intermediárias e usuárias de informação científica, técnica e factual operam redes de fontes de informação no espaço virtual da BVS. Em 2007 mais de 2000 instituições operam direta ou indiretamente produtos e serviços da B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81360"/>
            <a:ext cx="835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promover o acesso eqüitativo à informação e conhecimento atualizado e desenvolver ambientes aprendizes e informados, a BIREME vem desenvolvendo um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todologia baseada em linhas de ação para que organizações, redes, sistemas, unidades, ambientes e contextos estejam plenamente informados, operando seus fluxos locais de informação integrados à rede de fontes e fluxos de informação da B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6:25:11Z</dcterms:created>
  <dc:creator>taruhnro</dc:creator>
  <dc:description/>
  <dc:language>en-US</dc:language>
  <cp:lastModifiedBy>acap</cp:lastModifiedBy>
  <dcterms:modified xsi:type="dcterms:W3CDTF">2007-10-24T20:56:01Z</dcterms:modified>
  <cp:revision>25</cp:revision>
  <dc:subject/>
  <dc:title>Comunidade Virtual BVS no contexto da Rede BiblioSUS</dc:title>
</cp:coreProperties>
</file>