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1722-E2A0-4354-A049-7A3BD766D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9AA7-0A29-4426-8D1B-D2005001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36A2-6A4D-4E84-AEE8-6C159F320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BBC2-8ACD-4424-ADB5-94DAD551E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E546-4C09-4087-8DB7-A1969BBB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7B14-17E4-44A2-BE21-7F0F93F6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5F60-7A91-43B8-964E-1CB24635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7133-278C-41B7-8451-23A4A15E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282C-8017-475C-B071-991F8DFA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D1AF-C6F6-454A-8C77-0866810E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564F-568F-481B-872A-3507EDC9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91A3-16EA-4167-84BD-184046C7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1158-13D7-4FCE-B989-1B4BE6E5B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-1189080" y="4365720"/>
          <a:ext cx="3672000" cy="357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189080" y="4365720"/>
                    <a:ext cx="367200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I Fórum de Informação em Saú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V Encontro da Rede Biblio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iculação das diretrizes do PAC - Saúde e Política de Inform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79280" y="1915920"/>
            <a:ext cx="91440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menda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cutir os avanços e oferecer propostas e sugestões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13ª Conferencia Nacional de Saúde – CNS, alinhadas às recomendações da 12ª CNS, à Política Nacional de Informação e Informática em Saúde – PNIIS e ao PAC – Saú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800000" y="1988640"/>
            <a:ext cx="716436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transformação começa com ações que tirem o cidadão da condição de escuta e que o levem a se sentir sujeito de direito“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5T19:06:19Z</dcterms:created>
  <dc:creator>sindkrei.oliveira</dc:creator>
  <dc:description/>
  <dc:language>en-US</dc:language>
  <cp:lastModifiedBy>DATASUS</cp:lastModifiedBy>
  <dcterms:modified xsi:type="dcterms:W3CDTF">2007-10-23T13:30:40Z</dcterms:modified>
  <cp:revision>29</cp:revision>
  <dc:subject/>
  <dc:title>Slide 1</dc:title>
</cp:coreProperties>
</file>