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wmf" ContentType="image/x-wmf"/>
  <Override PartName="/ppt/media/image2.png" ContentType="image/png"/>
  <Override PartName="/ppt/media/image3.wmf" ContentType="image/x-wmf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B3BFC-E4A8-49DD-A7BF-30BB78342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FE191-0715-46E4-B625-A7EE44210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BE165-DE27-4EEB-A595-6B7B95592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F03F3-D617-4A19-94E9-7AD6C1B38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31F9C-33EB-45D4-819E-FBD3BF67A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E8397-366A-4E78-AEC1-CA5629AA1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C5AA3-405F-474F-AFE2-774B9286E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8DFC8-3156-44E8-AB84-1942BE811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C7E44-8E6F-4A95-9B67-43D46932D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83328-8C6C-42D5-90E7-D97920E86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CEAA2-4396-4490-A313-E447D17A2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E81E2-1145-4CD0-A7C7-555DE5F53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38BCE-E07D-430E-B404-98F105EC3F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" name=""/>
          <p:cNvGraphicFramePr/>
          <p:nvPr/>
        </p:nvGraphicFramePr>
        <p:xfrm>
          <a:off x="7236000" y="4869000"/>
          <a:ext cx="2881080" cy="2801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236000" y="4869000"/>
                    <a:ext cx="2881080" cy="280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0" y="0"/>
            <a:ext cx="2700360" cy="987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mailto:ibliotecas.sus@saude.gov.br" TargetMode="External"/><Relationship Id="rId2" Type="http://schemas.openxmlformats.org/officeDocument/2006/relationships/hyperlink" Target="http://www.saude.gov.br/bibliosus" TargetMode="External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755640" y="1484280"/>
            <a:ext cx="76788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I Fórum de Informação em Saú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V Encontro da Rede BiblioS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asília,  22 a 25  de outubro de 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250920" y="981000"/>
            <a:ext cx="864216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o resolver os pontos fra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apacitação de profissionais de maneira local ou reg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riação de Portarias de depósito legal para as Secretarias Estaduais e federa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vulgar a produção cientifica de cada institui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ior utilização da comunidade virt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riação de contatos para confirmação do recebimento das publicações distribuiçã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93840" y="836280"/>
            <a:ext cx="60498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stão administrativa e organizacional da Re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1341360"/>
            <a:ext cx="9144000" cy="551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95280" y="404640"/>
            <a:ext cx="604836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stão administrativa e organizacional da Re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78920" y="907560"/>
            <a:ext cx="87138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Decisão do grup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ão é o momento de regionalizar a Rede, pelos seguintes motivo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imeiramente, deve haver um fortalecimento e maior comunicação entre os participan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Estruturar os estad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Necessidade de melhor aprofundamento das responsabilidades das bibliotec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Estruturar inicialmente dos núcle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Necessidade de regionalização, mas sem a característica de responsabilida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riação de um regimento interno da Re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250920" y="1125000"/>
            <a:ext cx="792144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13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Rede BiblioSUS significa e simboliza o esforço conjunto em busca de um resultado único, por meio da universalidade, integralidade, eqüidade, descentralização, regionalização e participação social, para promover o acesso democrático às fontes informações em saúd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3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r isso, é de fundamental importância a realização de uma gestão administrativa e organizacional cooperativa, onde cada indivíduo não pode pensar de forma isolada, pois suas ações e decisões poderão ter reflexos nas atividades de outros indivíduos integrantes da gestã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3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seqüentemente, a realização de tais propósitos somente será possível com a união e o comprometimento de todos os profissionais envolvidos, onde cada uma saberá qual o seu papel e o do próximo, e principalmente, de que estamos fazendo algo que será histórico e irá prosperar para as próximas geraçõ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3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3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amos com vocês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1258560" y="2491920"/>
            <a:ext cx="721044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</a:rPr>
              <a:t>b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ibliotecas.sus@saude.gov.b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saude.gov.br/biblios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61) 3315-253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914040" y="1341000"/>
            <a:ext cx="7761240" cy="93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onta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6836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ctr">
              <a:lnSpc>
                <a:spcPct val="1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Rede BiblioSUS assume novas políticas para a gestão do conhecimento promovendo a articulação de projetos integradores entre as bibliotecas participant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11280" y="691920"/>
            <a:ext cx="57103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ncontros da Re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468360" y="1341360"/>
          <a:ext cx="8351640" cy="478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341360"/>
                    <a:ext cx="8351640" cy="478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250920" y="2204640"/>
            <a:ext cx="8642160" cy="438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xperiências da Rede RVBI -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-Formas de acesso ao acervo das 15 bibliotecas participantes da Rede RVBI (Gestão - Biblioteca do Senado Feder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Rede RITS -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isa democratizar e expandir a inclusão social por meio da TI com foco na educação, no social e na cultu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402920" y="981000"/>
            <a:ext cx="691380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II Encontro Rede BiblioSUS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ssão de Palestr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979640" y="907560"/>
            <a:ext cx="61214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II Encontro Rede BiblioSUS Sessão de Palestr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23640" y="2060280"/>
            <a:ext cx="8373960" cy="41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Verdana"/>
              </a:rPr>
              <a:t>Apresentação SES-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Experiências da rede de bibliotecas no 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Verdana"/>
              </a:rPr>
              <a:t>Apresentação Fiocruz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Acesso à Base de Dados da Biblioteca René   Racho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Verdana"/>
              </a:rPr>
              <a:t>Apresentação Projeto Terminologi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-  Coordenação de Documentação e Informação do Ministério da Saúd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2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álise dos pontos fortes e fracos da Re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2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estão administrativa e organizacional da Re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2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tegração e comunicação das bibliote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1547280" y="836280"/>
            <a:ext cx="648036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incipais tópicos de discussã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684360" y="907920"/>
            <a:ext cx="7705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ntos fortes da Rede BiblioS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unidade virt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vulgação de materia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urgimento de pequenas redes dentro da Rede BiblioS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portunidade de informatização e capacitação de profissiona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mocratização das informações em saúde aos cidadã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324000" y="90792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o dinamizar os pontos for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rketing geral da Rede e da CV entre os participa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tensificar o uso da C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mpliar a Capacitação de profissionais diretamente ligados a Re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timizar os recursos existentes para expansão da Re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179280" y="980640"/>
            <a:ext cx="878544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ntos fracos da Rede BiblioS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7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sconhecimento das ações desenvolvidas pelas bibliotecas da re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7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alta de comunicação entre os membr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7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alha e ineficiência de distribuição de publicaçõ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7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alta de treinamento quanto a comunidade virtu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7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alta de busca de publicações produzidas pelo estado ou município para composição do acerv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7T11:10:28Z</dcterms:created>
  <dc:creator>Aluguel 07</dc:creator>
  <dc:description/>
  <dc:language>en-US</dc:language>
  <cp:lastModifiedBy>MS</cp:lastModifiedBy>
  <dcterms:modified xsi:type="dcterms:W3CDTF">2007-10-19T18:40:59Z</dcterms:modified>
  <cp:revision>37</cp:revision>
  <dc:subject/>
  <dc:title>Slide 1</dc:title>
</cp:coreProperties>
</file>