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314-5F55-4F62-9EF7-5C3567A7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7C2-FE74-4301-B3A9-011CF0C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1BA-5AA5-4F40-938E-39F7B829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5E1-CCDA-41EC-9A97-9520DF44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BEF-B6C8-4A4E-8BFC-83868C46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68E9-E63A-4594-8206-52D547D9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B67-F49A-4103-B5ED-D9371C98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E76-E802-4918-9838-0847DD25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013-4E94-43D0-A5A8-AE4BF1C9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65F-3233-435B-9DF0-95344E51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8F6-BC66-47A2-9355-8957AFF1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7E1-1CD3-4C63-8FE9-1CF2DD1D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5273-C897-4484-A833-25E82249B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.br/imgres?imgurl=http://www.amorexigente.org.br/imagens/livros.gif&amp;imgrefurl=http://www.amorexigente.org.br/index_produtos.htm&amp;h=220&amp;w=206&amp;sz=19&amp;tbnid=oRbTABzjU-wJ:&amp;tbnh=102&amp;tbnw=95&amp;hl=pt-BR&amp;start=2&amp;prev=/images%3Fq%3Dlivros%26svnum%3D10%26hl%3Dpt-BR%26lr%3D%26sa%3D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OMPUTADO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testeira_final"/>
          <p:cNvPicPr/>
          <p:nvPr/>
        </p:nvPicPr>
        <p:blipFill>
          <a:blip r:embed="rId2">
            <a:lum bright="-12000"/>
          </a:blip>
          <a:srcRect l="1113" t="0" r="72619" b="24864"/>
          <a:stretch/>
        </p:blipFill>
        <p:spPr>
          <a:xfrm>
            <a:off x="304920" y="4267080"/>
            <a:ext cx="5715000" cy="2243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7520" y="380880"/>
            <a:ext cx="54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são para o 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1371600"/>
            <a:ext cx="4191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Mobilização das bibliotecas do país para democratizar o acesso às informações em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s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s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íticas e diretr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ções em texto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as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os,  entre outros serviç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bre a Estação B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56664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2663640" cy="2005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03640" y="1197000"/>
            <a:ext cx="2665440" cy="2008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132000" y="3284640"/>
            <a:ext cx="2735280" cy="205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227640" y="476280"/>
            <a:ext cx="2594160" cy="1952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084720" y="4581360"/>
            <a:ext cx="266724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ase de Dados Coleciona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042920" y="1484280"/>
            <a:ext cx="7224480" cy="4808160"/>
            <a:chOff x="1042920" y="1484280"/>
            <a:chExt cx="7224480" cy="4808160"/>
          </a:xfrm>
        </p:grpSpPr>
        <p:sp>
          <p:nvSpPr>
            <p:cNvPr id="105" name="Text Box 8"/>
            <p:cNvSpPr/>
            <p:nvPr/>
          </p:nvSpPr>
          <p:spPr>
            <a:xfrm>
              <a:off x="2070000" y="545076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991520" y="1790280"/>
              <a:ext cx="159408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S/P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6739560" y="430740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G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6739560" y="346824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H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6739560" y="262908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1042920" y="445860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RP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1042920" y="346824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3969360" y="598536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1042920" y="262908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S/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8"/>
            <p:cNvSpPr/>
            <p:nvPr/>
          </p:nvSpPr>
          <p:spPr>
            <a:xfrm>
              <a:off x="3969360" y="148428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5869080" y="179028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Arial"/>
                </a:rPr>
                <a:t>Fiocru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5947560" y="5374800"/>
              <a:ext cx="1527840" cy="3070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PA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62000" y="2323440"/>
              <a:ext cx="3639960" cy="2896560"/>
            </a:xfrm>
            <a:prstGeom prst="flowChartMagneticDisk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ColecionaS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626920" y="5241960"/>
            <a:ext cx="51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99"/>
                </a:solidFill>
                <a:latin typeface="Times New Roman"/>
              </a:rPr>
              <a:t>OMS - The </a:t>
            </a:r>
            <a:r>
              <a:rPr b="1" lang="pt-BR" sz="2000" spc="-1" strike="noStrike">
                <a:solidFill>
                  <a:srgbClr val="333399"/>
                </a:solidFill>
                <a:latin typeface="Times New Roman"/>
              </a:rPr>
              <a:t>BLUE TRUNK LIBRARY </a:t>
            </a:r>
            <a:r>
              <a:rPr b="1" i="1" lang="pt-BR" sz="2000" spc="-1" strike="noStrike">
                <a:solidFill>
                  <a:srgbClr val="333399"/>
                </a:solidFill>
                <a:latin typeface="Times New Roman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71840" y="4724280"/>
            <a:ext cx="4343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Verdana"/>
              </a:rPr>
              <a:t>S</a:t>
            </a:r>
            <a:r>
              <a:rPr b="1" lang="en-US" sz="1700" spc="-1" strike="noStrike">
                <a:solidFill>
                  <a:srgbClr val="ffcc00"/>
                </a:solidFill>
                <a:latin typeface="Verdana"/>
              </a:rPr>
              <a:t>O</a:t>
            </a:r>
            <a:r>
              <a:rPr b="1" lang="en-US" sz="1700" spc="-1" strike="noStrike">
                <a:solidFill>
                  <a:srgbClr val="000080"/>
                </a:solidFill>
                <a:latin typeface="Verdana"/>
              </a:rPr>
              <a:t>L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en-US" sz="1700" spc="-1" strike="noStrike">
                <a:solidFill>
                  <a:srgbClr val="7d99db"/>
                </a:solidFill>
                <a:latin typeface="Verdana"/>
              </a:rPr>
              <a:t>D</a:t>
            </a:r>
            <a:r>
              <a:rPr b="1" lang="en-US" sz="1700" spc="-1" strike="noStrike">
                <a:solidFill>
                  <a:srgbClr val="008000"/>
                </a:solidFill>
                <a:latin typeface="Verdana"/>
              </a:rPr>
              <a:t>A</a:t>
            </a:r>
            <a:r>
              <a:rPr b="1" lang="en-US" sz="1700" spc="-1" strike="noStrike">
                <a:solidFill>
                  <a:srgbClr val="ffcc00"/>
                </a:solidFill>
                <a:latin typeface="Verdana"/>
              </a:rPr>
              <a:t>R</a:t>
            </a:r>
            <a:r>
              <a:rPr b="1" lang="en-US" sz="1700" spc="-1" strike="noStrike">
                <a:solidFill>
                  <a:srgbClr val="000080"/>
                </a:solidFill>
                <a:latin typeface="Verdana"/>
              </a:rPr>
              <a:t>I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1" lang="en-US" sz="1700" spc="-1" strike="noStrike">
                <a:solidFill>
                  <a:srgbClr val="cc99ff"/>
                </a:solidFill>
                <a:latin typeface="Verdana"/>
              </a:rPr>
              <a:t>D</a:t>
            </a:r>
            <a:r>
              <a:rPr b="1" lang="en-US" sz="1700" spc="-1" strike="noStrike">
                <a:solidFill>
                  <a:srgbClr val="008000"/>
                </a:solidFill>
                <a:latin typeface="Verdana"/>
              </a:rPr>
              <a:t>A</a:t>
            </a:r>
            <a:r>
              <a:rPr b="1" lang="en-US" sz="1700" spc="-1" strike="noStrike">
                <a:solidFill>
                  <a:srgbClr val="ffcc00"/>
                </a:solidFill>
                <a:latin typeface="Verdana"/>
              </a:rPr>
              <a:t>D</a:t>
            </a:r>
            <a:r>
              <a:rPr b="1" lang="en-US" sz="1700" spc="-1" strike="noStrike">
                <a:solidFill>
                  <a:srgbClr val="800080"/>
                </a:solidFill>
                <a:latin typeface="Verdana"/>
              </a:rPr>
              <a:t>E</a:t>
            </a:r>
            <a:r>
              <a:rPr b="1" lang="en-US" sz="1700" spc="-1" strike="noStrike">
                <a:solidFill>
                  <a:srgbClr val="000080"/>
                </a:solidFill>
                <a:latin typeface="Verdana"/>
              </a:rPr>
              <a:t> F</a:t>
            </a:r>
            <a:r>
              <a:rPr b="1" lang="en-US" sz="1700" spc="-1" strike="noStrike">
                <a:solidFill>
                  <a:srgbClr val="ffcc00"/>
                </a:solidFill>
                <a:latin typeface="Verdana"/>
              </a:rPr>
              <a:t>R</a:t>
            </a:r>
            <a:r>
              <a:rPr b="1" lang="en-US" sz="1700" spc="-1" strike="noStrike">
                <a:solidFill>
                  <a:srgbClr val="008000"/>
                </a:solidFill>
                <a:latin typeface="Verdana"/>
              </a:rPr>
              <a:t>A</a:t>
            </a:r>
            <a:r>
              <a:rPr b="1" lang="en-US" sz="1700" spc="-1" strike="noStrike">
                <a:solidFill>
                  <a:srgbClr val="7d99db"/>
                </a:solidFill>
                <a:latin typeface="Verdana"/>
              </a:rPr>
              <a:t>N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Ç</a:t>
            </a:r>
            <a:r>
              <a:rPr b="1" lang="en-US" sz="1700" spc="-1" strike="noStrike">
                <a:solidFill>
                  <a:srgbClr val="800080"/>
                </a:solidFill>
                <a:latin typeface="Verdana"/>
              </a:rPr>
              <a:t>A</a:t>
            </a:r>
            <a:r>
              <a:rPr b="1" lang="en-US" sz="1700" spc="-1" strike="noStrike">
                <a:solidFill>
                  <a:srgbClr val="7d99db"/>
                </a:solidFill>
                <a:latin typeface="Verdana"/>
              </a:rPr>
              <a:t> </a:t>
            </a:r>
            <a:r>
              <a:rPr b="1" lang="en-US" sz="1700" spc="-1" strike="noStrike">
                <a:solidFill>
                  <a:srgbClr val="008000"/>
                </a:solidFill>
                <a:latin typeface="Verdana"/>
              </a:rPr>
              <a:t>B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1" lang="en-US" sz="1700" spc="-1" strike="noStrike">
                <a:solidFill>
                  <a:srgbClr val="7d99db"/>
                </a:solidFill>
                <a:latin typeface="Verdana"/>
              </a:rPr>
              <a:t>A</a:t>
            </a:r>
            <a:r>
              <a:rPr b="1" lang="en-US" sz="1700" spc="-1" strike="noStrike">
                <a:solidFill>
                  <a:srgbClr val="ffcc00"/>
                </a:solidFill>
                <a:latin typeface="Verdana"/>
              </a:rPr>
              <a:t>S</a:t>
            </a:r>
            <a:r>
              <a:rPr b="1" lang="en-US" sz="1700" spc="-1" strike="noStrike">
                <a:solidFill>
                  <a:srgbClr val="800080"/>
                </a:solidFill>
                <a:latin typeface="Verdana"/>
              </a:rPr>
              <a:t>I</a:t>
            </a:r>
            <a:r>
              <a:rPr b="1" lang="en-US" sz="1700" spc="-1" strike="noStrike">
                <a:solidFill>
                  <a:srgbClr val="1e1ea3"/>
                </a:solidFill>
                <a:latin typeface="Verdana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71120" y="4191120"/>
            <a:ext cx="35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IBRARY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CONG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2690640" y="5851440"/>
            <a:ext cx="2178720" cy="398880"/>
            <a:chOff x="2690640" y="5851440"/>
            <a:chExt cx="2178720" cy="398880"/>
          </a:xfrm>
        </p:grpSpPr>
        <p:sp>
          <p:nvSpPr>
            <p:cNvPr id="122" name="Rectangle 7"/>
            <p:cNvSpPr/>
            <p:nvPr/>
          </p:nvSpPr>
          <p:spPr>
            <a:xfrm>
              <a:off x="2690640" y="5851440"/>
              <a:ext cx="1354320" cy="39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RotisSansSerif"/>
                </a:rPr>
                <a:t>Bibliote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3966120" y="5851440"/>
              <a:ext cx="903240" cy="398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RotisSansSerif"/>
                </a:rPr>
                <a:t>Mó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2560320" y="3733920"/>
            <a:ext cx="6290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</a:rPr>
              <a:t>Benson Latin American Collection / THE UNIVERSITY OF TEX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logo_viva"/>
          <p:cNvPicPr/>
          <p:nvPr/>
        </p:nvPicPr>
        <p:blipFill>
          <a:blip r:embed="rId1"/>
          <a:stretch/>
        </p:blipFill>
        <p:spPr>
          <a:xfrm>
            <a:off x="900000" y="2565360"/>
            <a:ext cx="2873520" cy="90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_minis"/>
          <p:cNvPicPr/>
          <p:nvPr/>
        </p:nvPicPr>
        <p:blipFill>
          <a:blip r:embed="rId2"/>
          <a:stretch/>
        </p:blipFill>
        <p:spPr>
          <a:xfrm>
            <a:off x="5867280" y="2708280"/>
            <a:ext cx="2311560" cy="77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logoFL"/>
          <p:cNvPicPr/>
          <p:nvPr/>
        </p:nvPicPr>
        <p:blipFill>
          <a:blip r:embed="rId3"/>
          <a:stretch/>
        </p:blipFill>
        <p:spPr>
          <a:xfrm>
            <a:off x="6588000" y="1197000"/>
            <a:ext cx="1079640" cy="1312920"/>
          </a:xfrm>
          <a:prstGeom prst="rect">
            <a:avLst/>
          </a:prstGeom>
          <a:ln w="0">
            <a:noFill/>
          </a:ln>
        </p:spPr>
      </p:pic>
      <p:sp>
        <p:nvSpPr>
          <p:cNvPr id="128" name="Line 15"/>
          <p:cNvSpPr/>
          <p:nvPr/>
        </p:nvSpPr>
        <p:spPr>
          <a:xfrm>
            <a:off x="2362320" y="3809880"/>
            <a:ext cx="0" cy="2590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09400" y="457200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RotisSansSerif"/>
              </a:rPr>
              <a:t>MINISTÉ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RotisSansSerif"/>
              </a:rPr>
              <a:t>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03280" y="1197000"/>
            <a:ext cx="2158200" cy="1086120"/>
            <a:chOff x="1403280" y="1197000"/>
            <a:chExt cx="2158200" cy="1086120"/>
          </a:xfrm>
        </p:grpSpPr>
        <p:pic>
          <p:nvPicPr>
            <p:cNvPr id="131" name="" descr="BIREME | OPAS | OMS logo"/>
            <p:cNvPicPr/>
            <p:nvPr/>
          </p:nvPicPr>
          <p:blipFill>
            <a:blip r:embed="rId4"/>
            <a:stretch/>
          </p:blipFill>
          <p:spPr>
            <a:xfrm>
              <a:off x="1403280" y="1197000"/>
              <a:ext cx="192024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82120" y="2006640"/>
              <a:ext cx="207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REME  OPAS  O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31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tos e Parc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nário Intern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52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rmos de Cooperação ass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rganização Mundial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lobal Health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PORTUGUESe/CP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rganização Pan-Americana da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BVS AL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BVS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unidade de Países de Língua Portugu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las de Saúde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blioteca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rcosul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(em fase de elaboração de propost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ixo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odelo BVS AL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órico de atuação: BIR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vestimento do Governo do Brasil e O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ênio de Manutenção da Bireme há 40 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mento da BVS SP (Opas/Bireme, MS, Fiocruz, USP e Abras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e tecnologias, metodologias e ações gestão da informação em saúde, destacando-se o aprimoramento do Modelo B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alecimento da Rede BVS, Lilacs e Sci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utenção de BVS Temáticas e Institu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blioteca Az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blioteca Az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xas de publicações técnico-científicas, para garantir aos profissionais de saúde, estudantes e cidadãos em g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sso às fontes de informação institu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os de atu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ção contin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Biblioteca Azul (OMS) contém aproximadamente 150 publicações sobre Medicina e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blioteca Azul e a parceria com o 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uação da Rede Bibli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ição da produção institucional do Setor Saúde aos países de Língua Portuguesa, por meio do envio sistemático de public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ição 2006/2007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títul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36 public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0920" y="1125360"/>
            <a:ext cx="7993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ização de 3 Encontros da R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, novembro, Brasí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, agosto,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6, dezembro, Brasí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são das Estações B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 Estações BVS Estad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expansões estad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Estações nas Secretarias Muni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expansões munici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Estações BVS Psicologia (SP – B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ação de 05 Espaços de Informação nos Núcleos Estaduais de Saú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hia / Pará / Paraná / Sergipe / Mato Grosso do S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26"/>
          <p:cNvSpPr/>
          <p:nvPr/>
        </p:nvSpPr>
        <p:spPr>
          <a:xfrm>
            <a:off x="0" y="27468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 da Rede Biblio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9280" y="1197000"/>
            <a:ext cx="8761680" cy="5353200"/>
            <a:chOff x="179280" y="1197000"/>
            <a:chExt cx="8761680" cy="5353200"/>
          </a:xfrm>
        </p:grpSpPr>
        <p:grpSp>
          <p:nvGrpSpPr>
            <p:cNvPr id="49" name=""/>
            <p:cNvGrpSpPr/>
            <p:nvPr/>
          </p:nvGrpSpPr>
          <p:grpSpPr>
            <a:xfrm>
              <a:off x="179280" y="3645000"/>
              <a:ext cx="3856320" cy="2843280"/>
              <a:chOff x="179280" y="3645000"/>
              <a:chExt cx="3856320" cy="284328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3789360"/>
                <a:ext cx="1231920" cy="15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547640" y="3645000"/>
                <a:ext cx="248796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b0"/>
                    </a:solidFill>
                    <a:latin typeface="Arial"/>
                  </a:rPr>
                  <a:t>1.ª Dimensão: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Gestão da Informação Institucional: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 Controle Bibliográfico e qualificação editor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0000" y="5445000"/>
                <a:ext cx="1427400" cy="1043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2050920" y="1557360"/>
              <a:ext cx="143064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5076720" y="1484280"/>
              <a:ext cx="19288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141720" y="1197000"/>
              <a:ext cx="248760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b0"/>
                  </a:solidFill>
                  <a:latin typeface="Arial"/>
                </a:rPr>
                <a:t>2.ª Dimensão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ifusão do Conhecimento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distribuição e diversificação de produtos informacion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5435640" y="3141720"/>
              <a:ext cx="3505320" cy="3408480"/>
              <a:chOff x="5435640" y="3141720"/>
              <a:chExt cx="3505320" cy="3408480"/>
            </a:xfrm>
          </p:grpSpPr>
          <p:pic>
            <p:nvPicPr>
              <p:cNvPr id="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35640" y="3645000"/>
                <a:ext cx="1440000" cy="159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96000" y="5229360"/>
                <a:ext cx="1712880" cy="13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6732720" y="3141720"/>
                <a:ext cx="2208240" cy="20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b0"/>
                    </a:solidFill>
                    <a:latin typeface="Arial"/>
                  </a:rPr>
                  <a:t>3.ª Dimensão: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Participação em Projetos de Governo: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 integração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omplementação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inergia, eficác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2"/>
          <p:cNvSpPr/>
          <p:nvPr/>
        </p:nvSpPr>
        <p:spPr>
          <a:xfrm>
            <a:off x="0" y="404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mensões da Rede BiblioS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0" y="27468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 da Rede Biblio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serção da produção estadual na Base ColecionaS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á / Cear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ansã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ação da base de dados Coleciona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rca de 6.300 publicações cadast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ação da Comunidade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0 profissionais cadast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 de Cooperação Técnica com a SES – Ce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das as bibliotecas federais do SUS como centros cooperantes da Rede BVS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pectivas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strar toda a produção estadual na base de dados ColecionaSU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mentar e valorizar a representatividade das instituições do SUS nas bases de dados da Rede BV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entralizar tecnologias e metodologias para o nível estadual do SU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dir e otimizar a capacitação de profiss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pandir a acessibilidade via internet e impres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mover o acesso à informação a grupos sociais específ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partidas da Bibliote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ficação de novas bibliotecas para a Rede Biblio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tação e distribuição de publicações às bibliotecas da reg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rnar-se Centro Cooperante da Rede B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ção de cursos de capaci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stro da produção institucional na base de dados Coleciona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ulgação de eventos na Comunidade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ulgação da Rede BiblioSUS no âmbito federal, estadual e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aboração de projetos de expansão regional da Rede Biblio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Cont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491920"/>
            <a:ext cx="82105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bi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bliotecas.sus@saude.gov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.saude.gov.br/bibli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61 3315-25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Obrigado ! !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ver e democratizar o acesso eqüitativo às informações em saúde pública, por meio da atuação cooperativa entre as instituições, promovendo a participação  e o controle social do SUS, além de incentivar a educação continuada de profissionais para a gestão da in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340000" y="2898720"/>
            <a:ext cx="1440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715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rta de serviços de atendimento ao públ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ção do modelo BV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ição e intercâmbio de publica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dade e democratização do acesso à inform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gestão do conhecimento institu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ção e compartilhamento de tecnologias e metodologia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o e acesso ao conhecimento científico, técnico, normativo e cult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1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ização, Intercâmbio e educação de profissionais e usuári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aço de debate, exposições e promoção da saú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uação complementar em redes colaborativ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s de informação como áreas estratégicas da instituição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sso aos sistemas de informação do SUS e da saúde suplementar e portais científic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erfeiçoamento da terminologia em saú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274680"/>
            <a:ext cx="9144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0" t="14584" r="25782" b="20835"/>
          <a:stretch/>
        </p:blipFill>
        <p:spPr>
          <a:xfrm>
            <a:off x="0" y="0"/>
            <a:ext cx="9144000" cy="5967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1447920" y="6172200"/>
            <a:ext cx="6248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3300"/>
                </a:solidFill>
                <a:latin typeface="RotisSansSerif"/>
              </a:rPr>
              <a:t>WWW.SAUDE.GOV.BR/REDEBIBLIOS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322200" y="1268280"/>
            <a:ext cx="4987080" cy="5312160"/>
            <a:chOff x="322200" y="1268280"/>
            <a:chExt cx="4987080" cy="5312160"/>
          </a:xfrm>
        </p:grpSpPr>
        <p:pic>
          <p:nvPicPr>
            <p:cNvPr id="71" name="Picture 3" descr="brasil"/>
            <p:cNvPicPr/>
            <p:nvPr/>
          </p:nvPicPr>
          <p:blipFill>
            <a:blip r:embed="rId1"/>
            <a:stretch/>
          </p:blipFill>
          <p:spPr>
            <a:xfrm>
              <a:off x="322200" y="1341360"/>
              <a:ext cx="473256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4"/>
            <p:cNvSpPr/>
            <p:nvPr/>
          </p:nvSpPr>
          <p:spPr>
            <a:xfrm>
              <a:off x="370440" y="126828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ab915a"/>
                  </a:solidFill>
                  <a:latin typeface="Lucida Sans Unicode"/>
                </a:rPr>
                <a:t>14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4259880" y="184464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Lucida Sans Unicode"/>
                </a:rPr>
                <a:t>28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4186800" y="479736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99"/>
                  </a:solidFill>
                  <a:latin typeface="Lucida Sans Unicode"/>
                </a:rPr>
                <a:t>44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3035880" y="587700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9966"/>
                  </a:solidFill>
                  <a:latin typeface="Lucida Sans Unicode"/>
                </a:rPr>
                <a:t>17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1235520" y="414972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d4752e"/>
                  </a:solidFill>
                  <a:latin typeface="Lucida Sans Unicode"/>
                </a:rPr>
                <a:t>11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9"/>
          <p:cNvSpPr/>
          <p:nvPr/>
        </p:nvSpPr>
        <p:spPr>
          <a:xfrm>
            <a:off x="5704920" y="3213000"/>
            <a:ext cx="83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66"/>
                </a:solidFill>
                <a:latin typeface="Lucida Sans Unicode"/>
              </a:rPr>
              <a:t>S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R -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C - 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S - 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661520" y="1197000"/>
            <a:ext cx="1244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Lucida Sans Unicode"/>
              </a:rPr>
              <a:t>NORD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 -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I -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E – 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N -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B –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E –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L –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 –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BA - 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677560" y="1197000"/>
            <a:ext cx="935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b915a"/>
                </a:solidFill>
                <a:latin typeface="Lucida Sans Unicode"/>
              </a:rPr>
              <a:t>N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C -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M –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R –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A – 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AP –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O –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O -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695000" y="3716280"/>
            <a:ext cx="1069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Lucida Sans Unicode"/>
              </a:rPr>
              <a:t>SUD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G –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S –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J – 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P – 2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677920" y="4292640"/>
            <a:ext cx="1681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4752e"/>
                </a:solidFill>
                <a:latin typeface="Lucida Sans Unicode"/>
              </a:rPr>
              <a:t>CENTRO-OE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T –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S –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GO – 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F – 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651640" y="5589720"/>
            <a:ext cx="3492360" cy="93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O T A L – 1.160 Bibliot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 – SIED (11/10/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rede_test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451640" y="501336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Lucida Sans Unicode"/>
              </a:rPr>
              <a:t>Inter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apa_brasil2"/>
          <p:cNvPicPr/>
          <p:nvPr/>
        </p:nvPicPr>
        <p:blipFill>
          <a:blip r:embed="rId1"/>
          <a:stretch/>
        </p:blipFill>
        <p:spPr>
          <a:xfrm>
            <a:off x="2514600" y="2114640"/>
            <a:ext cx="36576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413320" y="1219320"/>
            <a:ext cx="2826360" cy="16779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Atenção à Saúde da Crianç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Atenção à Saúde da Gesta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Atenção à Saúde da Mul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Atenção Bás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Deng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Doenças infecciosas e parasitár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Febre amarel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Saúde da população neg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32720" y="1252440"/>
            <a:ext cx="2995560" cy="1479960"/>
          </a:xfrm>
          <a:prstGeom prst="rect">
            <a:avLst/>
          </a:prstGeom>
          <a:noFill/>
          <a:ln w="9360">
            <a:solidFill>
              <a:srgbClr val="ab91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Atenção bás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Atenção à Saúde Indígen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Atenção à Saúde da Gestante</a:t>
            </a: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Doenças infecciosas e parasitár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Deng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Febre amarel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Atenção à Saúde da Crianç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56360" y="3213000"/>
            <a:ext cx="2500200" cy="207396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Doenças do aparelho respiratório</a:t>
            </a: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Causas externas (acidentes, homicídios ou suicídio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Diabe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DST/A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Neoplasia malign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Doenças do aparelho circulatór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Atenção à saúde do Idos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116000" y="4352760"/>
            <a:ext cx="2500200" cy="1083960"/>
          </a:xfrm>
          <a:prstGeom prst="rect">
            <a:avLst/>
          </a:prstGeom>
          <a:noFill/>
          <a:ln w="9360">
            <a:solidFill>
              <a:srgbClr val="d4752e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RotisSansSerif"/>
              </a:rPr>
              <a:t>Causas externas (acidentes, homicídios ou suicídios)</a:t>
            </a: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Doenças do aparelho respiratór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RotisSansSerif"/>
              </a:rPr>
              <a:t>Dengu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02840" y="5445000"/>
            <a:ext cx="3813840" cy="108396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RotisSansSerif"/>
              </a:rPr>
              <a:t>Doenças do aparelho circulatóri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RotisSansSerif"/>
              </a:rPr>
              <a:t>Atenção à saúde do Idos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RotisSansSerif"/>
              </a:rPr>
              <a:t>Neoplasia malíg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RotisSansSerif"/>
              </a:rPr>
              <a:t>Combate a Diabe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RotisSansSerif"/>
              </a:rPr>
              <a:t>DST/A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98640" y="6369120"/>
            <a:ext cx="343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SansSerif"/>
              </a:rPr>
              <a:t>Fonte: Indicadores de saúde – I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ição Racion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bre a Estação B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ativa do MS que busca democratizar o acesso às fontes de informação no campo da Saúde Pública, na qual o usuário pode navegar por mais de 15 milhões de referências disponíveis na B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stação BVS é um local com computadores interligados à Internet que proporciona ao usuário, acesso livre à literatura gerada pelas instituições federais do SUS e pelo Setor Acadê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is contemplados com as Estações B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arias Estaduais de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ª Fase: AC, AM, PA, SE, AL, PB, CE, PI, BA, MG, MT, MS e 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ª Fase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R, RO, AP, MA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, PE, SP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S, TO, GO, PR, RS e 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6:12:10Z</dcterms:created>
  <dc:creator>MS</dc:creator>
  <dc:description/>
  <dc:language>en-US</dc:language>
  <cp:lastModifiedBy>MS</cp:lastModifiedBy>
  <dcterms:modified xsi:type="dcterms:W3CDTF">2007-10-19T16:50:16Z</dcterms:modified>
  <cp:revision>5</cp:revision>
  <dc:subject/>
  <dc:title>Slide 1</dc:title>
</cp:coreProperties>
</file>