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0D8-45B4-489C-9692-8F1D3DB2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B87-7FD6-4E05-B670-B19D9FE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C25-3009-42D8-9E2F-48362427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3C7-2D8A-4300-A96C-F18AB105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D05-3497-4182-9399-EC252037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F06-3BFE-4E61-87CD-A205956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491B-2160-42EA-84E0-31D1BCC6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1A7B-6A9D-4C0D-A6C4-A111E012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5C1F-DA70-4D17-A201-4387D9D7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7751-9666-4D7C-A5A4-25BB0C60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117F-25B2-4B8E-B9B9-AC7F2A4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45B-91AD-4458-AC0D-864A3F7D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5936-23CA-4926-802E-1C9A757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956F-89ED-4852-86C8-A05FF691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3D17-2C09-4120-B098-642797CE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030-F16E-45AF-92F1-F5228405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BF0D-0ACF-4ED0-9693-EEA74F95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C13-66ED-47F9-931A-5D8AD531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18C-B3A5-4C92-8196-4B6C18DE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EB0-7B99-447E-B7C4-6290E99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743-73F5-4AF1-866C-1E6C8BC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383-A96B-4936-84AD-A646D6EC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9E1-B87B-478F-B4DE-6F3F086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F08-B01E-45D1-B5E7-5D260E8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91D1-06B4-4EE2-9E40-0E1D6B946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91C1-1095-45E7-B7A8-A0F8433BE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br>
              <a:rPr sz="1800"/>
            </a:br>
            <a:r>
              <a:rPr b="0" lang="pt-BR" sz="1800" spc="-1" strike="noStrike">
                <a:solidFill>
                  <a:srgbClr val="ffcc66"/>
                </a:solidFill>
                <a:latin typeface="Times New Roman"/>
              </a:rPr>
              <a:t>                   </a:t>
            </a: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II Fórum de Informação em Saúde e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            II Oficina do Patrimônio Cultural de Saúde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Brasília, 22 a 25 de outubro de 2007</a:t>
            </a:r>
            <a:br>
              <a:rPr sz="3200"/>
            </a:br>
            <a:br>
              <a:rPr sz="28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 programa Escudo Azul como 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protetor dos patrimônios culturai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41144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ELIA RIBEIRO ZA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ordenadora do Comitê Brasileiro do Escudo Az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ordenadora de Ensino e Pesquisa em Ciênc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 Tecnologia do IBI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esident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honorária da ABI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nselho Diretor do Council of Information Resources (CLI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Membro do Comitê Permanente da IFLA/L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581040" cy="638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RECONHECIMENTO LEGAL PELOS PAÍSES SIGNATÁRIOS DA CONVENCÃO DE HAI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774720" cy="850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28600"/>
            <a:ext cx="8991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O segundo Protocolo que reconhece o International Council for the Blue Shield (ICBS) entrou em vigor com a ratificação pelo vigésimo  país em 2006. Esse Protocolo dá ao ICBS uma função legal de salvaguarda internacional do mesmo nível que a Cruz Vermelha Internacional, que é para fins humanitário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Esse reconhecimento permite o acesso de equipes de resgate a acervos em perigo, sem necessidade de autorização do país em questão. Todos os esforços atuais visam uma maior coordenação de ações entre os comitês nacionai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eminário sobre o Papel dos Governos  na Preservação Cultural</a:t>
            </a:r>
            <a:r>
              <a:rPr b="0" lang="pt-BR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lguns dos 14 comitês do Escudo Azul se reuniram em Haia de 25 a 26 de setembro de 2006, juntamente com especialistas, para discutir sobre o papel dos governos na preservação cultural e avaliaram o trabalho de resgate ocorrido em diversos países , principalmente, na Ásia com a devastação do tsunam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m seguida, de 27 a 28 de setembro os representantes dos comitês avaliaram a estrutura  do ICB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Declaração de Haia do ICB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 declaração da reunião dos comitês do Escudo Azul realizada em Haia de 27 a 28 de setembro de 2006 estabelece a criação de uma </a:t>
            </a: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Associação dos Comitês Nacionais do Escudo Azul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dividindo as funções administrativas e de informação com as do ICB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International Committee of the Blue Shield (ICB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Permanece com as funções políticas internacionais junto à UNESCO, órgão responsável pela Convenção de Haia; a criação de comitês nacionais; e a oficialização do status legal de órgão de salvaguarda aprovado pelo Protocolo de 1999, passo essencial para a expansão do ICB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8839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É essencial que essa ação internacional seja seguida e apoiada por iniciativas locais . Assim, os Comitês do Escudo Azul têm sido criados em diversos países reunindo diferentes profissionais, governos locais e nacionais, serviços de emergências e forças armada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sses Comitês criam conscientização dos perigos para a herança cultural e para a necessidade de preparativos de emergênci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mitês Nacion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Cuba e Chile responderam a esse apelo e criaram os comitês nacionais do escudo azul em seus paí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O Brasil tomou essa iniciativa somente em 2006 criando o seu comitê a nível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774720" cy="85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SSOCIATION OF THE NATIONAL COMMITTEES OF THE BLUE SHIELD (ANCB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criação da associação permitirá arrecadar recursos e será financiada pelo governo da Holanda. Tem como função servir como centro de referencia ; manter uma rede de informação entre todos ; informar sobre  desastres e solicitações de assistência dos países; promover treinamento junto às forcas de paz;  criar base de dados de especialistas para indicar à UNESCO para assist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HISTÓRICO DA CRIAÇÃO DO COMITÊ BRASILEIRO DO ESCUDO AZUL (CBE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774720" cy="85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1295280"/>
            <a:ext cx="64771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ffcc66"/>
                </a:solidFill>
                <a:latin typeface="Times New Roman"/>
              </a:rPr>
              <a:t>Escudo Azul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774720" cy="85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urante a participação na reunião dos Comitês Nacionais do Escudo Azul , em Haia , foi aceita  a proposta da criação do Comitê Brasileiro pelos membros do  ICBS ali presentes e endossada pelo Presidente do órgão , sediado no ICA em Paris, e nomeada a Professora Celia Ribeiro Zaher como Coordenado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função da Coordenadora é efetivar a  organização do comitê, congregando as organizações congêneres do ICBS, ou seja, arquivos, bibliotecas,  museus, monumentos e áudio visu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Constituição do Comitê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O comitê foi criado em 9 de novembro de 2006 tendo sido constituído pela FEBAB, Associação dos Arquivistas Brasileiros, Arquivo Nacional, Biblioteca Nacional , ICOMOS, ICOM, Conselho Federal de Biblioteconomia, Conselho Nacional de Arquivos, Conselho Federal de Museologia, Escritório Regional da América Latina e o Caribe da IFLA , como membros fundado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-1219320"/>
            <a:ext cx="8839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mover os objetivos do Escudo Azul e a conscientização a nível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centivar a ratificação da Convenção de Ha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er criada pelo ICBS e seguir suas determinações, em conformidade com a legislaçã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riar redes de comunicação entre as organizações particip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mover treinamento e elaboração de planos de desastre nas instituições nacionais de acervo cult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FUN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 Comitê é organismo de pessoa jurídica de direito privado, sem fins lucrativos e sem cunho partid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 Comitê reuniu-se em 9 de fevereiro e 11 de maio aprovando estatuto, que deverá ser divulgado e submetido, oficialmente,  em assembléia geral, convocada dentro dos princípios da legislação vigente para esse tipo de organi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 Comitê se reunirá cada semestre e terá assembléias gerais anuais, para discutir o Plano de Trabal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FUN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s participantes do Comitê são os membros fundadores , que participam na Diretoria Executiva, e outras instituições e indivíduos convidados para integrar o corpo de membros. Esse grupo de membros constituirá o Conselho Deliberativo responsável pela aprovação dos Planos de Trabalho e ações do Comitê, do qual participarão os Comitês Regionais constituído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outra modalidade de ação é a instalação de Grupos de Trabalho, que tratarão de temas específicos, de acordo com cada especi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pt-BR" sz="5400" spc="-1" strike="noStrike">
                <a:solidFill>
                  <a:srgbClr val="ffcc66"/>
                </a:solidFill>
                <a:latin typeface="Times New Roman"/>
              </a:rPr>
              <a:t>PLANO DE TRABALHO PARA 2007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774720" cy="85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PORTAL DO ESCUDO AZUL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s membros aprovaram o texto e a estrutura do portal que foi lançado no endereç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www.escudoazul.arquivonacional.gov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m informações sobre o Comitê Internacional do Escudo Azul e as atividades do Comitê Brasileiro do Escudo Azul, sua estrutura e funções. Esse Portal foi desenhado pelo Arquivo Nacional como contribuição ao programa e redigido pela Coordenadora. Foi planejado o registro on-line dos voluntários , a fim de  constituir uma base de dados central a ser alimentada pelos Comitês Region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Programa do Escudo Azul 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(Blue Shield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Programa Internacional apoiado em organizações não governamentais representando todos os aspectos das áreas ligadas à informação e conservação visando um movimento internacional de todos os países para a salvaguarda e proteção dos bens culturais no mund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Comitês Regionai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O Comitê Brasileiro do Escudo Azul  pode autorizar a criação de novos comitês em outros Estados , sob a sua tutela como órgão central sediado no Rio de Janeiro . O Brasil é o único país que está criando comitês regionais ,visando  uma ação efetiva a nível nacional, tendo em vista o seu vasto território e a autonomia dos órgãos nos diferentes estados , o que permite uma ação emergencial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Grupos de Trabalh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sses grupos serão constituídos  pelos membros fundadores e poderão receber a contribuição de voluntários individuais ou instituiçõ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774720" cy="85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Grupos de Trabalh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s grupos de trabalho  visam possibilitar um trabalho profissional, por especialidade, e agilizar as ações do Comitê, a sab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1 Cadastro de Voluntários, on-line no site para identificação dos indivíduos e cadastramento dos mesm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2 Elaboração de Planos de Emergência, focalizando na prevenção e na hierarquização dos bens cultur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3 Comunicação, com listas de difusão, folhetos, atualização do portal e notícias nacionais e internacion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Grupos de Trabalh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4 Unidade de intervenção: estabelecer listas, por regiões, de estabelecimentos de socorro a nível nacional, que enquadram os voluntários que possam intervir nos sinistros, após as ações humanitá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5 Patrimônio e desastres. Estabelecer uma lista patrimonial de grande importância sobre o plano cultural, que possa beneficiar-se da proteção a título da Convenção de Haia e das responsabilidades do Programa do Escudo Az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Grupos de Trabalh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6 Prevenção de desastres .O Conselho Federal de Museologia e o Conselho Regional da 2ª. Região Rio de Janeiro estudarão planos de prevenção de desastres estabelecidos a nível internacional e proporão um programa nacional a ser lançado com esse fim, em colaboração com demais museus e regi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7 Manual. A redação e uma grande divulgação de um  Manual de Desastres para bibliotecas está sendo planejado. Deve ser estudado, também , para arquivos e mus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LANÇAMENTO DO LOGO ESCUDO AZU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m a finalidade de identificar as instituições culturais visando a sua salvaguarda e proteção contra todo tipo de agressão aos seus acervos e o patrimônio físico de sítios será lançado um LOGO específico para identificar essas instituições cultur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brigatoriamente, esses locais terão um plano de prevenção de desastres naturais e proteção contra vandalismos, bem como um plano de segurança e medidas de salvagua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Definição de política de</a:t>
            </a:r>
            <a:br>
              <a:rPr sz="4800"/>
            </a:b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prevenção de desastr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 necessidade de criar políticas para a prevenção de desastres resultou em recomendações dirigidas à IFLA/PAC (Preservation and Conservation Committee), órgão patrocinado pela Biblioteca Nacional da França e a IFLA e à ABINIA (Associação de Bibliotecas Nacionais de Iberoamérica), órgão intergovernamental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228600"/>
            <a:ext cx="830556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IFLA/PAC fez um levanta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mundial em 2003 sobre a prepara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e planos de prevenção de desastres e, entre as 177 bibliotecas pesquisadas, apenas 39 elaboraram um plano , enquanto outras 28 aguardam um modelo para orientar esse trabalho, a despeito da existência de ampla literatura sobre o t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NATIONAL COUNCIL OF ARCHIVES (ICA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O ICA criou o Comitê de Prevenção de Desastres para dar assistência a arquivos e arquivistas, que tenham necessidade de receber orientação para implementar uma política de gestão de desastres e estratégias para proteger os acervos arquivísticos. O ICA trabalha com outros ONGs da área de informação, como a IFLA, para dar aos associados condições de implantar diretrizes técnicas de salvaguarda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685800"/>
            <a:ext cx="769608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Times New Roman"/>
              </a:rPr>
              <a:t>O objetivo principal é trabalhar para a preservação das coleções e a memória cultural das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5400" spc="-1" strike="noStrike">
                <a:solidFill>
                  <a:srgbClr val="ffffff"/>
                </a:solidFill>
                <a:latin typeface="Times New Roman"/>
              </a:rPr>
              <a:t>nações.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774720" cy="85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INTERNATIONAL COMMITTEE OF THE BLUE SHIELD (ICB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Organização internacional profissional independente sediada  no International Council of Archives, Paris, que trabalha com a UNESC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295280"/>
            <a:ext cx="883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cc66"/>
                </a:solidFill>
                <a:latin typeface="Times New Roman"/>
              </a:rPr>
              <a:t>DIAGNÓSTICO DO ESTADO DAS INSTITUICÕES DE ACERVOS CULTURAIS</a:t>
            </a:r>
            <a:r>
              <a:rPr b="1" lang="pt-BR" sz="60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 IFLA/PAC - Comitê de Preservação e Conservação fez um diagnóstico da situação de deficiências e políticas existentes na América Latina, que regem o controle dos acervos culturais. Essa avaliação mostrou algumas deficiências comuns a quase todas as instituições, de pequeno ou grande por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 seguir, enumeramos alguns dos fatores mais marcan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0"/>
            <a:ext cx="86104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33512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33512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Aspectos gera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33512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Os problemas de controle climático     aparecem como resultado da falta de  política para a conservação das coleções com temperaturas constantes e controladas, inclusive com índices de umidificação do ar. O ar condicionado funciona 30% do período de 24 horas, colocando em perigo as coleçõ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333512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133351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0"/>
            <a:ext cx="85345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Manutenção dos edifíci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Os edifícios mais modernos  correspondem à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necessidades de acervos e às especificações requeridas para um prédio moderno e seguro, mas os mais antigos ou adaptados não apresentam condições ideai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0"/>
            <a:ext cx="89154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istema elétr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Riscos de desastres mecânico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ocasionados por  sistema elétr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efeituos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Pragas e inse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 grande maioria teve mater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estruido por roedores e inse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falta política de fumigação par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preservação contra inse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28600"/>
            <a:ext cx="83059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Armazenag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 preservação e conservação dos acervos não tem prioridade nos orçamentos públic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nforma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lta documentação em espanhol e português de fácil     acesso e conhecimento do que fazer e de como faz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04920"/>
            <a:ext cx="883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Plano de desas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Falta um levantamento de quantas instituições têm planos para prevenção de Desastres. Em bibliotecas apenas 30% possuem plan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Práticas Comuns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Não existem contratos de congelamento após inundação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304920"/>
            <a:ext cx="87631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Riscos a Serem Avaliados</a:t>
            </a:r>
            <a:r>
              <a:rPr b="1" lang="pt-BR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Os edifícios são mal situados e tê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problemas de infiltração de água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resultado de chuva ou inunda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Terremotos, poluição do ar, insetos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falta de condições climáticas 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rmazéns de acer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Laboratórios fotográficos com peri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de combustão de foto por nitratos 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ceta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0" y="-117360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99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534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Baseado nessa avaliação, que se aplica também ao Brasil, torna-se necessária uma estratégia para criar planos básicos de preservação contra desastres . Alguns pontos essenciais são enumerados, a seguir, que permitem vislumbrar o planejamento e elaboração desses planos contra desastres e negligência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PLANO MAESTRO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 enumeração de problemas a serem estudados e que envolvem a elaboração de um Plano de Prevenção de Desastre demonstra que é um trabalho minucioso e de equipe, e que toda a biblioteca e sua direção devem estar envolvid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685800"/>
            <a:ext cx="868680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ICBS tem como missão trabalhar para a proteção da herança cultural através da coordenação de medidas preventivas, que dêem respostas a situações de emergência, por isso equivale à Cruz Vermelha Internacional no campo da herança cultur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PLANO MAESTR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279440"/>
            <a:ext cx="8534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identificar responsabilid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identificar pesso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identificar obje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valiar as coleç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stabelecer prioridades para    salvaguar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efinir quais os riscos e como prevê-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914400"/>
            <a:ext cx="84582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Preven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studar os riscos exteriores e aqueles oriundos dos edifíc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valiar e identificar riscos provenientes de condições climátic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studar condições apropriadas a novos edifícios e/ou adaptações dos edifícios existen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52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Obstáculos a serem vencidos</a:t>
            </a:r>
            <a:r>
              <a:rPr b="1" lang="pt-BR" sz="3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8088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047600" indent="95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ssegurar meios de prevenir inundações e infiltraç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Instalar sistemas de extinção de incênd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Adquirir material necessário à proteção e salvaguar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stabelecer treina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xercer controle climá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Criar condições para armazena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9240" y="50760"/>
            <a:ext cx="54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9900"/>
                </a:solidFill>
                <a:latin typeface="Times New Roman"/>
              </a:rPr>
              <a:t>           </a:t>
            </a: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Proteção</a:t>
            </a:r>
            <a:r>
              <a:rPr b="1" lang="pt-BR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pt-BR" sz="4000" spc="-1" strike="noStrike" u="sng">
                <a:solidFill>
                  <a:srgbClr val="000066"/>
                </a:solidFill>
                <a:uFillTx/>
                <a:latin typeface="Times New Roman"/>
              </a:rPr>
              <a:t>de A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0"/>
            <a:ext cx="85345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Manual sobre Desast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Preparar as instruções em caso de    peri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stabelecer contatos em emergênc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Linhas de ação para salvaguar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Primeiros passos para restauração de mater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Plano de Intervenção / Salva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Problemas específ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Identificar ações após o desas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76212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Os estudos feitos a nível internacional citam o fogo como o desastre que pode ocorrer com mais freqüência, enquanto que as inundações são a segunda mais provável causa de desast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0"/>
            <a:ext cx="8381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alvando Documen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Danificação por água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sclarecer quais são os procedimentos e identificar os primeiros socorro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Danificação por fogo</a:t>
            </a:r>
            <a:r>
              <a:rPr b="1" lang="pt-BR" sz="40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eve estar explícito o procedimento para extinguir o foco do fo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Maneiras de salvar o material e quais são as coleções principais a serem priorizad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Manual de Prevenção de Desastres e Controle de Arquiv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152640" y="1218960"/>
            <a:ext cx="9296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manual do ICA tem a abrangência segui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Arquiv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Àqueles definidos como documentos criados ou recebidos e acumulados por uma pessoa ou organização no decurso da condução de negócios, e preservado para o seu uso contínu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prédio ou parte de prédio no qual arquivos s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eservados e disponíveis para consulta, também referidos como um repositório arquivís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ência ou programa responsável por selecionar, adquirir, preservar e tornar disponível arquivos, ou agência de arquivos,ou instituição de arquivos ou programa de arqu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Desa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Um desastre seja natural ou provocado pelo homem,ou causado por uma combinação desses elementos, é um evento cuja ocorrência é inesperada e cujas conseqüências são seriamente destrutivas. (H.Boh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 Manual não trata de desastres lentos. Ou seja, ataque de insetos, manifestações de mofo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Emerg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emergência é definida como uma ocorrência inesperada requerendo ação imedi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http://www.ica.org/en/node/30653</a:t>
            </a:r>
            <a:br>
              <a:rPr sz="4400"/>
            </a:br>
            <a:br>
              <a:rPr sz="40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sse site permite fazer o download do manual citado que está disponível em inglês e em francês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tradução para o português desse manual foi feito pela Biblioteca Nacional de Portugal e está disponível em papel naquela instituição na série Publicações Técnicas sob o título </a:t>
            </a:r>
            <a:r>
              <a:rPr b="1" i="1" lang="pt-BR" sz="2800" spc="-1" strike="noStrike">
                <a:solidFill>
                  <a:srgbClr val="ffcc66"/>
                </a:solidFill>
                <a:latin typeface="Times New Roman"/>
              </a:rPr>
              <a:t>Directrizes para a prevenção e controlo de desastres em arquivo</a:t>
            </a: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280" y="19080"/>
            <a:ext cx="8839440" cy="68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90720" y="19242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0"/>
            <a:ext cx="86104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É a organização mencionada 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Segundo Protocolo de 1999 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Convenção de Haia para a Prote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a Propriedade Cultural no Ev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de Conflito Armado (1954) co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sendo o órgão assessor das autoridades internacionais e nacionais chamada a demarcar os locais culturais, que devem ser protegidos contra ataqu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41400"/>
            <a:ext cx="876312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9080"/>
            <a:ext cx="876312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Um outro manual de interesse pode ser baixado do endereço abaix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Times New Roman"/>
              </a:rPr>
              <a:t>LUTTE CONTRE LES SINISTRES DANS LES BIBLIOTHEQUES ET LES ARCHIVES PREVISION ET SAUVE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Times New Roman"/>
              </a:rPr>
              <a:t>http://www.unesco.org/webworld/ramp/html/r8806f/r8806f01.ht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PREVENÇÃO DE DESASTRES EM MUSEU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 ICOM – Conselho Internacional de Museus objetiva auxiliar na gestão de risco (risk management) disseminando informações sobre a vulnerabilidade da herança cultural natural e dando apoio ao professional de museus, em situações de conflito armado ou desastre natural. Para esse fim, iniciou projetos ligados aos comitês de conservação,segurança e treinamento visando promover a compreensão e a conscientização da natureza dos desastres e limitar os danos procurando salvar a herança cultural, através de medidas de conservação preventiva e intervenção urgente e rápida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esastres naturais ou provocados pelo homem são uma ameaça para a herança cultural, sejam terremotos, inundações, tufões, deslizamentos de terra, vulcões, tempestades com ventos fortes, fogo, guerra e outros desastres, que provocam distúrbios no meio ambiente e, muitas vezes, destroem completamente áreas inteiras de herança cultural, seja móvel ou imó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Programa de Emergência de Museus (MEP) é  uma resposta às necessidades expressadas pelos profissionais de museus no mundo inteiro, no sentido de desenvolver expertise nas áreas de preparo para emergência e prontas respostas, dentro do contexto das prioridades do Escudo Azul,que visa facilitar apoio internacional contra às ameaças e as emergências, através de cooperação a nível glob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http://icom.museum/risk_management.htm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0"/>
            <a:ext cx="89154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O ICBS é composto de cinco (5) ONG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CA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-Conselho Internacional de Arquiv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COM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- Conselho Internacional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Muse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COMOS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– Conselho Internacional de Monumentos e Patrimôn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FLA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– Federação Internacional de Associações de Bibliotecas e Instituiç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CCAAA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- Conselho Coordenador da Associação de Arquivos Áudio Visua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elho Internacional de Monumentos e Patrimônio - ICOM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533520"/>
            <a:ext cx="8991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O planejamento contra desastres de toda a natureza é um trabalho de voluntariado e torna-se essencial a participação nos comitês de Escudo Azul, para assegurar os princípios de proteção de acervos de memória nacional existentes em instituições culturais do paí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304920"/>
            <a:ext cx="8458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Precisamos de uma consciência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 conjunta e de ações das instituições responsáveis pela herança cultural, que sirvam de exemplo no estabelecimento de políticas nacionais de salvaguarda, como ocorre em outros paíse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AJUDE A SALVAR A NOSSA CULTUR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scudoazul@gmail.c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ww.escudoazul.arquivonacional.gov.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774720" cy="850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8610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Consegue reunir o conhecimento e a experiência proporcionada por essas organizações de especialistas, que tratam da herança cultural da humanidade, ou seja, um inigualável corpo de conhecimento  à disposição para orientar e dar assistência em caso de desastr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PRINCÍPIOS BÁSICOS DO IC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Trabalhar sempre em ações conjunt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Trabalhar com independênc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Ter total neutral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Ter profissionalismo em seu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Respeitar as identidades cultura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Exercer ações sem fins lucrativo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17:43:35Z</dcterms:created>
  <dc:creator>Celia</dc:creator>
  <dc:description/>
  <dc:language>en-US</dc:language>
  <cp:lastModifiedBy>Célia Zaher</cp:lastModifiedBy>
  <dcterms:modified xsi:type="dcterms:W3CDTF">2007-10-19T17:13:14Z</dcterms:modified>
  <cp:revision>318</cp:revision>
  <dc:subject/>
  <dc:title> PREVENCAO DE DESASTRES EM INSTITUICOES CULTURAIS</dc:title>
</cp:coreProperties>
</file>